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7DE9-302A-4DE2-9C97-B0833EE8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B870-09BB-4141-B652-7DAC200B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51CC-D4D3-4AC3-9DA5-1403D941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B213-C42F-4BAE-86A8-F94D2EE9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992B-C07D-4564-BD5D-C93F2583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4624-B7C3-4289-9703-0C1838CE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F8EE-C1A4-49F2-8617-FA66665B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15BA-E667-463E-AA02-CB943E15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837A-AA26-46E7-800C-94BDC108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8186-2E9E-47D1-A7C7-BA463D88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01E9-9CE9-4095-9CE6-88B2D046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3F20-5CC8-4436-91F1-8296BD7A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C5F1-6235-491B-8DBB-2F0E535DC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723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47680" y="719280"/>
            <a:ext cx="1587600" cy="1596960"/>
          </a:xfrm>
          <a:custGeom>
            <a:avLst/>
            <a:gdLst/>
            <a:ahLst/>
            <a:rect l="l" t="t" r="r" b="b"/>
            <a:pathLst>
              <a:path w="1000" h="1006">
                <a:moveTo>
                  <a:pt x="0" y="994"/>
                </a:moveTo>
                <a:lnTo>
                  <a:pt x="0" y="505"/>
                </a:lnTo>
                <a:lnTo>
                  <a:pt x="251" y="504"/>
                </a:lnTo>
                <a:lnTo>
                  <a:pt x="249" y="754"/>
                </a:lnTo>
                <a:lnTo>
                  <a:pt x="113" y="753"/>
                </a:lnTo>
                <a:lnTo>
                  <a:pt x="113" y="3"/>
                </a:lnTo>
                <a:lnTo>
                  <a:pt x="1000" y="0"/>
                </a:lnTo>
                <a:lnTo>
                  <a:pt x="999" y="1005"/>
                </a:lnTo>
                <a:lnTo>
                  <a:pt x="3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120" y="15033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680" y="1770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0680" y="1438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112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0000" y="1927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9000" y="11793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55960" y="743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482920" y="69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467080" y="689040"/>
            <a:ext cx="1600200" cy="1596960"/>
          </a:xfrm>
          <a:custGeom>
            <a:avLst/>
            <a:gdLst/>
            <a:ahLst/>
            <a:rect l="l" t="t" r="r" b="b"/>
            <a:pathLst>
              <a:path w="1008" h="1006">
                <a:moveTo>
                  <a:pt x="21" y="985"/>
                </a:moveTo>
                <a:lnTo>
                  <a:pt x="21" y="502"/>
                </a:lnTo>
                <a:lnTo>
                  <a:pt x="259" y="504"/>
                </a:lnTo>
                <a:lnTo>
                  <a:pt x="257" y="754"/>
                </a:lnTo>
                <a:lnTo>
                  <a:pt x="0" y="757"/>
                </a:lnTo>
                <a:lnTo>
                  <a:pt x="0" y="1"/>
                </a:lnTo>
                <a:lnTo>
                  <a:pt x="1008" y="0"/>
                </a:lnTo>
                <a:lnTo>
                  <a:pt x="1007" y="1005"/>
                </a:lnTo>
                <a:lnTo>
                  <a:pt x="11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62040" y="14731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6680" y="17398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22680" y="140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3120" y="1660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2000" y="1897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6400" y="1149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87960" y="712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65280" y="18669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948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6927840" y="608040"/>
            <a:ext cx="1587600" cy="1604880"/>
          </a:xfrm>
          <a:custGeom>
            <a:avLst/>
            <a:gdLst/>
            <a:ahLst/>
            <a:rect l="l" t="t" r="r" b="b"/>
            <a:pathLst>
              <a:path w="1000" h="1011">
                <a:moveTo>
                  <a:pt x="258" y="1002"/>
                </a:moveTo>
                <a:lnTo>
                  <a:pt x="262" y="508"/>
                </a:lnTo>
                <a:lnTo>
                  <a:pt x="506" y="509"/>
                </a:lnTo>
                <a:lnTo>
                  <a:pt x="504" y="759"/>
                </a:lnTo>
                <a:lnTo>
                  <a:pt x="238" y="762"/>
                </a:lnTo>
                <a:lnTo>
                  <a:pt x="240" y="630"/>
                </a:lnTo>
                <a:lnTo>
                  <a:pt x="0" y="630"/>
                </a:lnTo>
                <a:lnTo>
                  <a:pt x="4" y="6"/>
                </a:lnTo>
                <a:lnTo>
                  <a:pt x="1000" y="0"/>
                </a:lnTo>
                <a:lnTo>
                  <a:pt x="1000" y="1000"/>
                </a:lnTo>
                <a:lnTo>
                  <a:pt x="258" y="101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99360" y="15922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72440" y="1666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88440" y="1335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8880" y="1587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7760" y="1824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4716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61320" y="844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31040" y="1793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43840" y="1533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3441600"/>
          <a:ext cx="1584000" cy="1984320"/>
        </p:xfrm>
        <a:graphic>
          <a:graphicData uri="http://schemas.openxmlformats.org/drawingml/2006/table">
            <a:tbl>
              <a:tblPr/>
              <a:tblGrid>
                <a:gridCol w="39492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Outer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249560" y="4551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6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6760" y="496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50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55760" y="3451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5400" y="46148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1760" y="408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62728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Left,right lo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flipV="1">
            <a:off x="3021120" y="422064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38400" y="4219560"/>
            <a:ext cx="165240" cy="3240"/>
          </a:xfrm>
          <a:custGeom>
            <a:avLst/>
            <a:gdLst/>
            <a:ahLst/>
            <a:rect l="l" t="t" r="r" b="b"/>
            <a:pathLst>
              <a:path w="104" h="2">
                <a:moveTo>
                  <a:pt x="0" y="0"/>
                </a:moveTo>
                <a:lnTo>
                  <a:pt x="104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4221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28880" y="4433760"/>
            <a:ext cx="374760" cy="3240"/>
          </a:xfrm>
          <a:custGeom>
            <a:avLst/>
            <a:gdLst/>
            <a:ahLst/>
            <a:rect l="l" t="t" r="r" b="b"/>
            <a:pathLst>
              <a:path w="236" h="2">
                <a:moveTo>
                  <a:pt x="236" y="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624120"/>
            <a:ext cx="1440" cy="809640"/>
          </a:xfrm>
          <a:custGeom>
            <a:avLst/>
            <a:gdLst/>
            <a:ahLst/>
            <a:rect l="l" t="t" r="r" b="b"/>
            <a:pathLst>
              <a:path w="1" h="510">
                <a:moveTo>
                  <a:pt x="0" y="51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28880" y="3629160"/>
            <a:ext cx="590760" cy="2880"/>
          </a:xfrm>
          <a:custGeom>
            <a:avLst/>
            <a:gdLst/>
            <a:ahLst/>
            <a:rect l="l" t="t" r="r" b="b"/>
            <a:pathLst>
              <a:path w="372" h="2">
                <a:moveTo>
                  <a:pt x="0" y="0"/>
                </a:moveTo>
                <a:lnTo>
                  <a:pt x="372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840" bIns="-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419640" y="3429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203640" y="3429000"/>
            <a:ext cx="216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8320" y="3429000"/>
            <a:ext cx="1440" cy="390600"/>
          </a:xfrm>
          <a:custGeom>
            <a:avLst/>
            <a:gdLst/>
            <a:ahLst/>
            <a:rect l="l" t="t" r="r" b="b"/>
            <a:pathLst>
              <a:path w="1" h="246">
                <a:moveTo>
                  <a:pt x="0" y="0"/>
                </a:moveTo>
                <a:lnTo>
                  <a:pt x="1" y="24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827520"/>
            <a:ext cx="1008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0200" y="3814920"/>
            <a:ext cx="2880" cy="406080"/>
          </a:xfrm>
          <a:custGeom>
            <a:avLst/>
            <a:gdLst/>
            <a:ahLst/>
            <a:rect l="l" t="t" r="r" b="b"/>
            <a:pathLst>
              <a:path w="2" h="256">
                <a:moveTo>
                  <a:pt x="0" y="0"/>
                </a:moveTo>
                <a:lnTo>
                  <a:pt x="2" y="25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4214880"/>
            <a:ext cx="401760" cy="6120"/>
          </a:xfrm>
          <a:custGeom>
            <a:avLst/>
            <a:gdLst/>
            <a:ahLst/>
            <a:rect l="l" t="t" r="r" b="b"/>
            <a:pathLst>
              <a:path w="253" h="4">
                <a:moveTo>
                  <a:pt x="253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808440" y="4005000"/>
            <a:ext cx="0" cy="215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14920" y="4005360"/>
            <a:ext cx="223560" cy="4680"/>
          </a:xfrm>
          <a:custGeom>
            <a:avLst/>
            <a:gdLst/>
            <a:ahLst/>
            <a:rect l="l" t="t" r="r" b="b"/>
            <a:pathLst>
              <a:path w="141" h="3">
                <a:moveTo>
                  <a:pt x="0" y="3"/>
                </a:moveTo>
                <a:lnTo>
                  <a:pt x="14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4005360"/>
            <a:ext cx="0" cy="1008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24360" y="5014800"/>
            <a:ext cx="1009440" cy="5040"/>
          </a:xfrm>
          <a:custGeom>
            <a:avLst/>
            <a:gdLst/>
            <a:ahLst/>
            <a:rect l="l" t="t" r="r" b="b"/>
            <a:pathLst>
              <a:path w="636" h="3">
                <a:moveTo>
                  <a:pt x="636" y="3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716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 flipV="1">
            <a:off x="4695840" y="140760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95840" y="1407960"/>
            <a:ext cx="35892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2748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766760" y="1768320"/>
            <a:ext cx="360360" cy="71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76712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695840" y="615960"/>
            <a:ext cx="0" cy="72072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95840" y="615960"/>
            <a:ext cx="165564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278040" y="615960"/>
            <a:ext cx="7308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767120" y="2200320"/>
            <a:ext cx="151128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87800" y="3608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00240" y="44211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21200" y="4200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799160" y="831600"/>
            <a:ext cx="0" cy="4316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91160" y="1792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7920" y="13874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63440" y="4457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4213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98880" y="36766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15960" y="3645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2240" y="4356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32200" y="4240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716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Two wi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 flipH="1" flipV="1">
            <a:off x="4716000" y="3789360"/>
            <a:ext cx="792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716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9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076720" y="4581360"/>
            <a:ext cx="1224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716000" y="4220640"/>
            <a:ext cx="360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16360" y="3429000"/>
            <a:ext cx="43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3429000"/>
            <a:ext cx="115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508720" y="422100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24360" y="3968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71960" y="3691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62560" y="35733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3520" y="4078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75440" y="4303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9680" y="47642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89560" y="48657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67560" y="47242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9592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83560" y="4437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93000" y="4365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2144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948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Twin int-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 flipH="1" flipV="1">
            <a:off x="6948000" y="3789360"/>
            <a:ext cx="360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948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01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40720" y="4581360"/>
            <a:ext cx="792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948000" y="422064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948360" y="3429000"/>
            <a:ext cx="79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40720" y="3429000"/>
            <a:ext cx="79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8100720" y="4221000"/>
            <a:ext cx="43164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6948360" y="4581360"/>
            <a:ext cx="115272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948360" y="3428640"/>
            <a:ext cx="36036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08720" y="3429000"/>
            <a:ext cx="122400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308720" y="3789360"/>
            <a:ext cx="122400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93160" y="4809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83720" y="3670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86760" y="3557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61360" y="469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99280" y="36846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02440" y="4025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23240" y="4098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43760" y="41846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15320" y="4299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18280" y="44006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91360" y="46562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9640" y="35733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12200" y="3506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3529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99400" y="3500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82080" y="36702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99440" y="3975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29760" y="4341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37520" y="4724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73920" y="49100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05640" y="47782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24720" y="4761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07400" y="35956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26440" y="3981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52080" y="4633920"/>
            <a:ext cx="1584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080" y="4653000"/>
            <a:ext cx="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3080" y="5013360"/>
            <a:ext cx="360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3440" y="3428640"/>
            <a:ext cx="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3440" y="3419640"/>
            <a:ext cx="1191960" cy="9360"/>
          </a:xfrm>
          <a:custGeom>
            <a:avLst/>
            <a:gdLst/>
            <a:ahLst/>
            <a:rect l="l" t="t" r="r" b="b"/>
            <a:pathLst>
              <a:path w="751" h="6">
                <a:moveTo>
                  <a:pt x="0" y="6"/>
                </a:moveTo>
                <a:lnTo>
                  <a:pt x="75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27080" y="3429000"/>
            <a:ext cx="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720" y="46180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43000" y="5428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Twins rem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241200" y="933480"/>
            <a:ext cx="571680" cy="1187280"/>
          </a:xfrm>
          <a:custGeom>
            <a:avLst/>
            <a:gdLst/>
            <a:ahLst/>
            <a:rect l="l" t="t" r="r" b="b"/>
            <a:pathLst>
              <a:path w="360" h="748">
                <a:moveTo>
                  <a:pt x="360" y="7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1200" y="542880"/>
            <a:ext cx="1181160" cy="397080"/>
          </a:xfrm>
          <a:custGeom>
            <a:avLst/>
            <a:gdLst/>
            <a:ahLst/>
            <a:rect l="l" t="t" r="r" b="b"/>
            <a:pathLst>
              <a:path w="744" h="250">
                <a:moveTo>
                  <a:pt x="0" y="250"/>
                </a:moveTo>
                <a:lnTo>
                  <a:pt x="744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28840" y="539640"/>
            <a:ext cx="399960" cy="1187640"/>
          </a:xfrm>
          <a:custGeom>
            <a:avLst/>
            <a:gdLst/>
            <a:ahLst/>
            <a:rect l="l" t="t" r="r" b="b"/>
            <a:pathLst>
              <a:path w="252" h="748">
                <a:moveTo>
                  <a:pt x="0" y="0"/>
                </a:moveTo>
                <a:lnTo>
                  <a:pt x="252" y="7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1733400"/>
            <a:ext cx="641520" cy="393840"/>
          </a:xfrm>
          <a:custGeom>
            <a:avLst/>
            <a:gdLst/>
            <a:ahLst/>
            <a:rect l="l" t="t" r="r" b="b"/>
            <a:pathLst>
              <a:path w="404" h="248">
                <a:moveTo>
                  <a:pt x="404" y="0"/>
                </a:moveTo>
                <a:lnTo>
                  <a:pt x="0" y="2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4440" y="1336680"/>
            <a:ext cx="946080" cy="787320"/>
          </a:xfrm>
          <a:custGeom>
            <a:avLst/>
            <a:gdLst/>
            <a:ahLst/>
            <a:rect l="l" t="t" r="r" b="b"/>
            <a:pathLst>
              <a:path w="596" h="496">
                <a:moveTo>
                  <a:pt x="596" y="49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000" y="54252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35000" y="54288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32080" y="1335240"/>
            <a:ext cx="395280" cy="792000"/>
          </a:xfrm>
          <a:custGeom>
            <a:avLst/>
            <a:gdLst/>
            <a:ahLst/>
            <a:rect l="l" t="t" r="r" b="b"/>
            <a:pathLst>
              <a:path w="249" h="499">
                <a:moveTo>
                  <a:pt x="249" y="0"/>
                </a:moveTo>
                <a:lnTo>
                  <a:pt x="0" y="499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7680" y="1736640"/>
            <a:ext cx="1187280" cy="387360"/>
          </a:xfrm>
          <a:custGeom>
            <a:avLst/>
            <a:gdLst/>
            <a:ahLst/>
            <a:rect l="l" t="t" r="r" b="b"/>
            <a:pathLst>
              <a:path w="748" h="244">
                <a:moveTo>
                  <a:pt x="748" y="2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4440" y="539640"/>
            <a:ext cx="393840" cy="1197000"/>
          </a:xfrm>
          <a:custGeom>
            <a:avLst/>
            <a:gdLst/>
            <a:ahLst/>
            <a:rect l="l" t="t" r="r" b="b"/>
            <a:pathLst>
              <a:path w="248" h="754">
                <a:moveTo>
                  <a:pt x="0" y="754"/>
                </a:moveTo>
                <a:lnTo>
                  <a:pt x="24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400" y="552600"/>
            <a:ext cx="1177920" cy="380880"/>
          </a:xfrm>
          <a:custGeom>
            <a:avLst/>
            <a:gdLst/>
            <a:ahLst/>
            <a:rect l="l" t="t" r="r" b="b"/>
            <a:pathLst>
              <a:path w="742" h="240">
                <a:moveTo>
                  <a:pt x="0" y="0"/>
                </a:moveTo>
                <a:lnTo>
                  <a:pt x="742" y="24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9000" y="936720"/>
            <a:ext cx="1003320" cy="1190520"/>
          </a:xfrm>
          <a:custGeom>
            <a:avLst/>
            <a:gdLst/>
            <a:ahLst/>
            <a:rect l="l" t="t" r="r" b="b"/>
            <a:pathLst>
              <a:path w="632" h="750">
                <a:moveTo>
                  <a:pt x="632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4880" y="1967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8000" y="784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81400" y="6714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56000" y="1806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7040" y="798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5800" y="11304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2440" y="1187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6200" y="12222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3360" y="14065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2600" y="158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31760" y="19940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53920" y="6872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06480" y="6206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642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93680" y="61452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11280" y="820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03440" y="10987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24040" y="14558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17760" y="1895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44520" y="20494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7240" y="18730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19080" y="19620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01680" y="7095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8120" y="11494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36560" y="11239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7280" y="1758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9800" y="861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31160" y="784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7080" y="84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6680" y="1620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1771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3920" y="62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45240" y="149076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54000" y="19144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1640" y="2022480"/>
            <a:ext cx="104760" cy="720720"/>
          </a:xfrm>
          <a:custGeom>
            <a:avLst/>
            <a:gdLst/>
            <a:ahLst/>
            <a:rect l="l" t="t" r="r" b="b"/>
            <a:pathLst>
              <a:path w="66" h="454">
                <a:moveTo>
                  <a:pt x="66" y="454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2160" y="278748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, maar niet 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eerste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5560" y="1413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8160" y="11714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3920" y="763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90640" y="566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23920" y="57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41520" y="77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83000" y="111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70120" y="1455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9544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32640" y="19954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3800" y="200664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409840" y="5526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Double vis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2608200" y="946080"/>
            <a:ext cx="1220760" cy="1800"/>
          </a:xfrm>
          <a:custGeom>
            <a:avLst/>
            <a:gdLst/>
            <a:ahLst/>
            <a:rect l="l" t="t" r="r" b="b"/>
            <a:pathLst>
              <a:path w="769" h="1">
                <a:moveTo>
                  <a:pt x="0" y="0"/>
                </a:moveTo>
                <a:lnTo>
                  <a:pt x="769" y="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03640" y="942840"/>
            <a:ext cx="619200" cy="1190880"/>
          </a:xfrm>
          <a:custGeom>
            <a:avLst/>
            <a:gdLst/>
            <a:ahLst/>
            <a:rect l="l" t="t" r="r" b="b"/>
            <a:pathLst>
              <a:path w="390" h="750">
                <a:moveTo>
                  <a:pt x="390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09840" y="947880"/>
            <a:ext cx="793800" cy="1185840"/>
          </a:xfrm>
          <a:custGeom>
            <a:avLst/>
            <a:gdLst/>
            <a:ahLst/>
            <a:rect l="l" t="t" r="r" b="b"/>
            <a:pathLst>
              <a:path w="500" h="747">
                <a:moveTo>
                  <a:pt x="500" y="74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13080" y="549360"/>
            <a:ext cx="214200" cy="406440"/>
          </a:xfrm>
          <a:custGeom>
            <a:avLst/>
            <a:gdLst/>
            <a:ahLst/>
            <a:rect l="l" t="t" r="r" b="b"/>
            <a:pathLst>
              <a:path w="135" h="256">
                <a:moveTo>
                  <a:pt x="0" y="256"/>
                </a:moveTo>
                <a:lnTo>
                  <a:pt x="135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27280" y="549360"/>
            <a:ext cx="173160" cy="784080"/>
          </a:xfrm>
          <a:custGeom>
            <a:avLst/>
            <a:gdLst/>
            <a:ahLst/>
            <a:rect l="l" t="t" r="r" b="b"/>
            <a:pathLst>
              <a:path w="109" h="494">
                <a:moveTo>
                  <a:pt x="0" y="0"/>
                </a:moveTo>
                <a:lnTo>
                  <a:pt x="109" y="494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09800" y="549360"/>
            <a:ext cx="171360" cy="777960"/>
          </a:xfrm>
          <a:custGeom>
            <a:avLst/>
            <a:gdLst/>
            <a:ahLst/>
            <a:rect l="l" t="t" r="r" b="b"/>
            <a:pathLst>
              <a:path w="108" h="490">
                <a:moveTo>
                  <a:pt x="0" y="490"/>
                </a:moveTo>
                <a:lnTo>
                  <a:pt x="10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87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203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19640" y="549360"/>
            <a:ext cx="380880" cy="1584360"/>
          </a:xfrm>
          <a:custGeom>
            <a:avLst/>
            <a:gdLst/>
            <a:ahLst/>
            <a:rect l="l" t="t" r="r" b="b"/>
            <a:pathLst>
              <a:path w="240" h="998">
                <a:moveTo>
                  <a:pt x="0" y="0"/>
                </a:moveTo>
                <a:lnTo>
                  <a:pt x="240" y="99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13080" y="1343160"/>
            <a:ext cx="1390680" cy="790560"/>
          </a:xfrm>
          <a:custGeom>
            <a:avLst/>
            <a:gdLst/>
            <a:ahLst/>
            <a:rect l="l" t="t" r="r" b="b"/>
            <a:pathLst>
              <a:path w="876" h="498">
                <a:moveTo>
                  <a:pt x="876" y="4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11280" y="946080"/>
            <a:ext cx="195480" cy="397080"/>
          </a:xfrm>
          <a:custGeom>
            <a:avLst/>
            <a:gdLst/>
            <a:ahLst/>
            <a:rect l="l" t="t" r="r" b="b"/>
            <a:pathLst>
              <a:path w="123" h="250">
                <a:moveTo>
                  <a:pt x="0" y="250"/>
                </a:moveTo>
                <a:lnTo>
                  <a:pt x="123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0200" y="1089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03600" y="131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32160" y="1841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8840" y="93492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9400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75120" y="923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9712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78200" y="9302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06560" y="1547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24240" y="1189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640" y="868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38600" y="1136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7828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3044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97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7820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75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163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0388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720" y="1459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33800" y="1065240"/>
            <a:ext cx="224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1: star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68520" y="879480"/>
            <a:ext cx="2142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2: tur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4-17T18:20:10Z</dcterms:modified>
  <cp:revision>58</cp:revision>
  <dc:subject/>
  <dc:title>Slide 1</dc:title>
</cp:coreProperties>
</file>