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4F34F-CAED-448C-9A45-2849EEE3D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2840" y="101520"/>
            <a:ext cx="3560400" cy="3327840"/>
            <a:chOff x="42840" y="101520"/>
            <a:chExt cx="3560400" cy="3327840"/>
          </a:xfrm>
        </p:grpSpPr>
        <p:sp>
          <p:nvSpPr>
            <p:cNvPr id="1" name=""/>
            <p:cNvSpPr/>
            <p:nvPr/>
          </p:nvSpPr>
          <p:spPr>
            <a:xfrm>
              <a:off x="2426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276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28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2330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634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8936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237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5538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8843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32920" y="757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32920" y="1067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32920" y="1378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32920" y="1692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32920" y="2001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32920" y="2311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32920" y="2627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32920" y="2932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32920" y="3249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27440" y="3071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8673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27440" y="161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131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21444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3988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32920" y="149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32920" y="444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431880" y="3246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2840" y="101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" name=""/>
          <p:cNvGrpSpPr/>
          <p:nvPr/>
        </p:nvGrpSpPr>
        <p:grpSpPr>
          <a:xfrm>
            <a:off x="4757760" y="98280"/>
            <a:ext cx="3560400" cy="3327840"/>
            <a:chOff x="4757760" y="98280"/>
            <a:chExt cx="3560400" cy="3327840"/>
          </a:xfrm>
        </p:grpSpPr>
        <p:sp>
          <p:nvSpPr>
            <p:cNvPr id="30" name=""/>
            <p:cNvSpPr/>
            <p:nvPr/>
          </p:nvSpPr>
          <p:spPr>
            <a:xfrm>
              <a:off x="49575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528768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6178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59479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2784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66085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69386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72687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75992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4947840" y="75420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4947840" y="106380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4947840" y="137484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947840" y="168912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947840" y="199872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947840" y="230832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947840" y="262404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947840" y="292896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947840" y="324648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842360" y="306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5822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2360" y="160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9280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92936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5480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947840" y="14616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47840" y="44136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146800" y="32432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757760" y="98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2840" y="3557520"/>
            <a:ext cx="3560400" cy="3327840"/>
            <a:chOff x="42840" y="3557520"/>
            <a:chExt cx="3560400" cy="3327840"/>
          </a:xfrm>
        </p:grpSpPr>
        <p:sp>
          <p:nvSpPr>
            <p:cNvPr id="59" name=""/>
            <p:cNvSpPr/>
            <p:nvPr/>
          </p:nvSpPr>
          <p:spPr>
            <a:xfrm>
              <a:off x="242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72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028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330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5634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8936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2237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5538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843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3292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3292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292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292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3292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3292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292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292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292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2744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673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744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131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1444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3988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292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3292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43188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284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757760" y="3557520"/>
            <a:ext cx="3560400" cy="3327840"/>
            <a:chOff x="4757760" y="3557520"/>
            <a:chExt cx="3560400" cy="3327840"/>
          </a:xfrm>
        </p:grpSpPr>
        <p:sp>
          <p:nvSpPr>
            <p:cNvPr id="88" name=""/>
            <p:cNvSpPr/>
            <p:nvPr/>
          </p:nvSpPr>
          <p:spPr>
            <a:xfrm>
              <a:off x="49575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2876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6178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479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2784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085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938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268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5992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4784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4784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4784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784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784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4784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4784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4784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4784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84236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22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84236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280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92936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25480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94784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94784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14680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5776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get turn_info</a:t>
            </a:r>
            <a:br>
              <a:rPr sz="40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alyses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stcases</a:t>
            </a:r>
            <a:br>
              <a:rPr sz="2400"/>
            </a:b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in test/algorithms/overlay/get_turn_info.c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9520" y="5343480"/>
            <a:ext cx="2076480" cy="39996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90440" y="574524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08080" y="577692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60240" y="5267160"/>
            <a:ext cx="1857600" cy="44784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66640" y="5240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02920" y="5952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484360" y="5559480"/>
            <a:ext cx="6659640" cy="1298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Boost.Geometry (aka GGL, Generic Geometry Library) test fi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Copyright Barend Gehrels 20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-2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, Geodan, Amsterdam, the Netherlan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Use, modification and distribution is subject to the Boost Software License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Version 1.0. (See accompanying file LICENSE_1_0.txt or copy 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http://www.boost.org/LICENSE_1_0.tx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(4 segments m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356000" y="3860280"/>
            <a:ext cx="4788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th at the same 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or one collin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95280" y="4145040"/>
            <a:ext cx="3805200" cy="107460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15960" y="5224320"/>
            <a:ext cx="2328840" cy="122904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547640" y="5235480"/>
            <a:ext cx="2094120" cy="11383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27200" y="4032360"/>
            <a:ext cx="3403440" cy="120312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203920" y="4313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088000" y="5783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635280" y="155520"/>
            <a:ext cx="1224000" cy="15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Note: q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might also be collinear with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-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527120" y="922320"/>
            <a:ext cx="901800" cy="1955880"/>
          </a:xfrm>
          <a:custGeom>
            <a:avLst/>
            <a:gdLst/>
            <a:ahLst/>
            <a:rect l="l" t="t" r="r" b="b"/>
            <a:pathLst>
              <a:path w="568" h="1232">
                <a:moveTo>
                  <a:pt x="224" y="1232"/>
                </a:moveTo>
                <a:lnTo>
                  <a:pt x="234" y="295"/>
                </a:lnTo>
                <a:lnTo>
                  <a:pt x="58" y="611"/>
                </a:lnTo>
                <a:lnTo>
                  <a:pt x="0" y="104"/>
                </a:lnTo>
                <a:lnTo>
                  <a:pt x="424" y="0"/>
                </a:lnTo>
                <a:lnTo>
                  <a:pt x="568" y="784"/>
                </a:lnTo>
                <a:lnTo>
                  <a:pt x="224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435640" y="896760"/>
            <a:ext cx="1766880" cy="1943280"/>
          </a:xfrm>
          <a:custGeom>
            <a:avLst/>
            <a:gdLst/>
            <a:ahLst/>
            <a:rect l="l" t="t" r="r" b="b"/>
            <a:pathLst>
              <a:path w="1113" h="1224">
                <a:moveTo>
                  <a:pt x="744" y="1224"/>
                </a:moveTo>
                <a:lnTo>
                  <a:pt x="736" y="307"/>
                </a:lnTo>
                <a:lnTo>
                  <a:pt x="0" y="651"/>
                </a:lnTo>
                <a:lnTo>
                  <a:pt x="176" y="219"/>
                </a:lnTo>
                <a:lnTo>
                  <a:pt x="952" y="0"/>
                </a:lnTo>
                <a:lnTo>
                  <a:pt x="1113" y="854"/>
                </a:lnTo>
                <a:lnTo>
                  <a:pt x="74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257480" y="1098720"/>
            <a:ext cx="696600" cy="52704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225440" y="107316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562040" y="1371600"/>
            <a:ext cx="343080" cy="1552680"/>
          </a:xfrm>
          <a:custGeom>
            <a:avLst/>
            <a:gdLst/>
            <a:ahLst/>
            <a:rect l="l" t="t" r="r" b="b"/>
            <a:pathLst>
              <a:path w="216" h="978">
                <a:moveTo>
                  <a:pt x="209" y="978"/>
                </a:moveTo>
                <a:lnTo>
                  <a:pt x="216" y="0"/>
                </a:lnTo>
                <a:lnTo>
                  <a:pt x="0" y="39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319040" y="1209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62680" y="1090440"/>
            <a:ext cx="696960" cy="52740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31000" y="106524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029280" y="1158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295960" y="1397160"/>
            <a:ext cx="1315800" cy="1535040"/>
          </a:xfrm>
          <a:custGeom>
            <a:avLst/>
            <a:gdLst/>
            <a:ahLst/>
            <a:rect l="l" t="t" r="r" b="b"/>
            <a:pathLst>
              <a:path w="829" h="967">
                <a:moveTo>
                  <a:pt x="829" y="967"/>
                </a:moveTo>
                <a:lnTo>
                  <a:pt x="828" y="0"/>
                </a:lnTo>
                <a:lnTo>
                  <a:pt x="0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419120" y="196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16000" y="14558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971680" y="1700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435640" y="3962520"/>
            <a:ext cx="1703520" cy="2411280"/>
          </a:xfrm>
          <a:custGeom>
            <a:avLst/>
            <a:gdLst/>
            <a:ahLst/>
            <a:rect l="l" t="t" r="r" b="b"/>
            <a:pathLst>
              <a:path w="1073" h="1519">
                <a:moveTo>
                  <a:pt x="729" y="1519"/>
                </a:moveTo>
                <a:lnTo>
                  <a:pt x="739" y="582"/>
                </a:lnTo>
                <a:lnTo>
                  <a:pt x="0" y="208"/>
                </a:lnTo>
                <a:lnTo>
                  <a:pt x="200" y="0"/>
                </a:lnTo>
                <a:lnTo>
                  <a:pt x="929" y="287"/>
                </a:lnTo>
                <a:lnTo>
                  <a:pt x="1073" y="1071"/>
                </a:lnTo>
                <a:lnTo>
                  <a:pt x="729" y="15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333440" y="4379760"/>
            <a:ext cx="1163520" cy="1943280"/>
          </a:xfrm>
          <a:custGeom>
            <a:avLst/>
            <a:gdLst/>
            <a:ahLst/>
            <a:rect l="l" t="t" r="r" b="b"/>
            <a:pathLst>
              <a:path w="733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733" y="854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967360" y="4606920"/>
            <a:ext cx="696960" cy="52704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935680" y="458136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270400" y="4203720"/>
            <a:ext cx="1344600" cy="2190600"/>
          </a:xfrm>
          <a:custGeom>
            <a:avLst/>
            <a:gdLst/>
            <a:ahLst/>
            <a:rect l="l" t="t" r="r" b="b"/>
            <a:pathLst>
              <a:path w="847" h="1380">
                <a:moveTo>
                  <a:pt x="840" y="1380"/>
                </a:moveTo>
                <a:lnTo>
                  <a:pt x="847" y="40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665400" y="5791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029280" y="47181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257480" y="4599000"/>
            <a:ext cx="696600" cy="52704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225440" y="457344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3237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231920" y="4867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104840" y="469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935680" y="51879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098360" y="5137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0173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6130440" y="4561920"/>
            <a:ext cx="351360" cy="361080"/>
            <a:chOff x="6130440" y="4561920"/>
            <a:chExt cx="351360" cy="361080"/>
          </a:xfrm>
        </p:grpSpPr>
        <p:sp>
          <p:nvSpPr>
            <p:cNvPr id="387" name=""/>
            <p:cNvSpPr/>
            <p:nvPr/>
          </p:nvSpPr>
          <p:spPr>
            <a:xfrm rot="19936800">
              <a:off x="6126840" y="47008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16072200">
              <a:off x="6134760" y="47059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5122440" y="4005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892160" y="73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60888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908000" y="424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600960" y="42544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642000" y="3987720"/>
            <a:ext cx="14400" cy="822240"/>
          </a:xfrm>
          <a:custGeom>
            <a:avLst/>
            <a:gdLst/>
            <a:ahLst/>
            <a:rect l="l" t="t" r="r" b="b"/>
            <a:pathLst>
              <a:path w="9" h="518">
                <a:moveTo>
                  <a:pt x="9" y="51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654200" y="879480"/>
            <a:ext cx="857160" cy="206064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613560" y="1403280"/>
            <a:ext cx="279360" cy="1495440"/>
          </a:xfrm>
          <a:custGeom>
            <a:avLst/>
            <a:gdLst/>
            <a:ahLst/>
            <a:rect l="l" t="t" r="r" b="b"/>
            <a:pathLst>
              <a:path w="176" h="942">
                <a:moveTo>
                  <a:pt x="0" y="942"/>
                </a:moveTo>
                <a:lnTo>
                  <a:pt x="3" y="0"/>
                </a:lnTo>
                <a:lnTo>
                  <a:pt x="176" y="306"/>
                </a:lnTo>
                <a:lnTo>
                  <a:pt x="0" y="9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341360" y="1305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254240" y="1089000"/>
            <a:ext cx="615960" cy="533520"/>
          </a:xfrm>
          <a:custGeom>
            <a:avLst/>
            <a:gdLst/>
            <a:ahLst/>
            <a:rect l="l" t="t" r="r" b="b"/>
            <a:pathLst>
              <a:path w="388" h="336">
                <a:moveTo>
                  <a:pt x="52" y="336"/>
                </a:moveTo>
                <a:lnTo>
                  <a:pt x="388" y="180"/>
                </a:lnTo>
                <a:lnTo>
                  <a:pt x="0" y="0"/>
                </a:lnTo>
                <a:lnTo>
                  <a:pt x="52" y="33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28680" y="1063800"/>
            <a:ext cx="652680" cy="622080"/>
          </a:xfrm>
          <a:custGeom>
            <a:avLst/>
            <a:gdLst/>
            <a:ahLst/>
            <a:rect l="l" t="t" r="r" b="b"/>
            <a:pathLst>
              <a:path w="411" h="392">
                <a:moveTo>
                  <a:pt x="0" y="392"/>
                </a:moveTo>
                <a:lnTo>
                  <a:pt x="411" y="203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040440" y="1292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997600" y="1082520"/>
            <a:ext cx="565200" cy="552600"/>
          </a:xfrm>
          <a:custGeom>
            <a:avLst/>
            <a:gdLst/>
            <a:ahLst/>
            <a:rect l="l" t="t" r="r" b="b"/>
            <a:pathLst>
              <a:path w="356" h="348">
                <a:moveTo>
                  <a:pt x="32" y="348"/>
                </a:moveTo>
                <a:lnTo>
                  <a:pt x="356" y="176"/>
                </a:lnTo>
                <a:lnTo>
                  <a:pt x="0" y="0"/>
                </a:lnTo>
                <a:lnTo>
                  <a:pt x="32" y="34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959440" y="1057320"/>
            <a:ext cx="620640" cy="635040"/>
          </a:xfrm>
          <a:custGeom>
            <a:avLst/>
            <a:gdLst/>
            <a:ahLst/>
            <a:rect l="l" t="t" r="r" b="b"/>
            <a:pathLst>
              <a:path w="391" h="400">
                <a:moveTo>
                  <a:pt x="4" y="400"/>
                </a:moveTo>
                <a:lnTo>
                  <a:pt x="391" y="19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539720" y="739800"/>
            <a:ext cx="35424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607080" y="1349280"/>
            <a:ext cx="349200" cy="1575000"/>
          </a:xfrm>
          <a:custGeom>
            <a:avLst/>
            <a:gdLst/>
            <a:ahLst/>
            <a:rect l="l" t="t" r="r" b="b"/>
            <a:pathLst>
              <a:path w="220" h="992">
                <a:moveTo>
                  <a:pt x="0" y="992"/>
                </a:moveTo>
                <a:lnTo>
                  <a:pt x="8" y="0"/>
                </a:lnTo>
                <a:lnTo>
                  <a:pt x="220" y="4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32640" y="1409760"/>
            <a:ext cx="644400" cy="291960"/>
          </a:xfrm>
          <a:custGeom>
            <a:avLst/>
            <a:gdLst/>
            <a:ahLst/>
            <a:rect l="l" t="t" r="r" b="b"/>
            <a:pathLst>
              <a:path w="406" h="184">
                <a:moveTo>
                  <a:pt x="0" y="0"/>
                </a:moveTo>
                <a:lnTo>
                  <a:pt x="406" y="184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37320" y="1071720"/>
            <a:ext cx="614520" cy="269640"/>
          </a:xfrm>
          <a:custGeom>
            <a:avLst/>
            <a:gdLst/>
            <a:ahLst/>
            <a:rect l="l" t="t" r="r" b="b"/>
            <a:pathLst>
              <a:path w="387" h="170">
                <a:moveTo>
                  <a:pt x="0" y="170"/>
                </a:moveTo>
                <a:lnTo>
                  <a:pt x="38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403280" y="549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068480" y="1638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960880" y="1663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956280" y="1938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659640" y="457200"/>
            <a:ext cx="554040" cy="884160"/>
          </a:xfrm>
          <a:custGeom>
            <a:avLst/>
            <a:gdLst/>
            <a:ahLst/>
            <a:rect l="l" t="t" r="r" b="b"/>
            <a:pathLst>
              <a:path w="349" h="557">
                <a:moveTo>
                  <a:pt x="0" y="557"/>
                </a:moveTo>
                <a:lnTo>
                  <a:pt x="34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307640" y="15177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307640" y="89532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333440" y="4379760"/>
            <a:ext cx="1163520" cy="1943280"/>
          </a:xfrm>
          <a:custGeom>
            <a:avLst/>
            <a:gdLst/>
            <a:ahLst/>
            <a:rect l="l" t="t" r="r" b="b"/>
            <a:pathLst>
              <a:path w="733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733" y="854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257480" y="4599000"/>
            <a:ext cx="622080" cy="1001880"/>
          </a:xfrm>
          <a:custGeom>
            <a:avLst/>
            <a:gdLst/>
            <a:ahLst/>
            <a:rect l="l" t="t" r="r" b="b"/>
            <a:pathLst>
              <a:path w="392" h="631">
                <a:moveTo>
                  <a:pt x="392" y="631"/>
                </a:moveTo>
                <a:lnTo>
                  <a:pt x="384" y="159"/>
                </a:lnTo>
                <a:lnTo>
                  <a:pt x="0" y="0"/>
                </a:lnTo>
                <a:lnTo>
                  <a:pt x="40" y="415"/>
                </a:lnTo>
                <a:lnTo>
                  <a:pt x="392" y="631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87280" y="4573440"/>
            <a:ext cx="679680" cy="1179720"/>
          </a:xfrm>
          <a:custGeom>
            <a:avLst/>
            <a:gdLst/>
            <a:ahLst/>
            <a:rect l="l" t="t" r="r" b="b"/>
            <a:pathLst>
              <a:path w="428" h="743">
                <a:moveTo>
                  <a:pt x="428" y="743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3237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231920" y="4867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104840" y="469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639440" y="5705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879560" y="4178160"/>
            <a:ext cx="28440" cy="677880"/>
          </a:xfrm>
          <a:custGeom>
            <a:avLst/>
            <a:gdLst/>
            <a:ahLst/>
            <a:rect l="l" t="t" r="r" b="b"/>
            <a:pathLst>
              <a:path w="18" h="427">
                <a:moveTo>
                  <a:pt x="18" y="427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6905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037200" y="4346640"/>
            <a:ext cx="1011240" cy="1942920"/>
          </a:xfrm>
          <a:custGeom>
            <a:avLst/>
            <a:gdLst/>
            <a:ahLst/>
            <a:rect l="l" t="t" r="r" b="b"/>
            <a:pathLst>
              <a:path w="637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637" y="862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671520" y="5765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002280" y="4844880"/>
            <a:ext cx="582840" cy="749520"/>
          </a:xfrm>
          <a:custGeom>
            <a:avLst/>
            <a:gdLst/>
            <a:ahLst/>
            <a:rect l="l" t="t" r="r" b="b"/>
            <a:pathLst>
              <a:path w="367" h="472">
                <a:moveTo>
                  <a:pt x="367" y="472"/>
                </a:moveTo>
                <a:lnTo>
                  <a:pt x="359" y="0"/>
                </a:lnTo>
                <a:lnTo>
                  <a:pt x="0" y="44"/>
                </a:lnTo>
                <a:lnTo>
                  <a:pt x="83" y="376"/>
                </a:lnTo>
                <a:lnTo>
                  <a:pt x="367" y="4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977080" y="4881600"/>
            <a:ext cx="595080" cy="877680"/>
          </a:xfrm>
          <a:custGeom>
            <a:avLst/>
            <a:gdLst/>
            <a:ahLst/>
            <a:rect l="l" t="t" r="r" b="b"/>
            <a:pathLst>
              <a:path w="375" h="553">
                <a:moveTo>
                  <a:pt x="375" y="553"/>
                </a:moveTo>
                <a:lnTo>
                  <a:pt x="368" y="0"/>
                </a:lnTo>
                <a:lnTo>
                  <a:pt x="0" y="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027480" y="4640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935680" y="4834080"/>
            <a:ext cx="674640" cy="154764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808240" y="4659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343200" y="5672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635280" y="6308640"/>
            <a:ext cx="122400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collinear with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-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908000" y="4229280"/>
            <a:ext cx="339840" cy="672840"/>
          </a:xfrm>
          <a:custGeom>
            <a:avLst/>
            <a:gdLst/>
            <a:ahLst/>
            <a:rect l="l" t="t" r="r" b="b"/>
            <a:pathLst>
              <a:path w="214" h="424">
                <a:moveTo>
                  <a:pt x="0" y="424"/>
                </a:moveTo>
                <a:lnTo>
                  <a:pt x="214" y="0"/>
                </a:lnTo>
              </a:path>
            </a:pathLst>
          </a:custGeom>
          <a:noFill/>
          <a:ln cap="rnd" w="57240">
            <a:solidFill>
              <a:srgbClr val="6699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918440" y="406404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243160" y="406404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9966"/>
                </a:solidFill>
                <a:latin typeface="Arial"/>
              </a:rPr>
              <a:t>-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332000" y="923760"/>
            <a:ext cx="1011240" cy="1943280"/>
          </a:xfrm>
          <a:custGeom>
            <a:avLst/>
            <a:gdLst/>
            <a:ahLst/>
            <a:rect l="l" t="t" r="r" b="b"/>
            <a:pathLst>
              <a:path w="637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637" y="849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966320" y="2343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262160" y="1395360"/>
            <a:ext cx="615960" cy="749520"/>
          </a:xfrm>
          <a:custGeom>
            <a:avLst/>
            <a:gdLst/>
            <a:ahLst/>
            <a:rect l="l" t="t" r="r" b="b"/>
            <a:pathLst>
              <a:path w="388" h="472">
                <a:moveTo>
                  <a:pt x="388" y="472"/>
                </a:moveTo>
                <a:lnTo>
                  <a:pt x="380" y="0"/>
                </a:lnTo>
                <a:lnTo>
                  <a:pt x="0" y="192"/>
                </a:lnTo>
                <a:lnTo>
                  <a:pt x="104" y="376"/>
                </a:lnTo>
                <a:lnTo>
                  <a:pt x="388" y="4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211400" y="1419120"/>
            <a:ext cx="653760" cy="878040"/>
          </a:xfrm>
          <a:custGeom>
            <a:avLst/>
            <a:gdLst/>
            <a:ahLst/>
            <a:rect l="l" t="t" r="r" b="b"/>
            <a:pathLst>
              <a:path w="412" h="553">
                <a:moveTo>
                  <a:pt x="412" y="553"/>
                </a:moveTo>
                <a:lnTo>
                  <a:pt x="405" y="0"/>
                </a:lnTo>
                <a:lnTo>
                  <a:pt x="0" y="18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322280" y="1217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230480" y="1411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103400" y="1236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638000" y="2249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94480" y="168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635280" y="6308640"/>
            <a:ext cx="122400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collinear with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-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663600" y="2363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959440" y="1415880"/>
            <a:ext cx="615960" cy="749520"/>
          </a:xfrm>
          <a:custGeom>
            <a:avLst/>
            <a:gdLst/>
            <a:ahLst/>
            <a:rect l="l" t="t" r="r" b="b"/>
            <a:pathLst>
              <a:path w="388" h="472">
                <a:moveTo>
                  <a:pt x="388" y="472"/>
                </a:moveTo>
                <a:lnTo>
                  <a:pt x="380" y="0"/>
                </a:lnTo>
                <a:lnTo>
                  <a:pt x="0" y="192"/>
                </a:lnTo>
                <a:lnTo>
                  <a:pt x="104" y="376"/>
                </a:lnTo>
                <a:lnTo>
                  <a:pt x="388" y="4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908680" y="1440000"/>
            <a:ext cx="654120" cy="877680"/>
          </a:xfrm>
          <a:custGeom>
            <a:avLst/>
            <a:gdLst/>
            <a:ahLst/>
            <a:rect l="l" t="t" r="r" b="b"/>
            <a:pathLst>
              <a:path w="412" h="553">
                <a:moveTo>
                  <a:pt x="412" y="553"/>
                </a:moveTo>
                <a:lnTo>
                  <a:pt x="405" y="0"/>
                </a:lnTo>
                <a:lnTo>
                  <a:pt x="0" y="18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19560" y="1238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335280" y="2270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992120" y="189000"/>
            <a:ext cx="133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600960" y="1403280"/>
            <a:ext cx="279360" cy="1495440"/>
          </a:xfrm>
          <a:custGeom>
            <a:avLst/>
            <a:gdLst/>
            <a:ahLst/>
            <a:rect l="l" t="t" r="r" b="b"/>
            <a:pathLst>
              <a:path w="176" h="942">
                <a:moveTo>
                  <a:pt x="0" y="942"/>
                </a:moveTo>
                <a:lnTo>
                  <a:pt x="3" y="0"/>
                </a:lnTo>
                <a:lnTo>
                  <a:pt x="176" y="306"/>
                </a:lnTo>
                <a:lnTo>
                  <a:pt x="0" y="9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594480" y="1349280"/>
            <a:ext cx="349200" cy="1575000"/>
          </a:xfrm>
          <a:custGeom>
            <a:avLst/>
            <a:gdLst/>
            <a:ahLst/>
            <a:rect l="l" t="t" r="r" b="b"/>
            <a:pathLst>
              <a:path w="220" h="992">
                <a:moveTo>
                  <a:pt x="0" y="992"/>
                </a:moveTo>
                <a:lnTo>
                  <a:pt x="8" y="0"/>
                </a:lnTo>
                <a:lnTo>
                  <a:pt x="220" y="4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6700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620040" y="1409760"/>
            <a:ext cx="644400" cy="291960"/>
          </a:xfrm>
          <a:custGeom>
            <a:avLst/>
            <a:gdLst/>
            <a:ahLst/>
            <a:rect l="l" t="t" r="r" b="b"/>
            <a:pathLst>
              <a:path w="406" h="184">
                <a:moveTo>
                  <a:pt x="0" y="0"/>
                </a:moveTo>
                <a:lnTo>
                  <a:pt x="406" y="184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624720" y="1071720"/>
            <a:ext cx="614160" cy="269640"/>
          </a:xfrm>
          <a:custGeom>
            <a:avLst/>
            <a:gdLst/>
            <a:ahLst/>
            <a:rect l="l" t="t" r="r" b="b"/>
            <a:pathLst>
              <a:path w="387" h="170">
                <a:moveTo>
                  <a:pt x="0" y="170"/>
                </a:moveTo>
                <a:lnTo>
                  <a:pt x="38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943680" y="1938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58800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647040" y="457200"/>
            <a:ext cx="554040" cy="884160"/>
          </a:xfrm>
          <a:custGeom>
            <a:avLst/>
            <a:gdLst/>
            <a:ahLst/>
            <a:rect l="l" t="t" r="r" b="b"/>
            <a:pathLst>
              <a:path w="349" h="557">
                <a:moveTo>
                  <a:pt x="0" y="557"/>
                </a:moveTo>
                <a:lnTo>
                  <a:pt x="34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295040" y="15177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95040" y="89532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882800" y="1390680"/>
            <a:ext cx="333360" cy="1487520"/>
          </a:xfrm>
          <a:custGeom>
            <a:avLst/>
            <a:gdLst/>
            <a:ahLst/>
            <a:rect l="l" t="t" r="r" b="b"/>
            <a:pathLst>
              <a:path w="210" h="937">
                <a:moveTo>
                  <a:pt x="0" y="937"/>
                </a:moveTo>
                <a:lnTo>
                  <a:pt x="10" y="0"/>
                </a:lnTo>
                <a:lnTo>
                  <a:pt x="210" y="356"/>
                </a:lnTo>
                <a:lnTo>
                  <a:pt x="0" y="93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603840" y="1403280"/>
            <a:ext cx="1175040" cy="1455840"/>
          </a:xfrm>
          <a:custGeom>
            <a:avLst/>
            <a:gdLst/>
            <a:ahLst/>
            <a:rect l="l" t="t" r="r" b="b"/>
            <a:pathLst>
              <a:path w="740" h="917">
                <a:moveTo>
                  <a:pt x="8" y="917"/>
                </a:moveTo>
                <a:lnTo>
                  <a:pt x="0" y="0"/>
                </a:lnTo>
                <a:lnTo>
                  <a:pt x="740" y="360"/>
                </a:lnTo>
                <a:lnTo>
                  <a:pt x="8" y="91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954080" y="107316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893960" y="106056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887480" y="1371600"/>
            <a:ext cx="322200" cy="1552680"/>
          </a:xfrm>
          <a:custGeom>
            <a:avLst/>
            <a:gdLst/>
            <a:ahLst/>
            <a:rect l="l" t="t" r="r" b="b"/>
            <a:pathLst>
              <a:path w="203" h="978">
                <a:moveTo>
                  <a:pt x="0" y="978"/>
                </a:moveTo>
                <a:lnTo>
                  <a:pt x="7" y="0"/>
                </a:lnTo>
                <a:lnTo>
                  <a:pt x="203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36520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10320" y="1403280"/>
            <a:ext cx="1308240" cy="1535040"/>
          </a:xfrm>
          <a:custGeom>
            <a:avLst/>
            <a:gdLst/>
            <a:ahLst/>
            <a:rect l="l" t="t" r="r" b="b"/>
            <a:pathLst>
              <a:path w="824" h="967">
                <a:moveTo>
                  <a:pt x="1" y="967"/>
                </a:moveTo>
                <a:lnTo>
                  <a:pt x="0" y="0"/>
                </a:lnTo>
                <a:lnTo>
                  <a:pt x="824" y="38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1248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01804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287440" y="196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618240" y="4260960"/>
            <a:ext cx="1192320" cy="2100240"/>
          </a:xfrm>
          <a:custGeom>
            <a:avLst/>
            <a:gdLst/>
            <a:ahLst/>
            <a:rect l="l" t="t" r="r" b="b"/>
            <a:pathLst>
              <a:path w="751" h="1323">
                <a:moveTo>
                  <a:pt x="0" y="1323"/>
                </a:moveTo>
                <a:lnTo>
                  <a:pt x="10" y="386"/>
                </a:lnTo>
                <a:lnTo>
                  <a:pt x="751" y="0"/>
                </a:lnTo>
                <a:lnTo>
                  <a:pt x="339" y="1204"/>
                </a:lnTo>
                <a:lnTo>
                  <a:pt x="0" y="132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898640" y="4838760"/>
            <a:ext cx="654120" cy="1484280"/>
          </a:xfrm>
          <a:custGeom>
            <a:avLst/>
            <a:gdLst/>
            <a:ahLst/>
            <a:rect l="l" t="t" r="r" b="b"/>
            <a:pathLst>
              <a:path w="412" h="935">
                <a:moveTo>
                  <a:pt x="8" y="935"/>
                </a:moveTo>
                <a:lnTo>
                  <a:pt x="0" y="18"/>
                </a:lnTo>
                <a:lnTo>
                  <a:pt x="412" y="0"/>
                </a:lnTo>
                <a:lnTo>
                  <a:pt x="284" y="760"/>
                </a:lnTo>
                <a:lnTo>
                  <a:pt x="8" y="93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629400" y="4210200"/>
            <a:ext cx="1301760" cy="2171520"/>
          </a:xfrm>
          <a:custGeom>
            <a:avLst/>
            <a:gdLst/>
            <a:ahLst/>
            <a:rect l="l" t="t" r="r" b="b"/>
            <a:pathLst>
              <a:path w="820" h="1368">
                <a:moveTo>
                  <a:pt x="0" y="1368"/>
                </a:moveTo>
                <a:lnTo>
                  <a:pt x="7" y="390"/>
                </a:lnTo>
                <a:lnTo>
                  <a:pt x="82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690600" y="5778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905120" y="4826160"/>
            <a:ext cx="660240" cy="1555560"/>
          </a:xfrm>
          <a:custGeom>
            <a:avLst/>
            <a:gdLst/>
            <a:ahLst/>
            <a:rect l="l" t="t" r="r" b="b"/>
            <a:pathLst>
              <a:path w="416" h="980">
                <a:moveTo>
                  <a:pt x="1" y="980"/>
                </a:moveTo>
                <a:lnTo>
                  <a:pt x="0" y="13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12480" y="35989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018040" y="35989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656400" y="104940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595920" y="1036800"/>
            <a:ext cx="652680" cy="63468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0549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954080" y="454824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893960" y="4514760"/>
            <a:ext cx="658800" cy="655560"/>
          </a:xfrm>
          <a:custGeom>
            <a:avLst/>
            <a:gdLst/>
            <a:ahLst/>
            <a:rect l="l" t="t" r="r" b="b"/>
            <a:pathLst>
              <a:path w="415" h="413">
                <a:moveTo>
                  <a:pt x="411" y="413"/>
                </a:moveTo>
                <a:lnTo>
                  <a:pt x="0" y="211"/>
                </a:lnTo>
                <a:lnTo>
                  <a:pt x="415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233440" y="4660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703920" y="453564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643800" y="452268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115040" y="4830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76520" y="1484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6689160" y="1316880"/>
            <a:ext cx="351360" cy="361080"/>
            <a:chOff x="6689160" y="1316880"/>
            <a:chExt cx="351360" cy="361080"/>
          </a:xfrm>
        </p:grpSpPr>
        <p:sp>
          <p:nvSpPr>
            <p:cNvPr id="502" name=""/>
            <p:cNvSpPr/>
            <p:nvPr/>
          </p:nvSpPr>
          <p:spPr>
            <a:xfrm rot="19936800">
              <a:off x="6685560" y="1456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16072200">
              <a:off x="6693480" y="14608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7327800" y="83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980040" y="4264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6520" y="43117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606760" y="462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935480" y="1940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89540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895400" y="425916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621480" y="4229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1248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01804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870200" y="806400"/>
            <a:ext cx="733320" cy="2133720"/>
          </a:xfrm>
          <a:custGeom>
            <a:avLst/>
            <a:gdLst/>
            <a:ahLst/>
            <a:rect l="l" t="t" r="r" b="b"/>
            <a:pathLst>
              <a:path w="462" h="1344">
                <a:moveTo>
                  <a:pt x="9" y="1344"/>
                </a:moveTo>
                <a:lnTo>
                  <a:pt x="0" y="366"/>
                </a:lnTo>
                <a:lnTo>
                  <a:pt x="206" y="0"/>
                </a:lnTo>
                <a:lnTo>
                  <a:pt x="462" y="92"/>
                </a:lnTo>
                <a:lnTo>
                  <a:pt x="214" y="1060"/>
                </a:lnTo>
                <a:lnTo>
                  <a:pt x="9" y="13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191280" y="907920"/>
            <a:ext cx="920880" cy="1990800"/>
          </a:xfrm>
          <a:custGeom>
            <a:avLst/>
            <a:gdLst/>
            <a:ahLst/>
            <a:rect l="l" t="t" r="r" b="b"/>
            <a:pathLst>
              <a:path w="580" h="1254">
                <a:moveTo>
                  <a:pt x="266" y="1254"/>
                </a:moveTo>
                <a:lnTo>
                  <a:pt x="272" y="276"/>
                </a:lnTo>
                <a:lnTo>
                  <a:pt x="76" y="608"/>
                </a:lnTo>
                <a:lnTo>
                  <a:pt x="0" y="72"/>
                </a:lnTo>
                <a:lnTo>
                  <a:pt x="580" y="0"/>
                </a:lnTo>
                <a:lnTo>
                  <a:pt x="500" y="1000"/>
                </a:lnTo>
                <a:lnTo>
                  <a:pt x="266" y="12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882800" y="749160"/>
            <a:ext cx="339840" cy="2206800"/>
          </a:xfrm>
          <a:custGeom>
            <a:avLst/>
            <a:gdLst/>
            <a:ahLst/>
            <a:rect l="l" t="t" r="r" b="b"/>
            <a:pathLst>
              <a:path w="214" h="1390">
                <a:moveTo>
                  <a:pt x="7" y="1390"/>
                </a:moveTo>
                <a:lnTo>
                  <a:pt x="0" y="402"/>
                </a:lnTo>
                <a:lnTo>
                  <a:pt x="21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286680" y="1349280"/>
            <a:ext cx="333360" cy="1575000"/>
          </a:xfrm>
          <a:custGeom>
            <a:avLst/>
            <a:gdLst/>
            <a:ahLst/>
            <a:rect l="l" t="t" r="r" b="b"/>
            <a:pathLst>
              <a:path w="210" h="992">
                <a:moveTo>
                  <a:pt x="202" y="992"/>
                </a:moveTo>
                <a:lnTo>
                  <a:pt x="210" y="0"/>
                </a:lnTo>
                <a:lnTo>
                  <a:pt x="0" y="4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095880" y="1308240"/>
            <a:ext cx="524160" cy="55440"/>
          </a:xfrm>
          <a:custGeom>
            <a:avLst/>
            <a:gdLst/>
            <a:ahLst/>
            <a:rect l="l" t="t" r="r" b="b"/>
            <a:pathLst>
              <a:path w="330" h="35">
                <a:moveTo>
                  <a:pt x="330" y="35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299280" y="596880"/>
            <a:ext cx="338040" cy="727200"/>
          </a:xfrm>
          <a:custGeom>
            <a:avLst/>
            <a:gdLst/>
            <a:ahLst/>
            <a:rect l="l" t="t" r="r" b="b"/>
            <a:pathLst>
              <a:path w="213" h="458">
                <a:moveTo>
                  <a:pt x="213" y="4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071800" y="52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084720" y="1938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963800" y="106524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03320" y="1052640"/>
            <a:ext cx="65268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3749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661080" y="106056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600960" y="104760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07220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315200" y="84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610000" y="1049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608880" y="75708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882800" y="1390680"/>
            <a:ext cx="333360" cy="1487520"/>
          </a:xfrm>
          <a:custGeom>
            <a:avLst/>
            <a:gdLst/>
            <a:ahLst/>
            <a:rect l="l" t="t" r="r" b="b"/>
            <a:pathLst>
              <a:path w="210" h="937">
                <a:moveTo>
                  <a:pt x="0" y="937"/>
                </a:moveTo>
                <a:lnTo>
                  <a:pt x="10" y="0"/>
                </a:lnTo>
                <a:lnTo>
                  <a:pt x="210" y="356"/>
                </a:lnTo>
                <a:lnTo>
                  <a:pt x="0" y="93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603840" y="1403280"/>
            <a:ext cx="1175040" cy="1455840"/>
          </a:xfrm>
          <a:custGeom>
            <a:avLst/>
            <a:gdLst/>
            <a:ahLst/>
            <a:rect l="l" t="t" r="r" b="b"/>
            <a:pathLst>
              <a:path w="740" h="917">
                <a:moveTo>
                  <a:pt x="8" y="917"/>
                </a:moveTo>
                <a:lnTo>
                  <a:pt x="0" y="0"/>
                </a:lnTo>
                <a:lnTo>
                  <a:pt x="740" y="360"/>
                </a:lnTo>
                <a:lnTo>
                  <a:pt x="8" y="91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384200" y="76212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893960" y="106056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887480" y="1371600"/>
            <a:ext cx="322200" cy="1552680"/>
          </a:xfrm>
          <a:custGeom>
            <a:avLst/>
            <a:gdLst/>
            <a:ahLst/>
            <a:rect l="l" t="t" r="r" b="b"/>
            <a:pathLst>
              <a:path w="203" h="978">
                <a:moveTo>
                  <a:pt x="0" y="978"/>
                </a:moveTo>
                <a:lnTo>
                  <a:pt x="7" y="0"/>
                </a:lnTo>
                <a:lnTo>
                  <a:pt x="203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610320" y="1403280"/>
            <a:ext cx="1308240" cy="1535040"/>
          </a:xfrm>
          <a:custGeom>
            <a:avLst/>
            <a:gdLst/>
            <a:ahLst/>
            <a:rect l="l" t="t" r="r" b="b"/>
            <a:pathLst>
              <a:path w="824" h="967">
                <a:moveTo>
                  <a:pt x="1" y="967"/>
                </a:moveTo>
                <a:lnTo>
                  <a:pt x="0" y="0"/>
                </a:lnTo>
                <a:lnTo>
                  <a:pt x="824" y="38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287440" y="1960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618240" y="4260960"/>
            <a:ext cx="1192320" cy="2100240"/>
          </a:xfrm>
          <a:custGeom>
            <a:avLst/>
            <a:gdLst/>
            <a:ahLst/>
            <a:rect l="l" t="t" r="r" b="b"/>
            <a:pathLst>
              <a:path w="751" h="1323">
                <a:moveTo>
                  <a:pt x="0" y="1323"/>
                </a:moveTo>
                <a:lnTo>
                  <a:pt x="10" y="386"/>
                </a:lnTo>
                <a:lnTo>
                  <a:pt x="751" y="0"/>
                </a:lnTo>
                <a:lnTo>
                  <a:pt x="339" y="1204"/>
                </a:lnTo>
                <a:lnTo>
                  <a:pt x="0" y="132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898640" y="4838760"/>
            <a:ext cx="654120" cy="1484280"/>
          </a:xfrm>
          <a:custGeom>
            <a:avLst/>
            <a:gdLst/>
            <a:ahLst/>
            <a:rect l="l" t="t" r="r" b="b"/>
            <a:pathLst>
              <a:path w="412" h="935">
                <a:moveTo>
                  <a:pt x="8" y="935"/>
                </a:moveTo>
                <a:lnTo>
                  <a:pt x="0" y="18"/>
                </a:lnTo>
                <a:lnTo>
                  <a:pt x="412" y="0"/>
                </a:lnTo>
                <a:lnTo>
                  <a:pt x="284" y="760"/>
                </a:lnTo>
                <a:lnTo>
                  <a:pt x="8" y="93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629400" y="4210200"/>
            <a:ext cx="1301760" cy="2171520"/>
          </a:xfrm>
          <a:custGeom>
            <a:avLst/>
            <a:gdLst/>
            <a:ahLst/>
            <a:rect l="l" t="t" r="r" b="b"/>
            <a:pathLst>
              <a:path w="820" h="1368">
                <a:moveTo>
                  <a:pt x="0" y="1368"/>
                </a:moveTo>
                <a:lnTo>
                  <a:pt x="7" y="390"/>
                </a:lnTo>
                <a:lnTo>
                  <a:pt x="82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690600" y="5778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905120" y="4826160"/>
            <a:ext cx="660240" cy="1555560"/>
          </a:xfrm>
          <a:custGeom>
            <a:avLst/>
            <a:gdLst/>
            <a:ahLst/>
            <a:rect l="l" t="t" r="r" b="b"/>
            <a:pathLst>
              <a:path w="416" h="980">
                <a:moveTo>
                  <a:pt x="1" y="980"/>
                </a:moveTo>
                <a:lnTo>
                  <a:pt x="0" y="13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0173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595920" y="1036800"/>
            <a:ext cx="652680" cy="63468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893960" y="4514760"/>
            <a:ext cx="658800" cy="655560"/>
          </a:xfrm>
          <a:custGeom>
            <a:avLst/>
            <a:gdLst/>
            <a:ahLst/>
            <a:rect l="l" t="t" r="r" b="b"/>
            <a:pathLst>
              <a:path w="415" h="413">
                <a:moveTo>
                  <a:pt x="411" y="413"/>
                </a:moveTo>
                <a:lnTo>
                  <a:pt x="0" y="211"/>
                </a:lnTo>
                <a:lnTo>
                  <a:pt x="415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643800" y="452268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576520" y="1484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644480" y="836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046920" y="75708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307200" y="831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417680" y="422604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677960" y="43005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080040" y="422100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340320" y="42958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6745680" y="4503240"/>
            <a:ext cx="336600" cy="365760"/>
            <a:chOff x="6745680" y="4503240"/>
            <a:chExt cx="336600" cy="365760"/>
          </a:xfrm>
        </p:grpSpPr>
        <p:sp>
          <p:nvSpPr>
            <p:cNvPr id="567" name=""/>
            <p:cNvSpPr/>
            <p:nvPr/>
          </p:nvSpPr>
          <p:spPr>
            <a:xfrm rot="5939400">
              <a:off x="6742800" y="46494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2074800">
              <a:off x="6734520" y="46530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7195680" y="1400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620800" y="51418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589120" y="46195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369200" y="49258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945200" y="39924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892160" y="73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608880" y="80316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895400" y="42274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611760" y="426888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870200" y="806400"/>
            <a:ext cx="733320" cy="2133720"/>
          </a:xfrm>
          <a:custGeom>
            <a:avLst/>
            <a:gdLst/>
            <a:ahLst/>
            <a:rect l="l" t="t" r="r" b="b"/>
            <a:pathLst>
              <a:path w="462" h="1344">
                <a:moveTo>
                  <a:pt x="9" y="1344"/>
                </a:moveTo>
                <a:lnTo>
                  <a:pt x="0" y="366"/>
                </a:lnTo>
                <a:lnTo>
                  <a:pt x="206" y="0"/>
                </a:lnTo>
                <a:lnTo>
                  <a:pt x="462" y="92"/>
                </a:lnTo>
                <a:lnTo>
                  <a:pt x="214" y="1060"/>
                </a:lnTo>
                <a:lnTo>
                  <a:pt x="9" y="13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191280" y="907920"/>
            <a:ext cx="920880" cy="1990800"/>
          </a:xfrm>
          <a:custGeom>
            <a:avLst/>
            <a:gdLst/>
            <a:ahLst/>
            <a:rect l="l" t="t" r="r" b="b"/>
            <a:pathLst>
              <a:path w="580" h="1254">
                <a:moveTo>
                  <a:pt x="266" y="1254"/>
                </a:moveTo>
                <a:lnTo>
                  <a:pt x="272" y="276"/>
                </a:lnTo>
                <a:lnTo>
                  <a:pt x="76" y="608"/>
                </a:lnTo>
                <a:lnTo>
                  <a:pt x="0" y="72"/>
                </a:lnTo>
                <a:lnTo>
                  <a:pt x="580" y="0"/>
                </a:lnTo>
                <a:lnTo>
                  <a:pt x="500" y="1000"/>
                </a:lnTo>
                <a:lnTo>
                  <a:pt x="266" y="12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882800" y="749160"/>
            <a:ext cx="339840" cy="2206800"/>
          </a:xfrm>
          <a:custGeom>
            <a:avLst/>
            <a:gdLst/>
            <a:ahLst/>
            <a:rect l="l" t="t" r="r" b="b"/>
            <a:pathLst>
              <a:path w="214" h="1390">
                <a:moveTo>
                  <a:pt x="7" y="1390"/>
                </a:moveTo>
                <a:lnTo>
                  <a:pt x="0" y="402"/>
                </a:lnTo>
                <a:lnTo>
                  <a:pt x="21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286680" y="1349280"/>
            <a:ext cx="333360" cy="1575000"/>
          </a:xfrm>
          <a:custGeom>
            <a:avLst/>
            <a:gdLst/>
            <a:ahLst/>
            <a:rect l="l" t="t" r="r" b="b"/>
            <a:pathLst>
              <a:path w="210" h="992">
                <a:moveTo>
                  <a:pt x="202" y="992"/>
                </a:moveTo>
                <a:lnTo>
                  <a:pt x="210" y="0"/>
                </a:lnTo>
                <a:lnTo>
                  <a:pt x="0" y="4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095880" y="1308240"/>
            <a:ext cx="524160" cy="55440"/>
          </a:xfrm>
          <a:custGeom>
            <a:avLst/>
            <a:gdLst/>
            <a:ahLst/>
            <a:rect l="l" t="t" r="r" b="b"/>
            <a:pathLst>
              <a:path w="330" h="35">
                <a:moveTo>
                  <a:pt x="330" y="35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299280" y="596880"/>
            <a:ext cx="338040" cy="727200"/>
          </a:xfrm>
          <a:custGeom>
            <a:avLst/>
            <a:gdLst/>
            <a:ahLst/>
            <a:rect l="l" t="t" r="r" b="b"/>
            <a:pathLst>
              <a:path w="213" h="458">
                <a:moveTo>
                  <a:pt x="213" y="4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26836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084720" y="19382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903320" y="1052640"/>
            <a:ext cx="65268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600960" y="104760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315200" y="1671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384200" y="76212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644480" y="836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046920" y="75708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156360" y="831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643120" y="1671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608880" y="7779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898640" y="4863960"/>
            <a:ext cx="598320" cy="1459080"/>
          </a:xfrm>
          <a:custGeom>
            <a:avLst/>
            <a:gdLst/>
            <a:ahLst/>
            <a:rect l="l" t="t" r="r" b="b"/>
            <a:pathLst>
              <a:path w="377" h="919">
                <a:moveTo>
                  <a:pt x="8" y="919"/>
                </a:moveTo>
                <a:lnTo>
                  <a:pt x="0" y="2"/>
                </a:lnTo>
                <a:lnTo>
                  <a:pt x="348" y="0"/>
                </a:lnTo>
                <a:lnTo>
                  <a:pt x="377" y="549"/>
                </a:lnTo>
                <a:lnTo>
                  <a:pt x="8" y="9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308240" y="4286160"/>
            <a:ext cx="1199880" cy="1314720"/>
          </a:xfrm>
          <a:custGeom>
            <a:avLst/>
            <a:gdLst/>
            <a:ahLst/>
            <a:rect l="l" t="t" r="r" b="b"/>
            <a:pathLst>
              <a:path w="756" h="828">
                <a:moveTo>
                  <a:pt x="360" y="828"/>
                </a:moveTo>
                <a:lnTo>
                  <a:pt x="352" y="356"/>
                </a:lnTo>
                <a:lnTo>
                  <a:pt x="756" y="152"/>
                </a:lnTo>
                <a:lnTo>
                  <a:pt x="624" y="0"/>
                </a:lnTo>
                <a:lnTo>
                  <a:pt x="0" y="120"/>
                </a:lnTo>
                <a:lnTo>
                  <a:pt x="8" y="612"/>
                </a:lnTo>
                <a:lnTo>
                  <a:pt x="360" y="82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855800" y="4527720"/>
            <a:ext cx="696960" cy="1225440"/>
          </a:xfrm>
          <a:custGeom>
            <a:avLst/>
            <a:gdLst/>
            <a:ahLst/>
            <a:rect l="l" t="t" r="r" b="b"/>
            <a:pathLst>
              <a:path w="439" h="772">
                <a:moveTo>
                  <a:pt x="7" y="772"/>
                </a:moveTo>
                <a:lnTo>
                  <a:pt x="0" y="219"/>
                </a:lnTo>
                <a:lnTo>
                  <a:pt x="439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3237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905120" y="4876920"/>
            <a:ext cx="647640" cy="1538280"/>
          </a:xfrm>
          <a:custGeom>
            <a:avLst/>
            <a:gdLst/>
            <a:ahLst/>
            <a:rect l="l" t="t" r="r" b="b"/>
            <a:pathLst>
              <a:path w="408" h="969">
                <a:moveTo>
                  <a:pt x="1" y="969"/>
                </a:moveTo>
                <a:lnTo>
                  <a:pt x="0" y="2"/>
                </a:lnTo>
                <a:lnTo>
                  <a:pt x="40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643120" y="4692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639440" y="5705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879560" y="4165560"/>
            <a:ext cx="28440" cy="690480"/>
          </a:xfrm>
          <a:custGeom>
            <a:avLst/>
            <a:gdLst/>
            <a:ahLst/>
            <a:rect l="l" t="t" r="r" b="b"/>
            <a:pathLst>
              <a:path w="18" h="435">
                <a:moveTo>
                  <a:pt x="18" y="435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3479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808680" y="4495680"/>
            <a:ext cx="1125720" cy="1105200"/>
          </a:xfrm>
          <a:custGeom>
            <a:avLst/>
            <a:gdLst/>
            <a:ahLst/>
            <a:rect l="l" t="t" r="r" b="b"/>
            <a:pathLst>
              <a:path w="709" h="696">
                <a:moveTo>
                  <a:pt x="284" y="696"/>
                </a:moveTo>
                <a:lnTo>
                  <a:pt x="276" y="224"/>
                </a:lnTo>
                <a:lnTo>
                  <a:pt x="709" y="400"/>
                </a:lnTo>
                <a:lnTo>
                  <a:pt x="661" y="128"/>
                </a:lnTo>
                <a:lnTo>
                  <a:pt x="653" y="0"/>
                </a:lnTo>
                <a:lnTo>
                  <a:pt x="47" y="32"/>
                </a:lnTo>
                <a:lnTo>
                  <a:pt x="0" y="600"/>
                </a:lnTo>
                <a:lnTo>
                  <a:pt x="284" y="6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9739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8029440" y="469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019640" y="5705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0299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011280" y="5765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473800" y="4483080"/>
            <a:ext cx="1054080" cy="1111320"/>
          </a:xfrm>
          <a:custGeom>
            <a:avLst/>
            <a:gdLst/>
            <a:ahLst/>
            <a:rect l="l" t="t" r="r" b="b"/>
            <a:pathLst>
              <a:path w="664" h="700">
                <a:moveTo>
                  <a:pt x="284" y="700"/>
                </a:moveTo>
                <a:lnTo>
                  <a:pt x="276" y="228"/>
                </a:lnTo>
                <a:lnTo>
                  <a:pt x="664" y="200"/>
                </a:lnTo>
                <a:lnTo>
                  <a:pt x="568" y="0"/>
                </a:lnTo>
                <a:lnTo>
                  <a:pt x="56" y="48"/>
                </a:lnTo>
                <a:lnTo>
                  <a:pt x="0" y="604"/>
                </a:lnTo>
                <a:lnTo>
                  <a:pt x="284" y="70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00760" y="4822920"/>
            <a:ext cx="639720" cy="882720"/>
          </a:xfrm>
          <a:custGeom>
            <a:avLst/>
            <a:gdLst/>
            <a:ahLst/>
            <a:rect l="l" t="t" r="r" b="b"/>
            <a:pathLst>
              <a:path w="403" h="556">
                <a:moveTo>
                  <a:pt x="7" y="556"/>
                </a:moveTo>
                <a:lnTo>
                  <a:pt x="0" y="3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676840" y="4640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503760" y="48690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682960" y="5672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89544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946840" y="4869000"/>
            <a:ext cx="598320" cy="1458720"/>
          </a:xfrm>
          <a:custGeom>
            <a:avLst/>
            <a:gdLst/>
            <a:ahLst/>
            <a:rect l="l" t="t" r="r" b="b"/>
            <a:pathLst>
              <a:path w="377" h="919">
                <a:moveTo>
                  <a:pt x="8" y="919"/>
                </a:moveTo>
                <a:lnTo>
                  <a:pt x="0" y="2"/>
                </a:lnTo>
                <a:lnTo>
                  <a:pt x="348" y="0"/>
                </a:lnTo>
                <a:lnTo>
                  <a:pt x="377" y="549"/>
                </a:lnTo>
                <a:lnTo>
                  <a:pt x="8" y="9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952960" y="4881600"/>
            <a:ext cx="648000" cy="1538280"/>
          </a:xfrm>
          <a:custGeom>
            <a:avLst/>
            <a:gdLst/>
            <a:ahLst/>
            <a:rect l="l" t="t" r="r" b="b"/>
            <a:pathLst>
              <a:path w="408" h="969">
                <a:moveTo>
                  <a:pt x="1" y="969"/>
                </a:moveTo>
                <a:lnTo>
                  <a:pt x="0" y="2"/>
                </a:lnTo>
                <a:lnTo>
                  <a:pt x="40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262640" y="4843440"/>
            <a:ext cx="598680" cy="1459080"/>
          </a:xfrm>
          <a:custGeom>
            <a:avLst/>
            <a:gdLst/>
            <a:ahLst/>
            <a:rect l="l" t="t" r="r" b="b"/>
            <a:pathLst>
              <a:path w="377" h="919">
                <a:moveTo>
                  <a:pt x="8" y="919"/>
                </a:moveTo>
                <a:lnTo>
                  <a:pt x="0" y="2"/>
                </a:lnTo>
                <a:lnTo>
                  <a:pt x="348" y="0"/>
                </a:lnTo>
                <a:lnTo>
                  <a:pt x="377" y="549"/>
                </a:lnTo>
                <a:lnTo>
                  <a:pt x="8" y="9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284960" y="4856040"/>
            <a:ext cx="647640" cy="1538280"/>
          </a:xfrm>
          <a:custGeom>
            <a:avLst/>
            <a:gdLst/>
            <a:ahLst/>
            <a:rect l="l" t="t" r="r" b="b"/>
            <a:pathLst>
              <a:path w="408" h="969">
                <a:moveTo>
                  <a:pt x="1" y="969"/>
                </a:moveTo>
                <a:lnTo>
                  <a:pt x="0" y="2"/>
                </a:lnTo>
                <a:lnTo>
                  <a:pt x="40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236000" y="4875120"/>
            <a:ext cx="685800" cy="878040"/>
          </a:xfrm>
          <a:custGeom>
            <a:avLst/>
            <a:gdLst/>
            <a:ahLst/>
            <a:rect l="l" t="t" r="r" b="b"/>
            <a:pathLst>
              <a:path w="432" h="553">
                <a:moveTo>
                  <a:pt x="7" y="553"/>
                </a:moveTo>
                <a:lnTo>
                  <a:pt x="0" y="0"/>
                </a:lnTo>
                <a:lnTo>
                  <a:pt x="432" y="17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536840" y="4191120"/>
            <a:ext cx="323640" cy="712800"/>
          </a:xfrm>
          <a:custGeom>
            <a:avLst/>
            <a:gdLst/>
            <a:ahLst/>
            <a:rect l="l" t="t" r="r" b="b"/>
            <a:pathLst>
              <a:path w="204" h="449">
                <a:moveTo>
                  <a:pt x="204" y="44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737720" y="403848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403280" y="403848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527120" y="922320"/>
            <a:ext cx="901800" cy="1955880"/>
          </a:xfrm>
          <a:custGeom>
            <a:avLst/>
            <a:gdLst/>
            <a:ahLst/>
            <a:rect l="l" t="t" r="r" b="b"/>
            <a:pathLst>
              <a:path w="568" h="1232">
                <a:moveTo>
                  <a:pt x="224" y="1232"/>
                </a:moveTo>
                <a:lnTo>
                  <a:pt x="234" y="295"/>
                </a:lnTo>
                <a:lnTo>
                  <a:pt x="58" y="611"/>
                </a:lnTo>
                <a:lnTo>
                  <a:pt x="0" y="104"/>
                </a:lnTo>
                <a:lnTo>
                  <a:pt x="424" y="0"/>
                </a:lnTo>
                <a:lnTo>
                  <a:pt x="568" y="784"/>
                </a:lnTo>
                <a:lnTo>
                  <a:pt x="224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435640" y="896760"/>
            <a:ext cx="1766880" cy="1943280"/>
          </a:xfrm>
          <a:custGeom>
            <a:avLst/>
            <a:gdLst/>
            <a:ahLst/>
            <a:rect l="l" t="t" r="r" b="b"/>
            <a:pathLst>
              <a:path w="1113" h="1224">
                <a:moveTo>
                  <a:pt x="744" y="1224"/>
                </a:moveTo>
                <a:lnTo>
                  <a:pt x="736" y="307"/>
                </a:lnTo>
                <a:lnTo>
                  <a:pt x="0" y="651"/>
                </a:lnTo>
                <a:lnTo>
                  <a:pt x="176" y="219"/>
                </a:lnTo>
                <a:lnTo>
                  <a:pt x="952" y="0"/>
                </a:lnTo>
                <a:lnTo>
                  <a:pt x="1113" y="854"/>
                </a:lnTo>
                <a:lnTo>
                  <a:pt x="74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301760" y="654120"/>
            <a:ext cx="106668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225440" y="107316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562040" y="1371600"/>
            <a:ext cx="343080" cy="1552680"/>
          </a:xfrm>
          <a:custGeom>
            <a:avLst/>
            <a:gdLst/>
            <a:ahLst/>
            <a:rect l="l" t="t" r="r" b="b"/>
            <a:pathLst>
              <a:path w="216" h="978">
                <a:moveTo>
                  <a:pt x="209" y="978"/>
                </a:moveTo>
                <a:lnTo>
                  <a:pt x="216" y="0"/>
                </a:lnTo>
                <a:lnTo>
                  <a:pt x="0" y="39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931000" y="106524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95960" y="1397160"/>
            <a:ext cx="1315800" cy="1535040"/>
          </a:xfrm>
          <a:custGeom>
            <a:avLst/>
            <a:gdLst/>
            <a:ahLst/>
            <a:rect l="l" t="t" r="r" b="b"/>
            <a:pathLst>
              <a:path w="829" h="967">
                <a:moveTo>
                  <a:pt x="829" y="967"/>
                </a:moveTo>
                <a:lnTo>
                  <a:pt x="828" y="0"/>
                </a:lnTo>
                <a:lnTo>
                  <a:pt x="0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1140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01696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419120" y="1960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116000" y="836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940000" y="4624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460840" y="3949560"/>
            <a:ext cx="1703520" cy="2411640"/>
          </a:xfrm>
          <a:custGeom>
            <a:avLst/>
            <a:gdLst/>
            <a:ahLst/>
            <a:rect l="l" t="t" r="r" b="b"/>
            <a:pathLst>
              <a:path w="1073" h="1519">
                <a:moveTo>
                  <a:pt x="729" y="1519"/>
                </a:moveTo>
                <a:lnTo>
                  <a:pt x="739" y="582"/>
                </a:lnTo>
                <a:lnTo>
                  <a:pt x="0" y="208"/>
                </a:lnTo>
                <a:lnTo>
                  <a:pt x="200" y="0"/>
                </a:lnTo>
                <a:lnTo>
                  <a:pt x="929" y="287"/>
                </a:lnTo>
                <a:lnTo>
                  <a:pt x="1073" y="1071"/>
                </a:lnTo>
                <a:lnTo>
                  <a:pt x="729" y="15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333440" y="4379760"/>
            <a:ext cx="1163520" cy="1943280"/>
          </a:xfrm>
          <a:custGeom>
            <a:avLst/>
            <a:gdLst/>
            <a:ahLst/>
            <a:rect l="l" t="t" r="r" b="b"/>
            <a:pathLst>
              <a:path w="733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733" y="854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961240" y="456876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295960" y="4191120"/>
            <a:ext cx="1344600" cy="2190600"/>
          </a:xfrm>
          <a:custGeom>
            <a:avLst/>
            <a:gdLst/>
            <a:ahLst/>
            <a:rect l="l" t="t" r="r" b="b"/>
            <a:pathLst>
              <a:path w="847" h="1380">
                <a:moveTo>
                  <a:pt x="840" y="1380"/>
                </a:moveTo>
                <a:lnTo>
                  <a:pt x="847" y="40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690600" y="5778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225440" y="457344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231920" y="4867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104840" y="43768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098360" y="4697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1400" y="35989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016960" y="35989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6104520" y="1339920"/>
            <a:ext cx="336960" cy="365400"/>
            <a:chOff x="6104520" y="1339920"/>
            <a:chExt cx="336960" cy="365400"/>
          </a:xfrm>
        </p:grpSpPr>
        <p:sp>
          <p:nvSpPr>
            <p:cNvPr id="659" name=""/>
            <p:cNvSpPr/>
            <p:nvPr/>
          </p:nvSpPr>
          <p:spPr>
            <a:xfrm rot="16735200">
              <a:off x="6085080" y="14860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rot="12870600">
              <a:off x="6093720" y="14821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1938240" y="747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987880" y="620640"/>
            <a:ext cx="106704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6637320" y="714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114960" y="4102200"/>
            <a:ext cx="106704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751440" y="4195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314360" y="4165560"/>
            <a:ext cx="106704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004840" y="42591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724360" y="7650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127120" y="1963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148000" y="41702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626160" y="42339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882800" y="4221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88280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1140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01696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1654200" y="879480"/>
            <a:ext cx="857160" cy="206064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613560" y="1403280"/>
            <a:ext cx="279360" cy="1495440"/>
          </a:xfrm>
          <a:custGeom>
            <a:avLst/>
            <a:gdLst/>
            <a:ahLst/>
            <a:rect l="l" t="t" r="r" b="b"/>
            <a:pathLst>
              <a:path w="176" h="942">
                <a:moveTo>
                  <a:pt x="0" y="942"/>
                </a:moveTo>
                <a:lnTo>
                  <a:pt x="3" y="0"/>
                </a:lnTo>
                <a:lnTo>
                  <a:pt x="176" y="306"/>
                </a:lnTo>
                <a:lnTo>
                  <a:pt x="0" y="9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228680" y="1063800"/>
            <a:ext cx="652680" cy="622080"/>
          </a:xfrm>
          <a:custGeom>
            <a:avLst/>
            <a:gdLst/>
            <a:ahLst/>
            <a:rect l="l" t="t" r="r" b="b"/>
            <a:pathLst>
              <a:path w="411" h="392">
                <a:moveTo>
                  <a:pt x="0" y="392"/>
                </a:moveTo>
                <a:lnTo>
                  <a:pt x="411" y="203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959440" y="1057320"/>
            <a:ext cx="620640" cy="635040"/>
          </a:xfrm>
          <a:custGeom>
            <a:avLst/>
            <a:gdLst/>
            <a:ahLst/>
            <a:rect l="l" t="t" r="r" b="b"/>
            <a:pathLst>
              <a:path w="391" h="400">
                <a:moveTo>
                  <a:pt x="4" y="400"/>
                </a:moveTo>
                <a:lnTo>
                  <a:pt x="391" y="19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539720" y="739800"/>
            <a:ext cx="35424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607080" y="1349280"/>
            <a:ext cx="349200" cy="1575000"/>
          </a:xfrm>
          <a:custGeom>
            <a:avLst/>
            <a:gdLst/>
            <a:ahLst/>
            <a:rect l="l" t="t" r="r" b="b"/>
            <a:pathLst>
              <a:path w="220" h="992">
                <a:moveTo>
                  <a:pt x="0" y="992"/>
                </a:moveTo>
                <a:lnTo>
                  <a:pt x="8" y="0"/>
                </a:lnTo>
                <a:lnTo>
                  <a:pt x="220" y="4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632640" y="1312920"/>
            <a:ext cx="409680" cy="231840"/>
          </a:xfrm>
          <a:custGeom>
            <a:avLst/>
            <a:gdLst/>
            <a:ahLst/>
            <a:rect l="l" t="t" r="r" b="b"/>
            <a:pathLst>
              <a:path w="258" h="146">
                <a:moveTo>
                  <a:pt x="0" y="0"/>
                </a:moveTo>
                <a:lnTo>
                  <a:pt x="258" y="146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637320" y="1079640"/>
            <a:ext cx="614520" cy="244440"/>
          </a:xfrm>
          <a:custGeom>
            <a:avLst/>
            <a:gdLst/>
            <a:ahLst/>
            <a:rect l="l" t="t" r="r" b="b"/>
            <a:pathLst>
              <a:path w="387" h="154">
                <a:moveTo>
                  <a:pt x="0" y="154"/>
                </a:moveTo>
                <a:lnTo>
                  <a:pt x="38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40328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068480" y="83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027840" y="83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956280" y="19382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301760" y="654120"/>
            <a:ext cx="106668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938240" y="747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054840" y="646200"/>
            <a:ext cx="106668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57920" y="765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04000" cy="25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In 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all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 situations:</a:t>
            </a:r>
            <a:br>
              <a:rPr sz="1800"/>
            </a:b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- specified are two segments per linestring</a:t>
            </a:r>
            <a:br>
              <a:rPr sz="1800"/>
            </a:b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- but only the first segment, per linestring, including the arrow (to-vertex) of that first segment, is handled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So handled is where the two arrows meet 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or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 where one arrow meet the interior of the other, but anything related to a starting point of a segment is 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not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 handled (because handled in the ending point of the segment befo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49440" y="2997360"/>
            <a:ext cx="1498680" cy="3492360"/>
          </a:xfrm>
          <a:custGeom>
            <a:avLst/>
            <a:gdLst/>
            <a:ahLst/>
            <a:rect l="l" t="t" r="r" b="b"/>
            <a:pathLst>
              <a:path w="944" h="2200">
                <a:moveTo>
                  <a:pt x="15" y="2200"/>
                </a:moveTo>
                <a:lnTo>
                  <a:pt x="0" y="552"/>
                </a:lnTo>
                <a:lnTo>
                  <a:pt x="944" y="0"/>
                </a:lnTo>
                <a:lnTo>
                  <a:pt x="928" y="448"/>
                </a:lnTo>
                <a:lnTo>
                  <a:pt x="528" y="720"/>
                </a:lnTo>
                <a:lnTo>
                  <a:pt x="536" y="2030"/>
                </a:lnTo>
                <a:lnTo>
                  <a:pt x="15" y="220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5120" y="4865760"/>
            <a:ext cx="2112840" cy="874800"/>
          </a:xfrm>
          <a:custGeom>
            <a:avLst/>
            <a:gdLst/>
            <a:ahLst/>
            <a:rect l="l" t="t" r="r" b="b"/>
            <a:pathLst>
              <a:path w="1331" h="551">
                <a:moveTo>
                  <a:pt x="685" y="0"/>
                </a:moveTo>
                <a:lnTo>
                  <a:pt x="1331" y="303"/>
                </a:lnTo>
                <a:lnTo>
                  <a:pt x="1115" y="498"/>
                </a:lnTo>
                <a:lnTo>
                  <a:pt x="197" y="551"/>
                </a:lnTo>
                <a:lnTo>
                  <a:pt x="0" y="348"/>
                </a:lnTo>
                <a:lnTo>
                  <a:pt x="685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73200" y="2882880"/>
            <a:ext cx="1614600" cy="3640320"/>
          </a:xfrm>
          <a:custGeom>
            <a:avLst/>
            <a:gdLst/>
            <a:ahLst/>
            <a:rect l="l" t="t" r="r" b="b"/>
            <a:pathLst>
              <a:path w="1017" h="2293">
                <a:moveTo>
                  <a:pt x="0" y="2293"/>
                </a:moveTo>
                <a:lnTo>
                  <a:pt x="1" y="624"/>
                </a:lnTo>
                <a:lnTo>
                  <a:pt x="1017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5280" y="4851360"/>
            <a:ext cx="2374920" cy="58896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79520" y="3760920"/>
            <a:ext cx="1218960" cy="2671560"/>
          </a:xfrm>
          <a:custGeom>
            <a:avLst/>
            <a:gdLst/>
            <a:ahLst/>
            <a:rect l="l" t="t" r="r" b="b"/>
            <a:pathLst>
              <a:path w="768" h="1683">
                <a:moveTo>
                  <a:pt x="657" y="624"/>
                </a:moveTo>
                <a:lnTo>
                  <a:pt x="657" y="144"/>
                </a:lnTo>
                <a:lnTo>
                  <a:pt x="630" y="57"/>
                </a:lnTo>
                <a:lnTo>
                  <a:pt x="639" y="15"/>
                </a:lnTo>
                <a:lnTo>
                  <a:pt x="693" y="0"/>
                </a:lnTo>
                <a:lnTo>
                  <a:pt x="732" y="6"/>
                </a:lnTo>
                <a:lnTo>
                  <a:pt x="753" y="60"/>
                </a:lnTo>
                <a:lnTo>
                  <a:pt x="729" y="138"/>
                </a:lnTo>
                <a:lnTo>
                  <a:pt x="735" y="630"/>
                </a:lnTo>
                <a:lnTo>
                  <a:pt x="753" y="657"/>
                </a:lnTo>
                <a:lnTo>
                  <a:pt x="768" y="693"/>
                </a:lnTo>
                <a:lnTo>
                  <a:pt x="750" y="741"/>
                </a:lnTo>
                <a:lnTo>
                  <a:pt x="732" y="762"/>
                </a:lnTo>
                <a:lnTo>
                  <a:pt x="729" y="1683"/>
                </a:lnTo>
                <a:lnTo>
                  <a:pt x="657" y="1683"/>
                </a:lnTo>
                <a:lnTo>
                  <a:pt x="654" y="762"/>
                </a:lnTo>
                <a:lnTo>
                  <a:pt x="45" y="1065"/>
                </a:lnTo>
                <a:lnTo>
                  <a:pt x="0" y="981"/>
                </a:lnTo>
                <a:lnTo>
                  <a:pt x="657" y="624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560" y="4697280"/>
            <a:ext cx="79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to the 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61640" y="4768920"/>
            <a:ext cx="105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from the 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(4 segments m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3924000" y="3860280"/>
            <a:ext cx="52196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Q crosses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left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right or right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lef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95280" y="4145040"/>
            <a:ext cx="3805200" cy="107460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515960" y="5224320"/>
            <a:ext cx="2328840" cy="122904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547640" y="5235480"/>
            <a:ext cx="2094120" cy="11383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727200" y="4032360"/>
            <a:ext cx="3403440" cy="120312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203920" y="4313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088000" y="5783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1028880" y="914400"/>
            <a:ext cx="1482480" cy="2025720"/>
          </a:xfrm>
          <a:custGeom>
            <a:avLst/>
            <a:gdLst/>
            <a:ahLst/>
            <a:rect l="l" t="t" r="r" b="b"/>
            <a:pathLst>
              <a:path w="934" h="1276">
                <a:moveTo>
                  <a:pt x="539" y="1276"/>
                </a:moveTo>
                <a:lnTo>
                  <a:pt x="530" y="298"/>
                </a:lnTo>
                <a:lnTo>
                  <a:pt x="168" y="792"/>
                </a:lnTo>
                <a:lnTo>
                  <a:pt x="0" y="600"/>
                </a:lnTo>
                <a:lnTo>
                  <a:pt x="288" y="0"/>
                </a:lnTo>
                <a:lnTo>
                  <a:pt x="862" y="27"/>
                </a:lnTo>
                <a:lnTo>
                  <a:pt x="934" y="711"/>
                </a:lnTo>
                <a:lnTo>
                  <a:pt x="539" y="127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96880" y="1386000"/>
            <a:ext cx="2629080" cy="31572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244520" y="1387440"/>
            <a:ext cx="649440" cy="1568520"/>
          </a:xfrm>
          <a:custGeom>
            <a:avLst/>
            <a:gdLst/>
            <a:ahLst/>
            <a:rect l="l" t="t" r="r" b="b"/>
            <a:pathLst>
              <a:path w="409" h="988">
                <a:moveTo>
                  <a:pt x="409" y="988"/>
                </a:moveTo>
                <a:lnTo>
                  <a:pt x="402" y="0"/>
                </a:lnTo>
                <a:lnTo>
                  <a:pt x="0" y="57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332000" y="2320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079800" y="1312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85800" y="1397160"/>
            <a:ext cx="2362320" cy="57132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042920" y="1700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655640" y="4322880"/>
            <a:ext cx="857520" cy="206028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98320" y="48290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541520" y="4183200"/>
            <a:ext cx="35388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953720" y="5816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290760" y="49132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627200" y="39844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87240" y="4840200"/>
            <a:ext cx="236232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044360" y="5143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591240" y="4863960"/>
            <a:ext cx="685800" cy="1552680"/>
          </a:xfrm>
          <a:custGeom>
            <a:avLst/>
            <a:gdLst/>
            <a:ahLst/>
            <a:rect l="l" t="t" r="r" b="b"/>
            <a:pathLst>
              <a:path w="432" h="978">
                <a:moveTo>
                  <a:pt x="9" y="978"/>
                </a:moveTo>
                <a:lnTo>
                  <a:pt x="0" y="0"/>
                </a:lnTo>
                <a:lnTo>
                  <a:pt x="432" y="96"/>
                </a:lnTo>
                <a:lnTo>
                  <a:pt x="296" y="848"/>
                </a:lnTo>
                <a:lnTo>
                  <a:pt x="9" y="97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318280" y="4836960"/>
            <a:ext cx="262872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603840" y="4884840"/>
            <a:ext cx="800280" cy="1568520"/>
          </a:xfrm>
          <a:custGeom>
            <a:avLst/>
            <a:gdLst/>
            <a:ahLst/>
            <a:rect l="l" t="t" r="r" b="b"/>
            <a:pathLst>
              <a:path w="504" h="988">
                <a:moveTo>
                  <a:pt x="7" y="988"/>
                </a:moveTo>
                <a:lnTo>
                  <a:pt x="0" y="0"/>
                </a:lnTo>
                <a:lnTo>
                  <a:pt x="504" y="11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673320" y="5850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407200" y="4848120"/>
            <a:ext cx="236196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763960" y="517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892840" y="838080"/>
            <a:ext cx="1326960" cy="2087640"/>
          </a:xfrm>
          <a:custGeom>
            <a:avLst/>
            <a:gdLst/>
            <a:ahLst/>
            <a:rect l="l" t="t" r="r" b="b"/>
            <a:pathLst>
              <a:path w="836" h="1315">
                <a:moveTo>
                  <a:pt x="441" y="1315"/>
                </a:moveTo>
                <a:lnTo>
                  <a:pt x="432" y="337"/>
                </a:lnTo>
                <a:lnTo>
                  <a:pt x="0" y="472"/>
                </a:lnTo>
                <a:lnTo>
                  <a:pt x="64" y="0"/>
                </a:lnTo>
                <a:lnTo>
                  <a:pt x="764" y="66"/>
                </a:lnTo>
                <a:lnTo>
                  <a:pt x="836" y="750"/>
                </a:lnTo>
                <a:lnTo>
                  <a:pt x="441" y="131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5305320" y="13334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651640" y="1373040"/>
            <a:ext cx="950760" cy="1568520"/>
          </a:xfrm>
          <a:custGeom>
            <a:avLst/>
            <a:gdLst/>
            <a:ahLst/>
            <a:rect l="l" t="t" r="r" b="b"/>
            <a:pathLst>
              <a:path w="599" h="988">
                <a:moveTo>
                  <a:pt x="599" y="988"/>
                </a:moveTo>
                <a:lnTo>
                  <a:pt x="592" y="0"/>
                </a:lnTo>
                <a:lnTo>
                  <a:pt x="0" y="1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660360" y="2346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7970760" y="14558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976880" y="4913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394240" y="1344600"/>
            <a:ext cx="236232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751360" y="1673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6117480" y="1215720"/>
            <a:ext cx="336960" cy="365400"/>
            <a:chOff x="6117480" y="1215720"/>
            <a:chExt cx="336960" cy="365400"/>
          </a:xfrm>
        </p:grpSpPr>
        <p:sp>
          <p:nvSpPr>
            <p:cNvPr id="736" name=""/>
            <p:cNvSpPr/>
            <p:nvPr/>
          </p:nvSpPr>
          <p:spPr>
            <a:xfrm rot="16735200">
              <a:off x="6098040" y="13618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12870600">
              <a:off x="6106680" y="13579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0313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117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0313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84280" y="4797360"/>
            <a:ext cx="1323720" cy="54000"/>
          </a:xfrm>
          <a:custGeom>
            <a:avLst/>
            <a:gdLst/>
            <a:ahLst/>
            <a:rect l="l" t="t" r="r" b="b"/>
            <a:pathLst>
              <a:path w="834" h="34">
                <a:moveTo>
                  <a:pt x="834" y="0"/>
                </a:moveTo>
                <a:lnTo>
                  <a:pt x="0" y="34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881360" y="3619440"/>
            <a:ext cx="10800" cy="1177920"/>
          </a:xfrm>
          <a:custGeom>
            <a:avLst/>
            <a:gdLst/>
            <a:ahLst/>
            <a:rect l="l" t="t" r="r" b="b"/>
            <a:pathLst>
              <a:path w="7" h="742">
                <a:moveTo>
                  <a:pt x="0" y="742"/>
                </a:moveTo>
                <a:lnTo>
                  <a:pt x="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882800" y="4533840"/>
            <a:ext cx="1317600" cy="298440"/>
          </a:xfrm>
          <a:custGeom>
            <a:avLst/>
            <a:gdLst/>
            <a:ahLst/>
            <a:rect l="l" t="t" r="r" b="b"/>
            <a:pathLst>
              <a:path w="830" h="188">
                <a:moveTo>
                  <a:pt x="0" y="188"/>
                </a:moveTo>
                <a:lnTo>
                  <a:pt x="83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908000" y="3911760"/>
            <a:ext cx="987480" cy="895320"/>
          </a:xfrm>
          <a:custGeom>
            <a:avLst/>
            <a:gdLst/>
            <a:ahLst/>
            <a:rect l="l" t="t" r="r" b="b"/>
            <a:pathLst>
              <a:path w="622" h="564">
                <a:moveTo>
                  <a:pt x="0" y="564"/>
                </a:moveTo>
                <a:lnTo>
                  <a:pt x="622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908000" y="4813200"/>
            <a:ext cx="1317960" cy="3240"/>
          </a:xfrm>
          <a:custGeom>
            <a:avLst/>
            <a:gdLst/>
            <a:ahLst/>
            <a:rect l="l" t="t" r="r" b="b"/>
            <a:pathLst>
              <a:path w="830" h="2">
                <a:moveTo>
                  <a:pt x="0" y="2"/>
                </a:moveTo>
                <a:lnTo>
                  <a:pt x="83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/>
          <p:nvPr/>
        </p:nvSpPr>
        <p:spPr>
          <a:xfrm>
            <a:off x="1854360" y="1346040"/>
            <a:ext cx="571320" cy="1554480"/>
          </a:xfrm>
          <a:custGeom>
            <a:avLst/>
            <a:gdLst/>
            <a:ahLst/>
            <a:rect l="l" t="t" r="r" b="b"/>
            <a:pathLst>
              <a:path w="360" h="979">
                <a:moveTo>
                  <a:pt x="360" y="552"/>
                </a:moveTo>
                <a:lnTo>
                  <a:pt x="20" y="979"/>
                </a:lnTo>
                <a:lnTo>
                  <a:pt x="0" y="0"/>
                </a:lnTo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598320" y="138420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884240" y="1368360"/>
            <a:ext cx="642960" cy="1568520"/>
          </a:xfrm>
          <a:custGeom>
            <a:avLst/>
            <a:gdLst/>
            <a:ahLst/>
            <a:rect l="l" t="t" r="r" b="b"/>
            <a:pathLst>
              <a:path w="405" h="988">
                <a:moveTo>
                  <a:pt x="7" y="988"/>
                </a:moveTo>
                <a:lnTo>
                  <a:pt x="0" y="0"/>
                </a:lnTo>
                <a:lnTo>
                  <a:pt x="405" y="59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953720" y="233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614680" y="20923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3276720" y="1455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87240" y="1395360"/>
            <a:ext cx="236232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044360" y="1660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1028880" y="914400"/>
            <a:ext cx="1482480" cy="2025720"/>
          </a:xfrm>
          <a:custGeom>
            <a:avLst/>
            <a:gdLst/>
            <a:ahLst/>
            <a:rect l="l" t="t" r="r" b="b"/>
            <a:pathLst>
              <a:path w="934" h="1276">
                <a:moveTo>
                  <a:pt x="539" y="1276"/>
                </a:moveTo>
                <a:lnTo>
                  <a:pt x="530" y="298"/>
                </a:lnTo>
                <a:lnTo>
                  <a:pt x="168" y="792"/>
                </a:lnTo>
                <a:lnTo>
                  <a:pt x="0" y="600"/>
                </a:lnTo>
                <a:lnTo>
                  <a:pt x="288" y="0"/>
                </a:lnTo>
                <a:lnTo>
                  <a:pt x="862" y="27"/>
                </a:lnTo>
                <a:lnTo>
                  <a:pt x="934" y="711"/>
                </a:lnTo>
                <a:lnTo>
                  <a:pt x="539" y="127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96880" y="1386000"/>
            <a:ext cx="2629080" cy="31572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244520" y="1387440"/>
            <a:ext cx="649440" cy="1568520"/>
          </a:xfrm>
          <a:custGeom>
            <a:avLst/>
            <a:gdLst/>
            <a:ahLst/>
            <a:rect l="l" t="t" r="r" b="b"/>
            <a:pathLst>
              <a:path w="409" h="988">
                <a:moveTo>
                  <a:pt x="409" y="988"/>
                </a:moveTo>
                <a:lnTo>
                  <a:pt x="402" y="0"/>
                </a:lnTo>
                <a:lnTo>
                  <a:pt x="0" y="57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33200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68360" y="14130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85800" y="888840"/>
            <a:ext cx="236232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042920" y="1700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655640" y="4322880"/>
            <a:ext cx="857520" cy="206028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98320" y="48290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541520" y="4183200"/>
            <a:ext cx="35388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953720" y="5816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415800" y="49258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627200" y="3984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044360" y="5143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591240" y="4863960"/>
            <a:ext cx="685800" cy="1552680"/>
          </a:xfrm>
          <a:custGeom>
            <a:avLst/>
            <a:gdLst/>
            <a:ahLst/>
            <a:rect l="l" t="t" r="r" b="b"/>
            <a:pathLst>
              <a:path w="432" h="978">
                <a:moveTo>
                  <a:pt x="9" y="978"/>
                </a:moveTo>
                <a:lnTo>
                  <a:pt x="0" y="0"/>
                </a:lnTo>
                <a:lnTo>
                  <a:pt x="432" y="96"/>
                </a:lnTo>
                <a:lnTo>
                  <a:pt x="296" y="848"/>
                </a:lnTo>
                <a:lnTo>
                  <a:pt x="9" y="97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318280" y="4836960"/>
            <a:ext cx="262872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6603840" y="4884840"/>
            <a:ext cx="800280" cy="1568520"/>
          </a:xfrm>
          <a:custGeom>
            <a:avLst/>
            <a:gdLst/>
            <a:ahLst/>
            <a:rect l="l" t="t" r="r" b="b"/>
            <a:pathLst>
              <a:path w="504" h="988">
                <a:moveTo>
                  <a:pt x="7" y="988"/>
                </a:moveTo>
                <a:lnTo>
                  <a:pt x="0" y="0"/>
                </a:lnTo>
                <a:lnTo>
                  <a:pt x="504" y="11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673320" y="5850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763960" y="517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892840" y="838080"/>
            <a:ext cx="1326960" cy="2087640"/>
          </a:xfrm>
          <a:custGeom>
            <a:avLst/>
            <a:gdLst/>
            <a:ahLst/>
            <a:rect l="l" t="t" r="r" b="b"/>
            <a:pathLst>
              <a:path w="836" h="1315">
                <a:moveTo>
                  <a:pt x="441" y="1315"/>
                </a:moveTo>
                <a:lnTo>
                  <a:pt x="432" y="337"/>
                </a:lnTo>
                <a:lnTo>
                  <a:pt x="0" y="472"/>
                </a:lnTo>
                <a:lnTo>
                  <a:pt x="64" y="0"/>
                </a:lnTo>
                <a:lnTo>
                  <a:pt x="764" y="66"/>
                </a:lnTo>
                <a:lnTo>
                  <a:pt x="836" y="750"/>
                </a:lnTo>
                <a:lnTo>
                  <a:pt x="441" y="131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305320" y="13334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651640" y="1373040"/>
            <a:ext cx="950760" cy="1568520"/>
          </a:xfrm>
          <a:custGeom>
            <a:avLst/>
            <a:gdLst/>
            <a:ahLst/>
            <a:rect l="l" t="t" r="r" b="b"/>
            <a:pathLst>
              <a:path w="599" h="988">
                <a:moveTo>
                  <a:pt x="599" y="988"/>
                </a:moveTo>
                <a:lnTo>
                  <a:pt x="592" y="0"/>
                </a:lnTo>
                <a:lnTo>
                  <a:pt x="0" y="1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660360" y="2346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148360" y="4913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5364000" y="1671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751360" y="1673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0313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117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0313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435640" y="824040"/>
            <a:ext cx="236232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700200" y="4357800"/>
            <a:ext cx="236196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450040" y="4317840"/>
            <a:ext cx="236196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6759000" y="4746600"/>
            <a:ext cx="309600" cy="363600"/>
            <a:chOff x="6759000" y="4746600"/>
            <a:chExt cx="309600" cy="363600"/>
          </a:xfrm>
        </p:grpSpPr>
        <p:sp>
          <p:nvSpPr>
            <p:cNvPr id="794" name=""/>
            <p:cNvSpPr/>
            <p:nvPr/>
          </p:nvSpPr>
          <p:spPr>
            <a:xfrm rot="18973800">
              <a:off x="6734160" y="48895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rot="15109200">
              <a:off x="6743520" y="48916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1854360" y="1346040"/>
            <a:ext cx="571320" cy="1554480"/>
          </a:xfrm>
          <a:custGeom>
            <a:avLst/>
            <a:gdLst/>
            <a:ahLst/>
            <a:rect l="l" t="t" r="r" b="b"/>
            <a:pathLst>
              <a:path w="360" h="979">
                <a:moveTo>
                  <a:pt x="360" y="552"/>
                </a:moveTo>
                <a:lnTo>
                  <a:pt x="20" y="979"/>
                </a:lnTo>
                <a:lnTo>
                  <a:pt x="0" y="0"/>
                </a:lnTo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598320" y="138420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884240" y="1368360"/>
            <a:ext cx="642960" cy="1568520"/>
          </a:xfrm>
          <a:custGeom>
            <a:avLst/>
            <a:gdLst/>
            <a:ahLst/>
            <a:rect l="l" t="t" r="r" b="b"/>
            <a:pathLst>
              <a:path w="405" h="988">
                <a:moveTo>
                  <a:pt x="7" y="988"/>
                </a:moveTo>
                <a:lnTo>
                  <a:pt x="0" y="0"/>
                </a:lnTo>
                <a:lnTo>
                  <a:pt x="405" y="59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1953720" y="233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614680" y="20923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95280" y="1455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1044360" y="1660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685800" y="888840"/>
            <a:ext cx="236232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(4 segments m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3924000" y="3860280"/>
            <a:ext cx="52196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ternative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395280" y="4145040"/>
            <a:ext cx="3805200" cy="107460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515960" y="5224320"/>
            <a:ext cx="2328840" cy="122904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547640" y="5235480"/>
            <a:ext cx="2094120" cy="11383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7200" y="4032360"/>
            <a:ext cx="3403440" cy="120312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203920" y="4313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088000" y="5783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/>
          <p:nvPr/>
        </p:nvSpPr>
        <p:spPr>
          <a:xfrm>
            <a:off x="1060560" y="9223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282680" y="1380960"/>
            <a:ext cx="671400" cy="879480"/>
          </a:xfrm>
          <a:custGeom>
            <a:avLst/>
            <a:gdLst/>
            <a:ahLst/>
            <a:rect l="l" t="t" r="r" b="b"/>
            <a:pathLst>
              <a:path w="423" h="554">
                <a:moveTo>
                  <a:pt x="196" y="554"/>
                </a:moveTo>
                <a:lnTo>
                  <a:pt x="423" y="0"/>
                </a:lnTo>
                <a:lnTo>
                  <a:pt x="0" y="358"/>
                </a:lnTo>
                <a:lnTo>
                  <a:pt x="196" y="5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225440" y="1374840"/>
            <a:ext cx="668520" cy="942840"/>
          </a:xfrm>
          <a:custGeom>
            <a:avLst/>
            <a:gdLst/>
            <a:ahLst/>
            <a:rect l="l" t="t" r="r" b="b"/>
            <a:pathLst>
              <a:path w="421" h="594">
                <a:moveTo>
                  <a:pt x="220" y="594"/>
                </a:moveTo>
                <a:lnTo>
                  <a:pt x="421" y="0"/>
                </a:lnTo>
                <a:lnTo>
                  <a:pt x="0" y="39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927000" y="137160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422360" y="1844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987640" y="6467400"/>
            <a:ext cx="246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Alternative approach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892160" y="73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5783400" y="950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931000" y="749160"/>
            <a:ext cx="745920" cy="1540080"/>
          </a:xfrm>
          <a:custGeom>
            <a:avLst/>
            <a:gdLst/>
            <a:ahLst/>
            <a:rect l="l" t="t" r="r" b="b"/>
            <a:pathLst>
              <a:path w="470" h="970">
                <a:moveTo>
                  <a:pt x="243" y="970"/>
                </a:moveTo>
                <a:lnTo>
                  <a:pt x="470" y="416"/>
                </a:lnTo>
                <a:lnTo>
                  <a:pt x="0" y="0"/>
                </a:lnTo>
                <a:lnTo>
                  <a:pt x="0" y="696"/>
                </a:lnTo>
                <a:lnTo>
                  <a:pt x="243" y="97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931000" y="749160"/>
            <a:ext cx="685800" cy="1597320"/>
          </a:xfrm>
          <a:custGeom>
            <a:avLst/>
            <a:gdLst/>
            <a:ahLst/>
            <a:rect l="l" t="t" r="r" b="b"/>
            <a:pathLst>
              <a:path w="432" h="1006">
                <a:moveTo>
                  <a:pt x="231" y="1006"/>
                </a:moveTo>
                <a:lnTo>
                  <a:pt x="432" y="41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649840" y="140004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678000" y="2336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145200" y="1873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61500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046160" y="4379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600200" y="4025880"/>
            <a:ext cx="863640" cy="812880"/>
          </a:xfrm>
          <a:custGeom>
            <a:avLst/>
            <a:gdLst/>
            <a:ahLst/>
            <a:rect l="l" t="t" r="r" b="b"/>
            <a:pathLst>
              <a:path w="544" h="512">
                <a:moveTo>
                  <a:pt x="0" y="0"/>
                </a:moveTo>
                <a:lnTo>
                  <a:pt x="214" y="512"/>
                </a:lnTo>
                <a:lnTo>
                  <a:pt x="544" y="120"/>
                </a:lnTo>
                <a:lnTo>
                  <a:pt x="424" y="96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562040" y="3873600"/>
            <a:ext cx="978120" cy="958680"/>
          </a:xfrm>
          <a:custGeom>
            <a:avLst/>
            <a:gdLst/>
            <a:ahLst/>
            <a:rect l="l" t="t" r="r" b="b"/>
            <a:pathLst>
              <a:path w="616" h="604">
                <a:moveTo>
                  <a:pt x="616" y="208"/>
                </a:moveTo>
                <a:lnTo>
                  <a:pt x="200" y="604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912960" y="482904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940760" y="5765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878120" y="4194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5757840" y="441000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981760" y="4869000"/>
            <a:ext cx="1206360" cy="1049040"/>
          </a:xfrm>
          <a:custGeom>
            <a:avLst/>
            <a:gdLst/>
            <a:ahLst/>
            <a:rect l="l" t="t" r="r" b="b"/>
            <a:pathLst>
              <a:path w="760" h="661">
                <a:moveTo>
                  <a:pt x="760" y="493"/>
                </a:moveTo>
                <a:lnTo>
                  <a:pt x="422" y="0"/>
                </a:lnTo>
                <a:lnTo>
                  <a:pt x="0" y="357"/>
                </a:lnTo>
                <a:lnTo>
                  <a:pt x="296" y="661"/>
                </a:lnTo>
                <a:lnTo>
                  <a:pt x="760" y="49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5956200" y="4862520"/>
            <a:ext cx="1282680" cy="928800"/>
          </a:xfrm>
          <a:custGeom>
            <a:avLst/>
            <a:gdLst/>
            <a:ahLst/>
            <a:rect l="l" t="t" r="r" b="b"/>
            <a:pathLst>
              <a:path w="808" h="585">
                <a:moveTo>
                  <a:pt x="808" y="585"/>
                </a:moveTo>
                <a:lnTo>
                  <a:pt x="400" y="0"/>
                </a:lnTo>
                <a:lnTo>
                  <a:pt x="0" y="37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5624640" y="485928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6652440" y="5796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6119640" y="5332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589800" y="422424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136600" y="4221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56852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63560" y="16714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941400" y="5124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1476360" y="36781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5435640" y="5119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7297560" y="5751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6103800" y="2349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5508720" y="174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87640" y="176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004000" y="176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87640" y="36464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5004000" y="36464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2987640" y="6467400"/>
            <a:ext cx="246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Alternative approach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042920" y="950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901800" y="1066680"/>
            <a:ext cx="1270080" cy="1143000"/>
          </a:xfrm>
          <a:custGeom>
            <a:avLst/>
            <a:gdLst/>
            <a:ahLst/>
            <a:rect l="l" t="t" r="r" b="b"/>
            <a:pathLst>
              <a:path w="800" h="720">
                <a:moveTo>
                  <a:pt x="800" y="720"/>
                </a:moveTo>
                <a:lnTo>
                  <a:pt x="652" y="216"/>
                </a:lnTo>
                <a:lnTo>
                  <a:pt x="0" y="0"/>
                </a:lnTo>
                <a:lnTo>
                  <a:pt x="208" y="640"/>
                </a:lnTo>
                <a:lnTo>
                  <a:pt x="800" y="7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901800" y="1079640"/>
            <a:ext cx="1333440" cy="1244520"/>
          </a:xfrm>
          <a:custGeom>
            <a:avLst/>
            <a:gdLst/>
            <a:ahLst/>
            <a:rect l="l" t="t" r="r" b="b"/>
            <a:pathLst>
              <a:path w="840" h="784">
                <a:moveTo>
                  <a:pt x="840" y="784"/>
                </a:moveTo>
                <a:lnTo>
                  <a:pt x="614" y="204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909720" y="140004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1937520" y="2336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1404720" y="1873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187488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2282760" y="23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70040" y="1697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287640" y="176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88000" y="36464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004360" y="36464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057320" y="44179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192320" y="4870440"/>
            <a:ext cx="714240" cy="812880"/>
          </a:xfrm>
          <a:custGeom>
            <a:avLst/>
            <a:gdLst/>
            <a:ahLst/>
            <a:rect l="l" t="t" r="r" b="b"/>
            <a:pathLst>
              <a:path w="450" h="512">
                <a:moveTo>
                  <a:pt x="428" y="512"/>
                </a:moveTo>
                <a:lnTo>
                  <a:pt x="450" y="0"/>
                </a:lnTo>
                <a:lnTo>
                  <a:pt x="0" y="176"/>
                </a:lnTo>
                <a:lnTo>
                  <a:pt x="16" y="456"/>
                </a:lnTo>
                <a:lnTo>
                  <a:pt x="428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192320" y="4915080"/>
            <a:ext cx="666720" cy="895320"/>
          </a:xfrm>
          <a:custGeom>
            <a:avLst/>
            <a:gdLst/>
            <a:ahLst/>
            <a:rect l="l" t="t" r="r" b="b"/>
            <a:pathLst>
              <a:path w="420" h="564">
                <a:moveTo>
                  <a:pt x="420" y="564"/>
                </a:moveTo>
                <a:lnTo>
                  <a:pt x="420" y="0"/>
                </a:lnTo>
                <a:lnTo>
                  <a:pt x="0" y="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936720" y="483696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1951920" y="58039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1368360" y="5353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889280" y="423216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5764320" y="950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5931000" y="1409760"/>
            <a:ext cx="714240" cy="879480"/>
          </a:xfrm>
          <a:custGeom>
            <a:avLst/>
            <a:gdLst/>
            <a:ahLst/>
            <a:rect l="l" t="t" r="r" b="b"/>
            <a:pathLst>
              <a:path w="450" h="554">
                <a:moveTo>
                  <a:pt x="223" y="554"/>
                </a:moveTo>
                <a:lnTo>
                  <a:pt x="450" y="0"/>
                </a:lnTo>
                <a:lnTo>
                  <a:pt x="0" y="176"/>
                </a:lnTo>
                <a:lnTo>
                  <a:pt x="16" y="456"/>
                </a:lnTo>
                <a:lnTo>
                  <a:pt x="223" y="5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5931000" y="1454040"/>
            <a:ext cx="666720" cy="943200"/>
          </a:xfrm>
          <a:custGeom>
            <a:avLst/>
            <a:gdLst/>
            <a:ahLst/>
            <a:rect l="l" t="t" r="r" b="b"/>
            <a:pathLst>
              <a:path w="420" h="594">
                <a:moveTo>
                  <a:pt x="219" y="594"/>
                </a:moveTo>
                <a:lnTo>
                  <a:pt x="420" y="0"/>
                </a:lnTo>
                <a:lnTo>
                  <a:pt x="0" y="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5630760" y="140004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6658920" y="2336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6126120" y="1873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59592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1242720" y="4834080"/>
            <a:ext cx="322560" cy="365760"/>
            <a:chOff x="1242720" y="4834080"/>
            <a:chExt cx="322560" cy="365760"/>
          </a:xfrm>
        </p:grpSpPr>
        <p:sp>
          <p:nvSpPr>
            <p:cNvPr id="883" name=""/>
            <p:cNvSpPr/>
            <p:nvPr/>
          </p:nvSpPr>
          <p:spPr>
            <a:xfrm rot="6243000">
              <a:off x="1233000" y="498060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 rot="2378400">
              <a:off x="1224720" y="498456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5" name=""/>
          <p:cNvGrpSpPr/>
          <p:nvPr/>
        </p:nvGrpSpPr>
        <p:grpSpPr>
          <a:xfrm>
            <a:off x="1692360" y="5173200"/>
            <a:ext cx="345240" cy="261720"/>
            <a:chOff x="1692360" y="5173200"/>
            <a:chExt cx="345240" cy="261720"/>
          </a:xfrm>
        </p:grpSpPr>
        <p:sp>
          <p:nvSpPr>
            <p:cNvPr id="886" name=""/>
            <p:cNvSpPr/>
            <p:nvPr/>
          </p:nvSpPr>
          <p:spPr>
            <a:xfrm rot="1855200">
              <a:off x="1685520" y="525996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rot="19590600">
              <a:off x="1687320" y="526932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6009120" y="1379520"/>
            <a:ext cx="328320" cy="365760"/>
            <a:chOff x="6009120" y="1379520"/>
            <a:chExt cx="328320" cy="365760"/>
          </a:xfrm>
        </p:grpSpPr>
        <p:sp>
          <p:nvSpPr>
            <p:cNvPr id="889" name=""/>
            <p:cNvSpPr/>
            <p:nvPr/>
          </p:nvSpPr>
          <p:spPr>
            <a:xfrm rot="6121800">
              <a:off x="6002280" y="152604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rot="2257200">
              <a:off x="5994000" y="1530360"/>
              <a:ext cx="358560" cy="7236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1" name=""/>
          <p:cNvSpPr/>
          <p:nvPr/>
        </p:nvSpPr>
        <p:spPr>
          <a:xfrm>
            <a:off x="6327720" y="2336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5435280" y="1670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780840" y="5137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1688760" y="5778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757840" y="4406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5873760" y="4878360"/>
            <a:ext cx="958680" cy="812880"/>
          </a:xfrm>
          <a:custGeom>
            <a:avLst/>
            <a:gdLst/>
            <a:ahLst/>
            <a:rect l="l" t="t" r="r" b="b"/>
            <a:pathLst>
              <a:path w="604" h="512">
                <a:moveTo>
                  <a:pt x="604" y="512"/>
                </a:moveTo>
                <a:lnTo>
                  <a:pt x="450" y="0"/>
                </a:lnTo>
                <a:lnTo>
                  <a:pt x="0" y="176"/>
                </a:lnTo>
                <a:lnTo>
                  <a:pt x="16" y="456"/>
                </a:lnTo>
                <a:lnTo>
                  <a:pt x="604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5873760" y="4923000"/>
            <a:ext cx="1022400" cy="857160"/>
          </a:xfrm>
          <a:custGeom>
            <a:avLst/>
            <a:gdLst/>
            <a:ahLst/>
            <a:rect l="l" t="t" r="r" b="b"/>
            <a:pathLst>
              <a:path w="644" h="540">
                <a:moveTo>
                  <a:pt x="644" y="540"/>
                </a:moveTo>
                <a:lnTo>
                  <a:pt x="420" y="0"/>
                </a:lnTo>
                <a:lnTo>
                  <a:pt x="0" y="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5624640" y="485604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6652440" y="5792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6068880" y="53420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6589800" y="4221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6047280" y="4852800"/>
            <a:ext cx="328320" cy="366120"/>
            <a:chOff x="6047280" y="4852800"/>
            <a:chExt cx="328320" cy="366120"/>
          </a:xfrm>
        </p:grpSpPr>
        <p:sp>
          <p:nvSpPr>
            <p:cNvPr id="903" name=""/>
            <p:cNvSpPr/>
            <p:nvPr/>
          </p:nvSpPr>
          <p:spPr>
            <a:xfrm rot="6121800">
              <a:off x="6040080" y="499932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rot="2257200">
              <a:off x="6031800" y="500364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6981840" y="57927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5486040" y="51451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5004360" y="1760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1060560" y="43941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1017720" y="4259160"/>
            <a:ext cx="874440" cy="851040"/>
          </a:xfrm>
          <a:custGeom>
            <a:avLst/>
            <a:gdLst/>
            <a:ahLst/>
            <a:rect l="l" t="t" r="r" b="b"/>
            <a:pathLst>
              <a:path w="551" h="536">
                <a:moveTo>
                  <a:pt x="0" y="536"/>
                </a:moveTo>
                <a:lnTo>
                  <a:pt x="551" y="374"/>
                </a:lnTo>
                <a:lnTo>
                  <a:pt x="135" y="0"/>
                </a:lnTo>
                <a:lnTo>
                  <a:pt x="0" y="53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939960" y="4259160"/>
            <a:ext cx="954000" cy="952560"/>
          </a:xfrm>
          <a:custGeom>
            <a:avLst/>
            <a:gdLst/>
            <a:ahLst/>
            <a:rect l="l" t="t" r="r" b="b"/>
            <a:pathLst>
              <a:path w="601" h="600">
                <a:moveTo>
                  <a:pt x="0" y="600"/>
                </a:moveTo>
                <a:lnTo>
                  <a:pt x="601" y="402"/>
                </a:lnTo>
                <a:lnTo>
                  <a:pt x="18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927000" y="484344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955160" y="5780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245960" y="4392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892160" y="42084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5808600" y="9223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816520" y="800280"/>
            <a:ext cx="811440" cy="1736640"/>
          </a:xfrm>
          <a:custGeom>
            <a:avLst/>
            <a:gdLst/>
            <a:ahLst/>
            <a:rect l="l" t="t" r="r" b="b"/>
            <a:pathLst>
              <a:path w="511" h="1094">
                <a:moveTo>
                  <a:pt x="480" y="1094"/>
                </a:moveTo>
                <a:lnTo>
                  <a:pt x="511" y="374"/>
                </a:lnTo>
                <a:lnTo>
                  <a:pt x="95" y="0"/>
                </a:lnTo>
                <a:lnTo>
                  <a:pt x="0" y="694"/>
                </a:lnTo>
                <a:lnTo>
                  <a:pt x="480" y="109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929200" y="787320"/>
            <a:ext cx="674640" cy="1812960"/>
          </a:xfrm>
          <a:custGeom>
            <a:avLst/>
            <a:gdLst/>
            <a:ahLst/>
            <a:rect l="l" t="t" r="r" b="b"/>
            <a:pathLst>
              <a:path w="425" h="1142">
                <a:moveTo>
                  <a:pt x="425" y="1142"/>
                </a:moveTo>
                <a:lnTo>
                  <a:pt x="417" y="40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5675400" y="137160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78744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024600" y="1803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6640560" y="7365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987640" y="6467400"/>
            <a:ext cx="246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Alternative approach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058760" y="9223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1257480" y="1380960"/>
            <a:ext cx="633240" cy="1143000"/>
          </a:xfrm>
          <a:custGeom>
            <a:avLst/>
            <a:gdLst/>
            <a:ahLst/>
            <a:rect l="l" t="t" r="r" b="b"/>
            <a:pathLst>
              <a:path w="399" h="720">
                <a:moveTo>
                  <a:pt x="368" y="720"/>
                </a:moveTo>
                <a:lnTo>
                  <a:pt x="399" y="0"/>
                </a:lnTo>
                <a:lnTo>
                  <a:pt x="0" y="535"/>
                </a:lnTo>
                <a:lnTo>
                  <a:pt x="368" y="7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1231920" y="1425600"/>
            <a:ext cx="622440" cy="1174680"/>
          </a:xfrm>
          <a:custGeom>
            <a:avLst/>
            <a:gdLst/>
            <a:ahLst/>
            <a:rect l="l" t="t" r="r" b="b"/>
            <a:pathLst>
              <a:path w="392" h="740">
                <a:moveTo>
                  <a:pt x="392" y="740"/>
                </a:moveTo>
                <a:lnTo>
                  <a:pt x="384" y="0"/>
                </a:lnTo>
                <a:lnTo>
                  <a:pt x="0" y="53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925560" y="137160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03760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1274760" y="1803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1890720" y="7365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743040" y="1654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929880" y="5200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755280" y="49417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522760" y="14842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288000" y="1760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288000" y="36464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5004360" y="1760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1692360" y="1895040"/>
            <a:ext cx="345240" cy="261720"/>
            <a:chOff x="1692360" y="1895040"/>
            <a:chExt cx="345240" cy="261720"/>
          </a:xfrm>
        </p:grpSpPr>
        <p:sp>
          <p:nvSpPr>
            <p:cNvPr id="938" name=""/>
            <p:cNvSpPr/>
            <p:nvPr/>
          </p:nvSpPr>
          <p:spPr>
            <a:xfrm rot="1855200">
              <a:off x="1685520" y="198180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 rot="19590600">
              <a:off x="1687320" y="199116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6454800" y="1748880"/>
            <a:ext cx="345240" cy="261720"/>
            <a:chOff x="6454800" y="1748880"/>
            <a:chExt cx="345240" cy="261720"/>
          </a:xfrm>
        </p:grpSpPr>
        <p:sp>
          <p:nvSpPr>
            <p:cNvPr id="941" name=""/>
            <p:cNvSpPr/>
            <p:nvPr/>
          </p:nvSpPr>
          <p:spPr>
            <a:xfrm rot="1855200">
              <a:off x="6447960" y="183564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 rot="19590600">
              <a:off x="6449760" y="184500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"/>
          <p:cNvSpPr/>
          <p:nvPr/>
        </p:nvSpPr>
        <p:spPr>
          <a:xfrm>
            <a:off x="6443280" y="2608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4114800" y="3102120"/>
            <a:ext cx="4778280" cy="3300840"/>
          </a:xfrm>
          <a:prstGeom prst="rect">
            <a:avLst/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Alternative approach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11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4 layout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44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Left/right approac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6 * 4 case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24 cases (incl. co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3 * 2 case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6 cases (coll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5 * 2 case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10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Total ~40 c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llin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584280" y="3879720"/>
            <a:ext cx="1326960" cy="2102040"/>
          </a:xfrm>
          <a:custGeom>
            <a:avLst/>
            <a:gdLst/>
            <a:ahLst/>
            <a:rect l="l" t="t" r="r" b="b"/>
            <a:pathLst>
              <a:path w="836" h="1324">
                <a:moveTo>
                  <a:pt x="156" y="1324"/>
                </a:moveTo>
                <a:lnTo>
                  <a:pt x="0" y="752"/>
                </a:lnTo>
                <a:lnTo>
                  <a:pt x="828" y="0"/>
                </a:lnTo>
                <a:lnTo>
                  <a:pt x="836" y="684"/>
                </a:lnTo>
                <a:lnTo>
                  <a:pt x="156" y="13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96960" y="3811680"/>
            <a:ext cx="1239840" cy="2303280"/>
          </a:xfrm>
          <a:custGeom>
            <a:avLst/>
            <a:gdLst/>
            <a:ahLst/>
            <a:rect l="l" t="t" r="r" b="b"/>
            <a:pathLst>
              <a:path w="781" h="1451">
                <a:moveTo>
                  <a:pt x="777" y="0"/>
                </a:moveTo>
                <a:lnTo>
                  <a:pt x="781" y="735"/>
                </a:lnTo>
                <a:lnTo>
                  <a:pt x="0" y="145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994040" y="3397320"/>
            <a:ext cx="1395360" cy="3193920"/>
          </a:xfrm>
          <a:custGeom>
            <a:avLst/>
            <a:gdLst/>
            <a:ahLst/>
            <a:rect l="l" t="t" r="r" b="b"/>
            <a:pathLst>
              <a:path w="879" h="2012">
                <a:moveTo>
                  <a:pt x="24" y="2012"/>
                </a:moveTo>
                <a:lnTo>
                  <a:pt x="0" y="632"/>
                </a:lnTo>
                <a:lnTo>
                  <a:pt x="728" y="0"/>
                </a:lnTo>
                <a:lnTo>
                  <a:pt x="879" y="473"/>
                </a:lnTo>
                <a:lnTo>
                  <a:pt x="646" y="1615"/>
                </a:lnTo>
                <a:lnTo>
                  <a:pt x="24" y="201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1982880" y="3282840"/>
            <a:ext cx="1295280" cy="3378240"/>
          </a:xfrm>
          <a:custGeom>
            <a:avLst/>
            <a:gdLst/>
            <a:ahLst/>
            <a:rect l="l" t="t" r="r" b="b"/>
            <a:pathLst>
              <a:path w="816" h="2128">
                <a:moveTo>
                  <a:pt x="19" y="2128"/>
                </a:moveTo>
                <a:lnTo>
                  <a:pt x="0" y="709"/>
                </a:lnTo>
                <a:lnTo>
                  <a:pt x="8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ters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684360" y="3645000"/>
            <a:ext cx="2807280" cy="2773080"/>
            <a:chOff x="684360" y="3645000"/>
            <a:chExt cx="2807280" cy="2773080"/>
          </a:xfrm>
        </p:grpSpPr>
        <p:sp>
          <p:nvSpPr>
            <p:cNvPr id="179" name=""/>
            <p:cNvSpPr/>
            <p:nvPr/>
          </p:nvSpPr>
          <p:spPr>
            <a:xfrm>
              <a:off x="2070720" y="3809880"/>
              <a:ext cx="1065600" cy="2574000"/>
            </a:xfrm>
            <a:custGeom>
              <a:avLst/>
              <a:gdLst/>
              <a:ahLst/>
              <a:rect l="l" t="t" r="r" b="b"/>
              <a:pathLst>
                <a:path w="312" h="906">
                  <a:moveTo>
                    <a:pt x="1" y="906"/>
                  </a:moveTo>
                  <a:lnTo>
                    <a:pt x="0" y="0"/>
                  </a:lnTo>
                  <a:lnTo>
                    <a:pt x="312" y="32"/>
                  </a:lnTo>
                  <a:lnTo>
                    <a:pt x="287" y="810"/>
                  </a:lnTo>
                  <a:lnTo>
                    <a:pt x="1" y="906"/>
                  </a:ln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66440" y="4124880"/>
              <a:ext cx="2698200" cy="1341360"/>
            </a:xfrm>
            <a:custGeom>
              <a:avLst/>
              <a:gdLst/>
              <a:ahLst/>
              <a:rect l="l" t="t" r="r" b="b"/>
              <a:pathLst>
                <a:path w="790" h="472">
                  <a:moveTo>
                    <a:pt x="790" y="0"/>
                  </a:moveTo>
                  <a:lnTo>
                    <a:pt x="790" y="225"/>
                  </a:lnTo>
                  <a:lnTo>
                    <a:pt x="414" y="472"/>
                  </a:lnTo>
                  <a:lnTo>
                    <a:pt x="0" y="415"/>
                  </a:lnTo>
                  <a:lnTo>
                    <a:pt x="790" y="0"/>
                  </a:lnTo>
                  <a:close/>
                </a:path>
              </a:pathLst>
            </a:custGeom>
            <a:solidFill>
              <a:srgbClr val="33339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067480" y="3645000"/>
              <a:ext cx="6840" cy="2773080"/>
            </a:xfrm>
            <a:custGeom>
              <a:avLst/>
              <a:gdLst/>
              <a:ahLst/>
              <a:rect l="l" t="t" r="r" b="b"/>
              <a:pathLst>
                <a:path w="2" h="976">
                  <a:moveTo>
                    <a:pt x="2" y="976"/>
                  </a:move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66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84360" y="4136400"/>
              <a:ext cx="2807280" cy="1184760"/>
            </a:xfrm>
            <a:custGeom>
              <a:avLst/>
              <a:gdLst/>
              <a:ahLst/>
              <a:rect l="l" t="t" r="r" b="b"/>
              <a:pathLst>
                <a:path w="822" h="417">
                  <a:moveTo>
                    <a:pt x="0" y="417"/>
                  </a:moveTo>
                  <a:lnTo>
                    <a:pt x="822" y="0"/>
                  </a:lnTo>
                </a:path>
              </a:pathLst>
            </a:custGeom>
            <a:noFill/>
            <a:ln w="57240">
              <a:solidFill>
                <a:srgbClr val="333399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/>
          <p:nvPr/>
        </p:nvSpPr>
        <p:spPr>
          <a:xfrm>
            <a:off x="1911240" y="611820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6626160" y="611964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277200" y="18900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85120" y="365904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4992120" y="367020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1403280" y="987480"/>
            <a:ext cx="730440" cy="102852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1380960" y="5091120"/>
            <a:ext cx="730440" cy="102852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1212840" y="5130720"/>
            <a:ext cx="644400" cy="982800"/>
          </a:xfrm>
          <a:custGeom>
            <a:avLst/>
            <a:gdLst/>
            <a:ahLst/>
            <a:rect l="l" t="t" r="r" b="b"/>
            <a:pathLst>
              <a:path w="406" h="619">
                <a:moveTo>
                  <a:pt x="0" y="0"/>
                </a:moveTo>
                <a:lnTo>
                  <a:pt x="406" y="223"/>
                </a:lnTo>
                <a:lnTo>
                  <a:pt x="402" y="61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111720" y="5391000"/>
            <a:ext cx="73044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946840" y="5448240"/>
            <a:ext cx="641160" cy="965160"/>
          </a:xfrm>
          <a:custGeom>
            <a:avLst/>
            <a:gdLst/>
            <a:ahLst/>
            <a:rect l="l" t="t" r="r" b="b"/>
            <a:pathLst>
              <a:path w="404" h="608">
                <a:moveTo>
                  <a:pt x="0" y="0"/>
                </a:moveTo>
                <a:lnTo>
                  <a:pt x="404" y="212"/>
                </a:lnTo>
                <a:lnTo>
                  <a:pt x="400" y="6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1273320" y="203508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1238400" y="612144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1065240" y="10238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1297080" y="52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1090440" y="493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1293840" y="39895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811840" y="5246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6027840" y="399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1699560" y="1801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1374840" y="87948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1235160" y="76500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368360" y="435600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1228680" y="4241880"/>
            <a:ext cx="677880" cy="187632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6100920" y="433548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5961240" y="4221000"/>
            <a:ext cx="67752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1238400" y="1066680"/>
            <a:ext cx="641160" cy="943200"/>
          </a:xfrm>
          <a:custGeom>
            <a:avLst/>
            <a:gdLst/>
            <a:ahLst/>
            <a:rect l="l" t="t" r="r" b="b"/>
            <a:pathLst>
              <a:path w="404" h="594">
                <a:moveTo>
                  <a:pt x="0" y="0"/>
                </a:moveTo>
                <a:lnTo>
                  <a:pt x="404" y="198"/>
                </a:lnTo>
                <a:lnTo>
                  <a:pt x="40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2396520" y="10987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649160" y="1063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1763640" y="126828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1627200" y="51674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357960" y="5467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1768320" y="534816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464160" y="56833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699560" y="1352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2382120" y="4592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7097040" y="4594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664440" y="123840"/>
            <a:ext cx="12200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ollin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ame as eq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6086520" y="596880"/>
            <a:ext cx="752400" cy="1414440"/>
          </a:xfrm>
          <a:custGeom>
            <a:avLst/>
            <a:gdLst/>
            <a:ahLst/>
            <a:rect l="l" t="t" r="r" b="b"/>
            <a:pathLst>
              <a:path w="474" h="891">
                <a:moveTo>
                  <a:pt x="466" y="747"/>
                </a:moveTo>
                <a:lnTo>
                  <a:pt x="474" y="323"/>
                </a:lnTo>
                <a:lnTo>
                  <a:pt x="232" y="0"/>
                </a:lnTo>
                <a:lnTo>
                  <a:pt x="0" y="24"/>
                </a:lnTo>
                <a:lnTo>
                  <a:pt x="306" y="497"/>
                </a:lnTo>
                <a:lnTo>
                  <a:pt x="298" y="891"/>
                </a:lnTo>
                <a:lnTo>
                  <a:pt x="466" y="74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5978520" y="203040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5796000" y="7650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5816520" y="404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6405120" y="17971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6080040" y="87480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5940360" y="76032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5972040" y="444600"/>
            <a:ext cx="613080" cy="1560240"/>
          </a:xfrm>
          <a:custGeom>
            <a:avLst/>
            <a:gdLst/>
            <a:ahLst/>
            <a:rect l="l" t="t" r="r" b="b"/>
            <a:pathLst>
              <a:path w="386" h="983">
                <a:moveTo>
                  <a:pt x="0" y="0"/>
                </a:moveTo>
                <a:lnTo>
                  <a:pt x="386" y="587"/>
                </a:lnTo>
                <a:lnTo>
                  <a:pt x="382" y="9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101720" y="1093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6379920" y="752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6469200" y="126360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6405120" y="13478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4987440" y="18900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928600" y="2752560"/>
            <a:ext cx="253548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Where endpoints P1,Q1 meet, i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 s</a:t>
            </a: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ame as equal ,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2920320" y="4653000"/>
            <a:ext cx="234792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How beginpoints P1,Q1 mee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not relevant an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4572000" y="1484280"/>
            <a:ext cx="1816200" cy="1206360"/>
          </a:xfrm>
          <a:custGeom>
            <a:avLst/>
            <a:gdLst/>
            <a:ahLst/>
            <a:rect l="l" t="t" r="r" b="b"/>
            <a:pathLst>
              <a:path w="1144" h="760">
                <a:moveTo>
                  <a:pt x="0" y="760"/>
                </a:moveTo>
                <a:lnTo>
                  <a:pt x="1144" y="0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2031840" y="1473120"/>
            <a:ext cx="1854360" cy="1219320"/>
          </a:xfrm>
          <a:custGeom>
            <a:avLst/>
            <a:gdLst/>
            <a:ahLst/>
            <a:rect l="l" t="t" r="r" b="b"/>
            <a:pathLst>
              <a:path w="1168" h="768">
                <a:moveTo>
                  <a:pt x="1168" y="768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4356000" y="5181480"/>
            <a:ext cx="2087640" cy="849600"/>
          </a:xfrm>
          <a:custGeom>
            <a:avLst/>
            <a:gdLst/>
            <a:ahLst/>
            <a:rect l="l" t="t" r="r" b="b"/>
            <a:pathLst>
              <a:path w="1315" h="535">
                <a:moveTo>
                  <a:pt x="0" y="0"/>
                </a:moveTo>
                <a:lnTo>
                  <a:pt x="1315" y="535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2050920" y="5194440"/>
            <a:ext cx="1911600" cy="836640"/>
          </a:xfrm>
          <a:custGeom>
            <a:avLst/>
            <a:gdLst/>
            <a:ahLst/>
            <a:rect l="l" t="t" r="r" b="b"/>
            <a:pathLst>
              <a:path w="1204" h="527">
                <a:moveTo>
                  <a:pt x="1204" y="0"/>
                </a:moveTo>
                <a:lnTo>
                  <a:pt x="0" y="527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"/>
          <p:cNvSpPr/>
          <p:nvPr/>
        </p:nvSpPr>
        <p:spPr>
          <a:xfrm>
            <a:off x="1415880" y="682560"/>
            <a:ext cx="73044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1384200" y="87624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244520" y="762120"/>
            <a:ext cx="677880" cy="1892160"/>
          </a:xfrm>
          <a:custGeom>
            <a:avLst/>
            <a:gdLst/>
            <a:ahLst/>
            <a:rect l="l" t="t" r="r" b="b"/>
            <a:pathLst>
              <a:path w="427" h="1192">
                <a:moveTo>
                  <a:pt x="416" y="119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1274760" y="887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1327320" y="52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295560" y="18900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5037480" y="20160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6110280" y="130644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6356160" y="1382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5958000" y="1380960"/>
            <a:ext cx="628560" cy="947880"/>
          </a:xfrm>
          <a:custGeom>
            <a:avLst/>
            <a:gdLst/>
            <a:ahLst/>
            <a:rect l="l" t="t" r="r" b="b"/>
            <a:pathLst>
              <a:path w="396" h="597">
                <a:moveTo>
                  <a:pt x="0" y="0"/>
                </a:moveTo>
                <a:lnTo>
                  <a:pt x="396" y="201"/>
                </a:lnTo>
                <a:lnTo>
                  <a:pt x="392" y="59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5958000" y="234648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1284120" y="171288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5789520" y="1166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6045120" y="539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694880" y="15606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6392160" y="21304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6091200" y="87804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5951520" y="763560"/>
            <a:ext cx="677880" cy="187632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244520" y="749160"/>
            <a:ext cx="647640" cy="955800"/>
          </a:xfrm>
          <a:custGeom>
            <a:avLst/>
            <a:gdLst/>
            <a:ahLst/>
            <a:rect l="l" t="t" r="r" b="b"/>
            <a:pathLst>
              <a:path w="408" h="602">
                <a:moveTo>
                  <a:pt x="0" y="0"/>
                </a:moveTo>
                <a:lnTo>
                  <a:pt x="408" y="206"/>
                </a:lnTo>
                <a:lnTo>
                  <a:pt x="404" y="60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662120" y="7588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2394720" y="111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776240" y="126216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6470640" y="160164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694880" y="11970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6392160" y="1639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7058880" y="1209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291240" y="365760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5019120" y="365760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282760" y="3992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5938920" y="580248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1284120" y="518148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5962680" y="3995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6093000" y="434664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5952960" y="423216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6804000" y="46227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7133760" y="46782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1397160" y="434340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1257480" y="4229280"/>
            <a:ext cx="677520" cy="187632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2364840" y="4675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1866960" y="427824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2044440" y="4386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1886040" y="423072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1063440" y="40114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776240" y="473076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6546960" y="488952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6724440" y="4997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6566040" y="484200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451560" y="505764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1895400" y="476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905120" y="774720"/>
            <a:ext cx="622080" cy="254160"/>
          </a:xfrm>
          <a:custGeom>
            <a:avLst/>
            <a:gdLst/>
            <a:ahLst/>
            <a:rect l="l" t="t" r="r" b="b"/>
            <a:pathLst>
              <a:path w="392" h="160">
                <a:moveTo>
                  <a:pt x="0" y="160"/>
                </a:moveTo>
                <a:lnTo>
                  <a:pt x="392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1905120" y="3886200"/>
            <a:ext cx="2880" cy="660240"/>
          </a:xfrm>
          <a:custGeom>
            <a:avLst/>
            <a:gdLst/>
            <a:ahLst/>
            <a:rect l="l" t="t" r="r" b="b"/>
            <a:pathLst>
              <a:path w="2" h="416">
                <a:moveTo>
                  <a:pt x="2" y="41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1549440" y="4241880"/>
            <a:ext cx="358560" cy="279360"/>
          </a:xfrm>
          <a:custGeom>
            <a:avLst/>
            <a:gdLst/>
            <a:ahLst/>
            <a:rect l="l" t="t" r="r" b="b"/>
            <a:pathLst>
              <a:path w="226" h="176">
                <a:moveTo>
                  <a:pt x="226" y="17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6603840" y="749160"/>
            <a:ext cx="5040" cy="565200"/>
          </a:xfrm>
          <a:custGeom>
            <a:avLst/>
            <a:gdLst/>
            <a:ahLst/>
            <a:rect l="l" t="t" r="r" b="b"/>
            <a:pathLst>
              <a:path w="3" h="356">
                <a:moveTo>
                  <a:pt x="3" y="35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6629400" y="74916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0" y="368"/>
                </a:moveTo>
                <a:lnTo>
                  <a:pt x="40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6616800" y="4203720"/>
            <a:ext cx="9360" cy="588960"/>
          </a:xfrm>
          <a:custGeom>
            <a:avLst/>
            <a:gdLst/>
            <a:ahLst/>
            <a:rect l="l" t="t" r="r" b="b"/>
            <a:pathLst>
              <a:path w="6" h="371">
                <a:moveTo>
                  <a:pt x="6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6647040" y="4216320"/>
            <a:ext cx="630000" cy="595440"/>
          </a:xfrm>
          <a:custGeom>
            <a:avLst/>
            <a:gdLst/>
            <a:ahLst/>
            <a:rect l="l" t="t" r="r" b="b"/>
            <a:pathLst>
              <a:path w="397" h="375">
                <a:moveTo>
                  <a:pt x="0" y="375"/>
                </a:moveTo>
                <a:lnTo>
                  <a:pt x="39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"/>
          <p:cNvSpPr/>
          <p:nvPr/>
        </p:nvSpPr>
        <p:spPr>
          <a:xfrm>
            <a:off x="1924200" y="8110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6629400" y="8366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1895400" y="43052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6595920" y="42926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5032080" y="365904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6618240" y="421164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7095600" y="45799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464160" y="50594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5951520" y="580392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7315200" y="39974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6559560" y="489096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6737400" y="4998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6578640" y="484344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6975360" y="462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299880" y="364500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1886040" y="4197240"/>
            <a:ext cx="66492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363040" y="4565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1731960" y="47005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1219320" y="517212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2583000" y="3983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1827360" y="425916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2004840" y="43671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1846440" y="421164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2243160" y="399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1413000" y="69048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1658880" y="76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1241280" y="757080"/>
            <a:ext cx="648000" cy="955800"/>
          </a:xfrm>
          <a:custGeom>
            <a:avLst/>
            <a:gdLst/>
            <a:ahLst/>
            <a:rect l="l" t="t" r="r" b="b"/>
            <a:pathLst>
              <a:path w="408" h="602">
                <a:moveTo>
                  <a:pt x="0" y="0"/>
                </a:moveTo>
                <a:lnTo>
                  <a:pt x="408" y="206"/>
                </a:lnTo>
                <a:lnTo>
                  <a:pt x="404" y="60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1914480" y="758880"/>
            <a:ext cx="665280" cy="1898640"/>
          </a:xfrm>
          <a:custGeom>
            <a:avLst/>
            <a:gdLst/>
            <a:ahLst/>
            <a:rect l="l" t="t" r="r" b="b"/>
            <a:pathLst>
              <a:path w="419" h="1196">
                <a:moveTo>
                  <a:pt x="0" y="1196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2391840" y="1127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1073160" y="773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1773360" y="127008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2617920" y="531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6608880" y="746280"/>
            <a:ext cx="66492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7085880" y="1114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6454800" y="159372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288360" y="2095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5022000" y="17604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6094440" y="129852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63403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5942160" y="1373040"/>
            <a:ext cx="628560" cy="947880"/>
          </a:xfrm>
          <a:custGeom>
            <a:avLst/>
            <a:gdLst/>
            <a:ahLst/>
            <a:rect l="l" t="t" r="r" b="b"/>
            <a:pathLst>
              <a:path w="396" h="597">
                <a:moveTo>
                  <a:pt x="0" y="0"/>
                </a:moveTo>
                <a:lnTo>
                  <a:pt x="396" y="201"/>
                </a:lnTo>
                <a:lnTo>
                  <a:pt x="392" y="59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5942160" y="233856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1281240" y="172080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5773680" y="1158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7305840" y="531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1691640" y="1568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1691640" y="12049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6376320" y="2122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6376320" y="1631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1895400" y="476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1844640" y="3921120"/>
            <a:ext cx="3240" cy="660240"/>
          </a:xfrm>
          <a:custGeom>
            <a:avLst/>
            <a:gdLst/>
            <a:ahLst/>
            <a:rect l="l" t="t" r="r" b="b"/>
            <a:pathLst>
              <a:path w="2" h="416">
                <a:moveTo>
                  <a:pt x="2" y="41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1488960" y="4276800"/>
            <a:ext cx="358920" cy="279360"/>
          </a:xfrm>
          <a:custGeom>
            <a:avLst/>
            <a:gdLst/>
            <a:ahLst/>
            <a:rect l="l" t="t" r="r" b="b"/>
            <a:pathLst>
              <a:path w="226" h="176">
                <a:moveTo>
                  <a:pt x="226" y="17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1905120" y="774720"/>
            <a:ext cx="622080" cy="254160"/>
          </a:xfrm>
          <a:custGeom>
            <a:avLst/>
            <a:gdLst/>
            <a:ahLst/>
            <a:rect l="l" t="t" r="r" b="b"/>
            <a:pathLst>
              <a:path w="392" h="160">
                <a:moveTo>
                  <a:pt x="0" y="160"/>
                </a:moveTo>
                <a:lnTo>
                  <a:pt x="392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6603840" y="749160"/>
            <a:ext cx="5040" cy="565200"/>
          </a:xfrm>
          <a:custGeom>
            <a:avLst/>
            <a:gdLst/>
            <a:ahLst/>
            <a:rect l="l" t="t" r="r" b="b"/>
            <a:pathLst>
              <a:path w="3" h="356">
                <a:moveTo>
                  <a:pt x="3" y="35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6616800" y="4203720"/>
            <a:ext cx="9360" cy="588960"/>
          </a:xfrm>
          <a:custGeom>
            <a:avLst/>
            <a:gdLst/>
            <a:ahLst/>
            <a:rect l="l" t="t" r="r" b="b"/>
            <a:pathLst>
              <a:path w="6" h="371">
                <a:moveTo>
                  <a:pt x="6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5969160" y="774720"/>
            <a:ext cx="639720" cy="568440"/>
          </a:xfrm>
          <a:custGeom>
            <a:avLst/>
            <a:gdLst/>
            <a:ahLst/>
            <a:rect l="l" t="t" r="r" b="b"/>
            <a:pathLst>
              <a:path w="403" h="358">
                <a:moveTo>
                  <a:pt x="403" y="3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5952960" y="4233960"/>
            <a:ext cx="640080" cy="568080"/>
          </a:xfrm>
          <a:custGeom>
            <a:avLst/>
            <a:gdLst/>
            <a:ahLst/>
            <a:rect l="l" t="t" r="r" b="b"/>
            <a:pathLst>
              <a:path w="403" h="358">
                <a:moveTo>
                  <a:pt x="403" y="3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"/>
          <p:cNvSpPr/>
          <p:nvPr/>
        </p:nvSpPr>
        <p:spPr>
          <a:xfrm>
            <a:off x="1924200" y="914400"/>
            <a:ext cx="704880" cy="1639800"/>
          </a:xfrm>
          <a:custGeom>
            <a:avLst/>
            <a:gdLst/>
            <a:ahLst/>
            <a:rect l="l" t="t" r="r" b="b"/>
            <a:pathLst>
              <a:path w="444" h="1033">
                <a:moveTo>
                  <a:pt x="2" y="1033"/>
                </a:moveTo>
                <a:lnTo>
                  <a:pt x="0" y="280"/>
                </a:lnTo>
                <a:lnTo>
                  <a:pt x="4" y="0"/>
                </a:lnTo>
                <a:lnTo>
                  <a:pt x="444" y="168"/>
                </a:lnTo>
                <a:lnTo>
                  <a:pt x="330" y="849"/>
                </a:lnTo>
                <a:lnTo>
                  <a:pt x="2" y="103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6629400" y="8366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1413000" y="69048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1241280" y="757080"/>
            <a:ext cx="648000" cy="955800"/>
          </a:xfrm>
          <a:custGeom>
            <a:avLst/>
            <a:gdLst/>
            <a:ahLst/>
            <a:rect l="l" t="t" r="r" b="b"/>
            <a:pathLst>
              <a:path w="408" h="602">
                <a:moveTo>
                  <a:pt x="0" y="0"/>
                </a:moveTo>
                <a:lnTo>
                  <a:pt x="408" y="206"/>
                </a:lnTo>
                <a:lnTo>
                  <a:pt x="404" y="60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2391840" y="1127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6608880" y="746280"/>
            <a:ext cx="66492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7085880" y="1114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288360" y="20952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X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5004720" y="17604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6094440" y="129852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63403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5942160" y="233856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1281240" y="172080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1895400" y="476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1905120" y="774720"/>
            <a:ext cx="622080" cy="254160"/>
          </a:xfrm>
          <a:custGeom>
            <a:avLst/>
            <a:gdLst/>
            <a:ahLst/>
            <a:rect l="l" t="t" r="r" b="b"/>
            <a:pathLst>
              <a:path w="392" h="160">
                <a:moveTo>
                  <a:pt x="0" y="160"/>
                </a:moveTo>
                <a:lnTo>
                  <a:pt x="392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6603840" y="749160"/>
            <a:ext cx="5040" cy="565200"/>
          </a:xfrm>
          <a:custGeom>
            <a:avLst/>
            <a:gdLst/>
            <a:ahLst/>
            <a:rect l="l" t="t" r="r" b="b"/>
            <a:pathLst>
              <a:path w="3" h="356">
                <a:moveTo>
                  <a:pt x="3" y="35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5969160" y="774720"/>
            <a:ext cx="639720" cy="568440"/>
          </a:xfrm>
          <a:custGeom>
            <a:avLst/>
            <a:gdLst/>
            <a:ahLst/>
            <a:rect l="l" t="t" r="r" b="b"/>
            <a:pathLst>
              <a:path w="403" h="358">
                <a:moveTo>
                  <a:pt x="403" y="3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1908000" y="1400040"/>
            <a:ext cx="5040" cy="1266840"/>
          </a:xfrm>
          <a:custGeom>
            <a:avLst/>
            <a:gdLst/>
            <a:ahLst/>
            <a:rect l="l" t="t" r="r" b="b"/>
            <a:pathLst>
              <a:path w="3" h="798">
                <a:moveTo>
                  <a:pt x="0" y="798"/>
                </a:moveTo>
                <a:lnTo>
                  <a:pt x="3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6548400" y="1660680"/>
            <a:ext cx="6480" cy="628560"/>
          </a:xfrm>
          <a:custGeom>
            <a:avLst/>
            <a:gdLst/>
            <a:ahLst/>
            <a:rect l="l" t="t" r="r" b="b"/>
            <a:pathLst>
              <a:path w="4" h="396">
                <a:moveTo>
                  <a:pt x="4" y="0"/>
                </a:moveTo>
                <a:lnTo>
                  <a:pt x="0" y="3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6548400" y="1049400"/>
            <a:ext cx="6480" cy="603360"/>
          </a:xfrm>
          <a:custGeom>
            <a:avLst/>
            <a:gdLst/>
            <a:ahLst/>
            <a:rect l="l" t="t" r="r" b="b"/>
            <a:pathLst>
              <a:path w="4" h="380">
                <a:moveTo>
                  <a:pt x="0" y="0"/>
                </a:moveTo>
                <a:lnTo>
                  <a:pt x="4" y="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1658880" y="76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1917720" y="774720"/>
            <a:ext cx="1440" cy="615960"/>
          </a:xfrm>
          <a:custGeom>
            <a:avLst/>
            <a:gdLst/>
            <a:ahLst/>
            <a:rect l="l" t="t" r="r" b="b"/>
            <a:pathLst>
              <a:path w="1" h="388">
                <a:moveTo>
                  <a:pt x="1" y="3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6454800" y="159372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6168960" y="170352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1773360" y="127008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1403280" y="115884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1879560" y="5156280"/>
            <a:ext cx="520920" cy="685800"/>
          </a:xfrm>
          <a:custGeom>
            <a:avLst/>
            <a:gdLst/>
            <a:ahLst/>
            <a:rect l="l" t="t" r="r" b="b"/>
            <a:pathLst>
              <a:path w="328" h="432">
                <a:moveTo>
                  <a:pt x="176" y="432"/>
                </a:moveTo>
                <a:lnTo>
                  <a:pt x="328" y="312"/>
                </a:lnTo>
                <a:lnTo>
                  <a:pt x="8" y="0"/>
                </a:lnTo>
                <a:lnTo>
                  <a:pt x="0" y="394"/>
                </a:lnTo>
                <a:lnTo>
                  <a:pt x="176" y="4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1298520" y="580068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2643120" y="5705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1136520" y="4175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1400040" y="464508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1260360" y="453060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1898640" y="5146560"/>
            <a:ext cx="628560" cy="628920"/>
          </a:xfrm>
          <a:custGeom>
            <a:avLst/>
            <a:gdLst/>
            <a:ahLst/>
            <a:rect l="l" t="t" r="r" b="b"/>
            <a:pathLst>
              <a:path w="396" h="396">
                <a:moveTo>
                  <a:pt x="396" y="382"/>
                </a:moveTo>
                <a:lnTo>
                  <a:pt x="4" y="0"/>
                </a:lnTo>
                <a:lnTo>
                  <a:pt x="0" y="3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2280600" y="4950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2050920" y="5622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1789200" y="503388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307080" y="3959280"/>
            <a:ext cx="142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-new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llinear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ppo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584280" y="3879720"/>
            <a:ext cx="1326960" cy="2102040"/>
          </a:xfrm>
          <a:custGeom>
            <a:avLst/>
            <a:gdLst/>
            <a:ahLst/>
            <a:rect l="l" t="t" r="r" b="b"/>
            <a:pathLst>
              <a:path w="836" h="1324">
                <a:moveTo>
                  <a:pt x="156" y="1324"/>
                </a:moveTo>
                <a:lnTo>
                  <a:pt x="0" y="752"/>
                </a:lnTo>
                <a:lnTo>
                  <a:pt x="828" y="0"/>
                </a:lnTo>
                <a:lnTo>
                  <a:pt x="836" y="684"/>
                </a:lnTo>
                <a:lnTo>
                  <a:pt x="156" y="13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696960" y="3811680"/>
            <a:ext cx="1239840" cy="2303280"/>
          </a:xfrm>
          <a:custGeom>
            <a:avLst/>
            <a:gdLst/>
            <a:ahLst/>
            <a:rect l="l" t="t" r="r" b="b"/>
            <a:pathLst>
              <a:path w="781" h="1451">
                <a:moveTo>
                  <a:pt x="777" y="0"/>
                </a:moveTo>
                <a:lnTo>
                  <a:pt x="781" y="735"/>
                </a:lnTo>
                <a:lnTo>
                  <a:pt x="0" y="145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1994040" y="3397320"/>
            <a:ext cx="1395360" cy="3193920"/>
          </a:xfrm>
          <a:custGeom>
            <a:avLst/>
            <a:gdLst/>
            <a:ahLst/>
            <a:rect l="l" t="t" r="r" b="b"/>
            <a:pathLst>
              <a:path w="879" h="2012">
                <a:moveTo>
                  <a:pt x="24" y="2012"/>
                </a:moveTo>
                <a:lnTo>
                  <a:pt x="0" y="632"/>
                </a:lnTo>
                <a:lnTo>
                  <a:pt x="728" y="0"/>
                </a:lnTo>
                <a:lnTo>
                  <a:pt x="879" y="473"/>
                </a:lnTo>
                <a:lnTo>
                  <a:pt x="646" y="1615"/>
                </a:lnTo>
                <a:lnTo>
                  <a:pt x="24" y="201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1982880" y="3282840"/>
            <a:ext cx="1295280" cy="3378240"/>
          </a:xfrm>
          <a:custGeom>
            <a:avLst/>
            <a:gdLst/>
            <a:ahLst/>
            <a:rect l="l" t="t" r="r" b="b"/>
            <a:pathLst>
              <a:path w="816" h="2128">
                <a:moveTo>
                  <a:pt x="19" y="2128"/>
                </a:moveTo>
                <a:lnTo>
                  <a:pt x="0" y="709"/>
                </a:lnTo>
                <a:lnTo>
                  <a:pt x="8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/>
          <p:nvPr/>
        </p:nvSpPr>
        <p:spPr>
          <a:xfrm>
            <a:off x="1155600" y="758880"/>
            <a:ext cx="711360" cy="114624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1278000" y="1492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1251000" y="720720"/>
            <a:ext cx="628560" cy="129240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1914480" y="4762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1905120" y="423720"/>
            <a:ext cx="66492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2382120" y="792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1063440" y="1996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1763640" y="93492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1763640" y="126828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1415880" y="1519200"/>
            <a:ext cx="400320" cy="64152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1930320" y="498600"/>
            <a:ext cx="438120" cy="46332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2608200" y="2221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6818400" y="135108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6959520" y="2084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6939000" y="1312920"/>
            <a:ext cx="62244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7605720" y="457200"/>
            <a:ext cx="71604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7599240" y="40464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8076600" y="773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6757920" y="2571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7445520" y="186840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7161120" y="2116080"/>
            <a:ext cx="368280" cy="372960"/>
          </a:xfrm>
          <a:custGeom>
            <a:avLst/>
            <a:gdLst/>
            <a:ahLst/>
            <a:rect l="l" t="t" r="r" b="b"/>
            <a:pathLst>
              <a:path w="232" h="235">
                <a:moveTo>
                  <a:pt x="224" y="91"/>
                </a:moveTo>
                <a:lnTo>
                  <a:pt x="232" y="0"/>
                </a:lnTo>
                <a:lnTo>
                  <a:pt x="0" y="235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5207040" y="1035000"/>
            <a:ext cx="711000" cy="114624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5329080" y="1768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5289480" y="996840"/>
            <a:ext cx="628560" cy="129240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5978520" y="455760"/>
            <a:ext cx="712800" cy="174276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5943600" y="403200"/>
            <a:ext cx="690480" cy="1900440"/>
          </a:xfrm>
          <a:custGeom>
            <a:avLst/>
            <a:gdLst/>
            <a:ahLst/>
            <a:rect l="l" t="t" r="r" b="b"/>
            <a:pathLst>
              <a:path w="435" h="1197">
                <a:moveTo>
                  <a:pt x="0" y="1197"/>
                </a:moveTo>
                <a:lnTo>
                  <a:pt x="19" y="398"/>
                </a:lnTo>
                <a:lnTo>
                  <a:pt x="435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6433560" y="771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5114880" y="2273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5815080" y="154476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5467320" y="1795320"/>
            <a:ext cx="399960" cy="64152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5935680" y="165240"/>
            <a:ext cx="12600" cy="79992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5275440" y="457200"/>
            <a:ext cx="660240" cy="55872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7540560" y="49212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6880320" y="784080"/>
            <a:ext cx="660240" cy="55908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374760" y="5589720"/>
            <a:ext cx="3024000" cy="915120"/>
          </a:xfrm>
          <a:prstGeom prst="rect">
            <a:avLst/>
          </a:prstGeom>
          <a:solidFill>
            <a:srgbClr val="ffff99"/>
          </a:solidFill>
          <a:ln w="9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Q moves along P, each time 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a lower (another)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5004000" y="2862360"/>
            <a:ext cx="305532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se are the same – where beginpoi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meet is not relev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374760" y="2370240"/>
            <a:ext cx="2989080" cy="13500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A special case because it is the only case which has </a:t>
            </a:r>
            <a:r>
              <a:rPr b="1" i="1" lang="nl-NL" sz="1200" spc="-1" strike="noStrike" u="sng">
                <a:solidFill>
                  <a:srgbClr val="808080"/>
                </a:solidFill>
                <a:uFillTx/>
                <a:latin typeface="Arial"/>
              </a:rPr>
              <a:t>two</a:t>
            </a: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 relevant intersection p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y cannot be classified at other points, because we ignore the “from” case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278640" y="176040"/>
            <a:ext cx="86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ase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5029920" y="176040"/>
            <a:ext cx="86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ases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5175360" y="514512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5316480" y="58784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5295960" y="510696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5969160" y="3949560"/>
            <a:ext cx="71568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5962680" y="3897360"/>
            <a:ext cx="66528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6439680" y="4265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5897520" y="428616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5237280" y="4578480"/>
            <a:ext cx="636480" cy="53964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5969160" y="5791320"/>
            <a:ext cx="634680" cy="58392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6800760" y="5460840"/>
            <a:ext cx="73044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6941880" y="6194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6921360" y="5423040"/>
            <a:ext cx="62244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7601040" y="3951360"/>
            <a:ext cx="716040" cy="148248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7594560" y="389880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8071920" y="4267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7529400" y="4605480"/>
            <a:ext cx="12960" cy="79992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6869160" y="4897440"/>
            <a:ext cx="636480" cy="53964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7601040" y="579276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4902480" y="3641760"/>
            <a:ext cx="115020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Same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equal oppo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6877080" y="3606840"/>
            <a:ext cx="1440000" cy="61992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Not relevant, hand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by dashed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"/>
          <p:cNvSpPr/>
          <p:nvPr/>
        </p:nvSpPr>
        <p:spPr>
          <a:xfrm>
            <a:off x="1344600" y="417528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6067440" y="72216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1238400" y="4241880"/>
            <a:ext cx="685800" cy="185112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1150920" y="1098720"/>
            <a:ext cx="711360" cy="114588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1272960" y="18320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1332000" y="72720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1225440" y="793800"/>
            <a:ext cx="685800" cy="185112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1077840" y="2289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1442880" y="1827360"/>
            <a:ext cx="400320" cy="64116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1447920" y="895320"/>
            <a:ext cx="374400" cy="349200"/>
          </a:xfrm>
          <a:custGeom>
            <a:avLst/>
            <a:gdLst/>
            <a:ahLst/>
            <a:rect l="l" t="t" r="r" b="b"/>
            <a:pathLst>
              <a:path w="236" h="220">
                <a:moveTo>
                  <a:pt x="236" y="32"/>
                </a:moveTo>
                <a:lnTo>
                  <a:pt x="232" y="220"/>
                </a:lnTo>
                <a:lnTo>
                  <a:pt x="0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1123920" y="55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298800" y="209520"/>
            <a:ext cx="12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1246320" y="1060560"/>
            <a:ext cx="628560" cy="129204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1758960" y="127476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1758960" y="16081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2377440" y="11318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100920" y="1116000"/>
            <a:ext cx="527040" cy="139392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6183360" y="1409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7124040" y="1149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5038920" y="214200"/>
            <a:ext cx="12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6595920" y="1077840"/>
            <a:ext cx="6480" cy="65736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6583320" y="1738440"/>
            <a:ext cx="6480" cy="92700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5961240" y="78912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6505560" y="129240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1371600" y="453708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1598400" y="52833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2382120" y="4570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2647800" y="577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1873080" y="4498920"/>
            <a:ext cx="66708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303480" y="3657600"/>
            <a:ext cx="12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1763640" y="471312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1763640" y="5046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5842080" y="536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1130400" y="4005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6459120" y="2620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6494400" y="158256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"/>
          <p:cNvSpPr/>
          <p:nvPr/>
        </p:nvSpPr>
        <p:spPr>
          <a:xfrm>
            <a:off x="6645240" y="781200"/>
            <a:ext cx="722520" cy="180000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6645240" y="1357200"/>
            <a:ext cx="180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6649920" y="739800"/>
            <a:ext cx="972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1920960" y="4186080"/>
            <a:ext cx="722160" cy="180036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1920960" y="4762440"/>
            <a:ext cx="144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1925640" y="4145040"/>
            <a:ext cx="936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1154160" y="1123920"/>
            <a:ext cx="711000" cy="114624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1276200" y="1857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1249200" y="1085760"/>
            <a:ext cx="628920" cy="129240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1903320" y="771480"/>
            <a:ext cx="722520" cy="180036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1903320" y="1360440"/>
            <a:ext cx="180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238068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1062000" y="23623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1762200" y="163368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1414440" y="1884240"/>
            <a:ext cx="399960" cy="64152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1937880" y="4906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302400" y="1890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1908000" y="743040"/>
            <a:ext cx="972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6100920" y="1116000"/>
            <a:ext cx="527040" cy="139392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6183360" y="1409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7124040" y="11239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5039640" y="2142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6595920" y="1077840"/>
            <a:ext cx="6480" cy="65736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6583320" y="1738440"/>
            <a:ext cx="6480" cy="92700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1371600" y="453708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1598400" y="52833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2382120" y="4570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2647800" y="577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1873080" y="4498920"/>
            <a:ext cx="66708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303840" y="36576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1763640" y="5046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1979280" y="3979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6459120" y="2620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6659280" y="501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"/>
          <p:cNvSpPr/>
          <p:nvPr/>
        </p:nvSpPr>
        <p:spPr>
          <a:xfrm>
            <a:off x="6084720" y="1109520"/>
            <a:ext cx="527040" cy="139392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6167520" y="1403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6640560" y="82692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6616800" y="774720"/>
            <a:ext cx="679320" cy="1895400"/>
          </a:xfrm>
          <a:custGeom>
            <a:avLst/>
            <a:gdLst/>
            <a:ahLst/>
            <a:rect l="l" t="t" r="r" b="b"/>
            <a:pathLst>
              <a:path w="428" h="1194">
                <a:moveTo>
                  <a:pt x="0" y="1194"/>
                </a:moveTo>
                <a:lnTo>
                  <a:pt x="12" y="398"/>
                </a:lnTo>
                <a:lnTo>
                  <a:pt x="42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7108200" y="1143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6656400" y="849240"/>
            <a:ext cx="438120" cy="46368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7334280" y="5731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291240" y="366696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6580080" y="1071720"/>
            <a:ext cx="6480" cy="65700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6567480" y="1731960"/>
            <a:ext cx="6480" cy="92700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6489720" y="12859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6489720" y="161928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5023800" y="26028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1371600" y="453708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1598400" y="52833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1914480" y="42544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1895400" y="4202280"/>
            <a:ext cx="674640" cy="1895400"/>
          </a:xfrm>
          <a:custGeom>
            <a:avLst/>
            <a:gdLst/>
            <a:ahLst/>
            <a:rect l="l" t="t" r="r" b="b"/>
            <a:pathLst>
              <a:path w="425" h="1194">
                <a:moveTo>
                  <a:pt x="0" y="1194"/>
                </a:moveTo>
                <a:lnTo>
                  <a:pt x="9" y="398"/>
                </a:lnTo>
                <a:lnTo>
                  <a:pt x="425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2382120" y="4570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2647800" y="577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1930320" y="4276800"/>
            <a:ext cx="438120" cy="46332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2608200" y="40006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1873080" y="4498920"/>
            <a:ext cx="66708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1763640" y="471312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1763640" y="5046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1141560" y="1098720"/>
            <a:ext cx="711000" cy="114588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1263600" y="18320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1236600" y="1060560"/>
            <a:ext cx="628560" cy="129204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1900080" y="8668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1890720" y="81432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2368080" y="1182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1049400" y="2336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1749600" y="127476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1749600" y="160812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1401840" y="1859040"/>
            <a:ext cx="399960" cy="64116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1916280" y="888840"/>
            <a:ext cx="438120" cy="46368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2593800" y="6127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289800" y="2016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"/>
          <p:cNvSpPr/>
          <p:nvPr/>
        </p:nvSpPr>
        <p:spPr>
          <a:xfrm>
            <a:off x="1327320" y="414972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1220760" y="4216320"/>
            <a:ext cx="685800" cy="185112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2382120" y="4572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1909800" y="3890880"/>
            <a:ext cx="4680" cy="903240"/>
          </a:xfrm>
          <a:custGeom>
            <a:avLst/>
            <a:gdLst/>
            <a:ahLst/>
            <a:rect l="l" t="t" r="r" b="b"/>
            <a:pathLst>
              <a:path w="3" h="569">
                <a:moveTo>
                  <a:pt x="3" y="56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1898640" y="4246560"/>
            <a:ext cx="633600" cy="585720"/>
          </a:xfrm>
          <a:custGeom>
            <a:avLst/>
            <a:gdLst/>
            <a:ahLst/>
            <a:rect l="l" t="t" r="r" b="b"/>
            <a:pathLst>
              <a:path w="399" h="369">
                <a:moveTo>
                  <a:pt x="0" y="369"/>
                </a:moveTo>
                <a:lnTo>
                  <a:pt x="39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6046920" y="99360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5940360" y="106056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7101720" y="1415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6629400" y="735120"/>
            <a:ext cx="4680" cy="903240"/>
          </a:xfrm>
          <a:custGeom>
            <a:avLst/>
            <a:gdLst/>
            <a:ahLst/>
            <a:rect l="l" t="t" r="r" b="b"/>
            <a:pathLst>
              <a:path w="3" h="569">
                <a:moveTo>
                  <a:pt x="3" y="56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6618240" y="1090440"/>
            <a:ext cx="633600" cy="586080"/>
          </a:xfrm>
          <a:custGeom>
            <a:avLst/>
            <a:gdLst/>
            <a:ahLst/>
            <a:rect l="l" t="t" r="r" b="b"/>
            <a:pathLst>
              <a:path w="399" h="369">
                <a:moveTo>
                  <a:pt x="0" y="369"/>
                </a:moveTo>
                <a:lnTo>
                  <a:pt x="39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291240" y="1890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6659280" y="2897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6570720" y="81756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5910120" y="1109520"/>
            <a:ext cx="660600" cy="55908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5042520" y="22212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6086520" y="1684440"/>
            <a:ext cx="527040" cy="139356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6168960" y="1978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6581880" y="1646280"/>
            <a:ext cx="6120" cy="65736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6568920" y="2306520"/>
            <a:ext cx="6480" cy="92736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6475320" y="219384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2589120" y="637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1839960" y="429408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1179360" y="4586400"/>
            <a:ext cx="660600" cy="55872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311760" y="36702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1347840" y="515772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1574640" y="5904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1849320" y="5119560"/>
            <a:ext cx="66672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1744560" y="56707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1333440" y="722160"/>
            <a:ext cx="129564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1227240" y="78912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1130400" y="172260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1271520" y="2455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1251000" y="168444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238860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1069920" y="2943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1757520" y="223992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1473120" y="2487600"/>
            <a:ext cx="368280" cy="372960"/>
          </a:xfrm>
          <a:custGeom>
            <a:avLst/>
            <a:gdLst/>
            <a:ahLst/>
            <a:rect l="l" t="t" r="r" b="b"/>
            <a:pathLst>
              <a:path w="232" h="235">
                <a:moveTo>
                  <a:pt x="232" y="169"/>
                </a:moveTo>
                <a:lnTo>
                  <a:pt x="232" y="0"/>
                </a:lnTo>
                <a:lnTo>
                  <a:pt x="0" y="235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1852560" y="863640"/>
            <a:ext cx="12600" cy="79992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1192320" y="1155600"/>
            <a:ext cx="660240" cy="55908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1916280" y="463680"/>
            <a:ext cx="4680" cy="903240"/>
          </a:xfrm>
          <a:custGeom>
            <a:avLst/>
            <a:gdLst/>
            <a:ahLst/>
            <a:rect l="l" t="t" r="r" b="b"/>
            <a:pathLst>
              <a:path w="3" h="569">
                <a:moveTo>
                  <a:pt x="3" y="56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1905120" y="819000"/>
            <a:ext cx="633240" cy="586080"/>
          </a:xfrm>
          <a:custGeom>
            <a:avLst/>
            <a:gdLst/>
            <a:ahLst/>
            <a:rect l="l" t="t" r="r" b="b"/>
            <a:pathLst>
              <a:path w="399" h="369">
                <a:moveTo>
                  <a:pt x="0" y="369"/>
                </a:moveTo>
                <a:lnTo>
                  <a:pt x="39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285920" y="1657440"/>
            <a:ext cx="1527120" cy="749160"/>
          </a:xfrm>
          <a:custGeom>
            <a:avLst/>
            <a:gdLst/>
            <a:ahLst/>
            <a:rect l="l" t="t" r="r" b="b"/>
            <a:pathLst>
              <a:path w="962" h="472">
                <a:moveTo>
                  <a:pt x="790" y="0"/>
                </a:moveTo>
                <a:lnTo>
                  <a:pt x="962" y="368"/>
                </a:lnTo>
                <a:lnTo>
                  <a:pt x="414" y="472"/>
                </a:lnTo>
                <a:lnTo>
                  <a:pt x="0" y="415"/>
                </a:lnTo>
                <a:lnTo>
                  <a:pt x="79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44480" y="2185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50480" y="2657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247760" y="1663560"/>
            <a:ext cx="1622520" cy="662040"/>
          </a:xfrm>
          <a:custGeom>
            <a:avLst/>
            <a:gdLst/>
            <a:ahLst/>
            <a:rect l="l" t="t" r="r" b="b"/>
            <a:pathLst>
              <a:path w="1022" h="417">
                <a:moveTo>
                  <a:pt x="0" y="417"/>
                </a:moveTo>
                <a:lnTo>
                  <a:pt x="822" y="0"/>
                </a:lnTo>
                <a:lnTo>
                  <a:pt x="1022" y="4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88424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12960" y="4975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40760" y="611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90720" y="42069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7280" y="16812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002200" y="16344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7280" y="357336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614680" y="14446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17560" y="1160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58920" y="4749840"/>
            <a:ext cx="1801800" cy="1181160"/>
          </a:xfrm>
          <a:custGeom>
            <a:avLst/>
            <a:gdLst/>
            <a:ahLst/>
            <a:rect l="l" t="t" r="r" b="b"/>
            <a:pathLst>
              <a:path w="1135" h="744">
                <a:moveTo>
                  <a:pt x="111" y="256"/>
                </a:moveTo>
                <a:lnTo>
                  <a:pt x="255" y="0"/>
                </a:lnTo>
                <a:lnTo>
                  <a:pt x="1135" y="24"/>
                </a:lnTo>
                <a:lnTo>
                  <a:pt x="1055" y="376"/>
                </a:lnTo>
                <a:lnTo>
                  <a:pt x="215" y="744"/>
                </a:lnTo>
                <a:lnTo>
                  <a:pt x="0" y="656"/>
                </a:lnTo>
                <a:lnTo>
                  <a:pt x="783" y="240"/>
                </a:lnTo>
                <a:lnTo>
                  <a:pt x="111" y="2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20760" y="5138640"/>
            <a:ext cx="1305000" cy="662040"/>
          </a:xfrm>
          <a:custGeom>
            <a:avLst/>
            <a:gdLst/>
            <a:ahLst/>
            <a:rect l="l" t="t" r="r" b="b"/>
            <a:pathLst>
              <a:path w="822" h="417">
                <a:moveTo>
                  <a:pt x="0" y="417"/>
                </a:moveTo>
                <a:lnTo>
                  <a:pt x="822" y="0"/>
                </a:lnTo>
                <a:lnTo>
                  <a:pt x="7" y="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622920" y="78264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45120" y="1641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679440" y="2637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629400" y="730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323120" y="145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69200" y="1125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959440" y="1662120"/>
            <a:ext cx="1305000" cy="662040"/>
          </a:xfrm>
          <a:custGeom>
            <a:avLst/>
            <a:gdLst/>
            <a:ahLst/>
            <a:rect l="l" t="t" r="r" b="b"/>
            <a:pathLst>
              <a:path w="822" h="417">
                <a:moveTo>
                  <a:pt x="0" y="417"/>
                </a:moveTo>
                <a:lnTo>
                  <a:pt x="822" y="0"/>
                </a:lnTo>
                <a:lnTo>
                  <a:pt x="7" y="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045120" y="1666800"/>
            <a:ext cx="1155960" cy="584280"/>
          </a:xfrm>
          <a:custGeom>
            <a:avLst/>
            <a:gdLst/>
            <a:ahLst/>
            <a:rect l="l" t="t" r="r" b="b"/>
            <a:pathLst>
              <a:path w="728" h="368">
                <a:moveTo>
                  <a:pt x="728" y="0"/>
                </a:moveTo>
                <a:lnTo>
                  <a:pt x="32" y="368"/>
                </a:lnTo>
                <a:lnTo>
                  <a:pt x="0" y="8"/>
                </a:lnTo>
                <a:lnTo>
                  <a:pt x="72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43120" y="5137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54160" y="5157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487920" y="14176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93720" y="5313240"/>
            <a:ext cx="18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564000" y="6186600"/>
            <a:ext cx="1249200" cy="5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Spik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Relative ord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i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-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j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 comes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304120" y="2378160"/>
            <a:ext cx="82728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Spi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Relative ord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i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-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j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 comes l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61176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668280" y="611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618240" y="4206960"/>
            <a:ext cx="66060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14800" y="357336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986440" y="4076640"/>
            <a:ext cx="1801800" cy="1854360"/>
          </a:xfrm>
          <a:custGeom>
            <a:avLst/>
            <a:gdLst/>
            <a:ahLst/>
            <a:rect l="l" t="t" r="r" b="b"/>
            <a:pathLst>
              <a:path w="1135" h="1168">
                <a:moveTo>
                  <a:pt x="189" y="112"/>
                </a:moveTo>
                <a:lnTo>
                  <a:pt x="541" y="0"/>
                </a:lnTo>
                <a:lnTo>
                  <a:pt x="1135" y="448"/>
                </a:lnTo>
                <a:lnTo>
                  <a:pt x="1055" y="800"/>
                </a:lnTo>
                <a:lnTo>
                  <a:pt x="215" y="1168"/>
                </a:lnTo>
                <a:lnTo>
                  <a:pt x="0" y="1080"/>
                </a:lnTo>
                <a:lnTo>
                  <a:pt x="783" y="664"/>
                </a:lnTo>
                <a:lnTo>
                  <a:pt x="189" y="1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948280" y="4229280"/>
            <a:ext cx="1305000" cy="1571400"/>
          </a:xfrm>
          <a:custGeom>
            <a:avLst/>
            <a:gdLst/>
            <a:ahLst/>
            <a:rect l="l" t="t" r="r" b="b"/>
            <a:pathLst>
              <a:path w="822" h="990">
                <a:moveTo>
                  <a:pt x="0" y="990"/>
                </a:moveTo>
                <a:lnTo>
                  <a:pt x="822" y="573"/>
                </a:lnTo>
                <a:lnTo>
                  <a:pt x="205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458040" y="4614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81680" y="51451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464240" y="4975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317080" y="6012000"/>
            <a:ext cx="8269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No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order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cros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tw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"/>
          <p:cNvSpPr/>
          <p:nvPr/>
        </p:nvSpPr>
        <p:spPr>
          <a:xfrm>
            <a:off x="291240" y="1890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5042520" y="22212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311760" y="36702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1333440" y="722160"/>
            <a:ext cx="129564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1227240" y="78912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1117440" y="1155600"/>
            <a:ext cx="736920" cy="2006640"/>
          </a:xfrm>
          <a:custGeom>
            <a:avLst/>
            <a:gdLst/>
            <a:ahLst/>
            <a:rect l="l" t="t" r="r" b="b"/>
            <a:pathLst>
              <a:path w="464" h="1264">
                <a:moveTo>
                  <a:pt x="152" y="1264"/>
                </a:moveTo>
                <a:lnTo>
                  <a:pt x="0" y="560"/>
                </a:lnTo>
                <a:lnTo>
                  <a:pt x="464" y="0"/>
                </a:lnTo>
                <a:lnTo>
                  <a:pt x="456" y="1120"/>
                </a:lnTo>
                <a:lnTo>
                  <a:pt x="152" y="12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1271520" y="2455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1244520" y="1066680"/>
            <a:ext cx="622440" cy="2159280"/>
          </a:xfrm>
          <a:custGeom>
            <a:avLst/>
            <a:gdLst/>
            <a:ahLst/>
            <a:rect l="l" t="t" r="r" b="b"/>
            <a:pathLst>
              <a:path w="392" h="1360">
                <a:moveTo>
                  <a:pt x="392" y="0"/>
                </a:moveTo>
                <a:lnTo>
                  <a:pt x="392" y="1176"/>
                </a:lnTo>
                <a:lnTo>
                  <a:pt x="0" y="1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238860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1069560" y="2943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1751040" y="126828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5972040" y="2479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5945040" y="1090440"/>
            <a:ext cx="622440" cy="2159280"/>
          </a:xfrm>
          <a:custGeom>
            <a:avLst/>
            <a:gdLst/>
            <a:ahLst/>
            <a:rect l="l" t="t" r="r" b="b"/>
            <a:pathLst>
              <a:path w="392" h="1360">
                <a:moveTo>
                  <a:pt x="392" y="0"/>
                </a:moveTo>
                <a:lnTo>
                  <a:pt x="392" y="1176"/>
                </a:lnTo>
                <a:lnTo>
                  <a:pt x="0" y="1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5770080" y="29671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1257120" y="5924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1230480" y="4535640"/>
            <a:ext cx="622080" cy="2158920"/>
          </a:xfrm>
          <a:custGeom>
            <a:avLst/>
            <a:gdLst/>
            <a:ahLst/>
            <a:rect l="l" t="t" r="r" b="b"/>
            <a:pathLst>
              <a:path w="392" h="1360">
                <a:moveTo>
                  <a:pt x="392" y="0"/>
                </a:moveTo>
                <a:lnTo>
                  <a:pt x="392" y="1176"/>
                </a:lnTo>
                <a:lnTo>
                  <a:pt x="0" y="1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1055520" y="64119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5821200" y="1162080"/>
            <a:ext cx="736920" cy="2006640"/>
          </a:xfrm>
          <a:custGeom>
            <a:avLst/>
            <a:gdLst/>
            <a:ahLst/>
            <a:rect l="l" t="t" r="r" b="b"/>
            <a:pathLst>
              <a:path w="464" h="1264">
                <a:moveTo>
                  <a:pt x="152" y="1264"/>
                </a:moveTo>
                <a:lnTo>
                  <a:pt x="0" y="560"/>
                </a:lnTo>
                <a:lnTo>
                  <a:pt x="464" y="0"/>
                </a:lnTo>
                <a:lnTo>
                  <a:pt x="456" y="1120"/>
                </a:lnTo>
                <a:lnTo>
                  <a:pt x="152" y="12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1101600" y="4613400"/>
            <a:ext cx="736560" cy="2006640"/>
          </a:xfrm>
          <a:custGeom>
            <a:avLst/>
            <a:gdLst/>
            <a:ahLst/>
            <a:rect l="l" t="t" r="r" b="b"/>
            <a:pathLst>
              <a:path w="464" h="1264">
                <a:moveTo>
                  <a:pt x="152" y="1264"/>
                </a:moveTo>
                <a:lnTo>
                  <a:pt x="0" y="560"/>
                </a:lnTo>
                <a:lnTo>
                  <a:pt x="464" y="0"/>
                </a:lnTo>
                <a:lnTo>
                  <a:pt x="456" y="1120"/>
                </a:lnTo>
                <a:lnTo>
                  <a:pt x="152" y="12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1900080" y="425916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1890720" y="4206960"/>
            <a:ext cx="66528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2368080" y="4575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1916280" y="4281480"/>
            <a:ext cx="438120" cy="46368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2593800" y="4005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6620040" y="771480"/>
            <a:ext cx="722160" cy="180036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6620040" y="1360440"/>
            <a:ext cx="144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709704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6654600" y="4906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6624720" y="743040"/>
            <a:ext cx="936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1738440" y="470052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6478560" y="1293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1119240" y="52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"/>
          <p:cNvSpPr/>
          <p:nvPr/>
        </p:nvSpPr>
        <p:spPr>
          <a:xfrm>
            <a:off x="1117440" y="1673280"/>
            <a:ext cx="73044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1258920" y="2406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1238400" y="163512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1911240" y="477720"/>
            <a:ext cx="71604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1905120" y="425520"/>
            <a:ext cx="66492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2382120" y="7938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1839960" y="81432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1179360" y="1106640"/>
            <a:ext cx="636840" cy="53964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1911240" y="2319480"/>
            <a:ext cx="635040" cy="58392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5829480" y="200664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5970600" y="2739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5950080" y="196848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6629400" y="496800"/>
            <a:ext cx="71604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6622920" y="444600"/>
            <a:ext cx="66528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7100280" y="812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6558120" y="115092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5897520" y="1442880"/>
            <a:ext cx="636480" cy="54000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6629400" y="2338560"/>
            <a:ext cx="635040" cy="58392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291240" y="1890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V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5042520" y="22212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V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3492360" y="239760"/>
            <a:ext cx="1440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Handled elsewhere, just to verify th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"/>
          <p:cNvSpPr/>
          <p:nvPr/>
        </p:nvSpPr>
        <p:spPr>
          <a:xfrm>
            <a:off x="6647040" y="80028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6653160" y="747720"/>
            <a:ext cx="66060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5994360" y="685800"/>
            <a:ext cx="1247760" cy="2235240"/>
          </a:xfrm>
          <a:custGeom>
            <a:avLst/>
            <a:gdLst/>
            <a:ahLst/>
            <a:rect l="l" t="t" r="r" b="b"/>
            <a:pathLst>
              <a:path w="786" h="1408">
                <a:moveTo>
                  <a:pt x="786" y="48"/>
                </a:moveTo>
                <a:lnTo>
                  <a:pt x="376" y="416"/>
                </a:lnTo>
                <a:lnTo>
                  <a:pt x="402" y="1408"/>
                </a:lnTo>
                <a:lnTo>
                  <a:pt x="0" y="1072"/>
                </a:lnTo>
                <a:lnTo>
                  <a:pt x="48" y="0"/>
                </a:lnTo>
                <a:lnTo>
                  <a:pt x="786" y="4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6613560" y="692280"/>
            <a:ext cx="673200" cy="2235240"/>
          </a:xfrm>
          <a:custGeom>
            <a:avLst/>
            <a:gdLst/>
            <a:ahLst/>
            <a:rect l="l" t="t" r="r" b="b"/>
            <a:pathLst>
              <a:path w="424" h="1408">
                <a:moveTo>
                  <a:pt x="424" y="0"/>
                </a:moveTo>
                <a:lnTo>
                  <a:pt x="0" y="408"/>
                </a:lnTo>
                <a:lnTo>
                  <a:pt x="4" y="14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7327440" y="11844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6559560" y="128916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6062400" y="2133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6546960" y="3951360"/>
            <a:ext cx="714240" cy="2457360"/>
          </a:xfrm>
          <a:custGeom>
            <a:avLst/>
            <a:gdLst/>
            <a:ahLst/>
            <a:rect l="l" t="t" r="r" b="b"/>
            <a:pathLst>
              <a:path w="450" h="1548">
                <a:moveTo>
                  <a:pt x="0" y="1548"/>
                </a:moveTo>
                <a:lnTo>
                  <a:pt x="1" y="564"/>
                </a:lnTo>
                <a:lnTo>
                  <a:pt x="6" y="0"/>
                </a:lnTo>
                <a:lnTo>
                  <a:pt x="450" y="492"/>
                </a:lnTo>
                <a:lnTo>
                  <a:pt x="286" y="1452"/>
                </a:lnTo>
                <a:lnTo>
                  <a:pt x="0" y="154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5880240" y="4243320"/>
            <a:ext cx="608040" cy="2176560"/>
          </a:xfrm>
          <a:custGeom>
            <a:avLst/>
            <a:gdLst/>
            <a:ahLst/>
            <a:rect l="l" t="t" r="r" b="b"/>
            <a:pathLst>
              <a:path w="383" h="1371">
                <a:moveTo>
                  <a:pt x="362" y="0"/>
                </a:moveTo>
                <a:lnTo>
                  <a:pt x="383" y="371"/>
                </a:lnTo>
                <a:lnTo>
                  <a:pt x="371" y="1371"/>
                </a:lnTo>
                <a:lnTo>
                  <a:pt x="0" y="767"/>
                </a:lnTo>
                <a:lnTo>
                  <a:pt x="120" y="87"/>
                </a:lnTo>
                <a:lnTo>
                  <a:pt x="362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6492960" y="4808520"/>
            <a:ext cx="14040" cy="1617840"/>
          </a:xfrm>
          <a:custGeom>
            <a:avLst/>
            <a:gdLst/>
            <a:ahLst/>
            <a:rect l="l" t="t" r="r" b="b"/>
            <a:pathLst>
              <a:path w="9" h="1019">
                <a:moveTo>
                  <a:pt x="0" y="0"/>
                </a:moveTo>
                <a:lnTo>
                  <a:pt x="9" y="101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6900120" y="4556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6483240" y="4186080"/>
            <a:ext cx="9720" cy="630360"/>
          </a:xfrm>
          <a:custGeom>
            <a:avLst/>
            <a:gdLst/>
            <a:ahLst/>
            <a:rect l="l" t="t" r="r" b="b"/>
            <a:pathLst>
              <a:path w="6" h="397">
                <a:moveTo>
                  <a:pt x="6" y="0"/>
                </a:moveTo>
                <a:lnTo>
                  <a:pt x="0" y="397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6537240" y="3881520"/>
            <a:ext cx="3240" cy="923760"/>
          </a:xfrm>
          <a:custGeom>
            <a:avLst/>
            <a:gdLst/>
            <a:ahLst/>
            <a:rect l="l" t="t" r="r" b="b"/>
            <a:pathLst>
              <a:path w="2" h="582">
                <a:moveTo>
                  <a:pt x="2" y="58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6543720" y="4821120"/>
            <a:ext cx="12600" cy="1606680"/>
          </a:xfrm>
          <a:custGeom>
            <a:avLst/>
            <a:gdLst/>
            <a:ahLst/>
            <a:rect l="l" t="t" r="r" b="b"/>
            <a:pathLst>
              <a:path w="8" h="1012">
                <a:moveTo>
                  <a:pt x="8" y="101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6450120" y="475308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6011640" y="52624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2188440" y="712800"/>
            <a:ext cx="196056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Equal, but not p1 ==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lrea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andled (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both left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both right”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1925640" y="427356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1932120" y="42210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1206360" y="4260960"/>
            <a:ext cx="723960" cy="2133360"/>
          </a:xfrm>
          <a:custGeom>
            <a:avLst/>
            <a:gdLst/>
            <a:ahLst/>
            <a:rect l="l" t="t" r="r" b="b"/>
            <a:pathLst>
              <a:path w="456" h="1344">
                <a:moveTo>
                  <a:pt x="88" y="0"/>
                </a:moveTo>
                <a:lnTo>
                  <a:pt x="456" y="344"/>
                </a:lnTo>
                <a:lnTo>
                  <a:pt x="444" y="1344"/>
                </a:lnTo>
                <a:lnTo>
                  <a:pt x="40" y="1036"/>
                </a:lnTo>
                <a:lnTo>
                  <a:pt x="0" y="356"/>
                </a:lnTo>
                <a:lnTo>
                  <a:pt x="8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1282680" y="4210200"/>
            <a:ext cx="615960" cy="2190600"/>
          </a:xfrm>
          <a:custGeom>
            <a:avLst/>
            <a:gdLst/>
            <a:ahLst/>
            <a:rect l="l" t="t" r="r" b="b"/>
            <a:pathLst>
              <a:path w="388" h="1380">
                <a:moveTo>
                  <a:pt x="0" y="0"/>
                </a:moveTo>
                <a:lnTo>
                  <a:pt x="384" y="380"/>
                </a:lnTo>
                <a:lnTo>
                  <a:pt x="388" y="1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2606040" y="4657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1838160" y="47624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1284120" y="4653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3540960" y="3743280"/>
            <a:ext cx="13114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pi-pj meets qi-q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808080"/>
                </a:solidFill>
                <a:latin typeface="Arial"/>
              </a:rPr>
              <a:t>qj-qk ==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0" lang="nl-NL" sz="1400" spc="-1" strike="noStrike">
                <a:solidFill>
                  <a:srgbClr val="808080"/>
                </a:solidFill>
                <a:latin typeface="Arial"/>
              </a:rPr>
              <a:t> pi-p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08080"/>
                </a:solidFill>
                <a:latin typeface="Arial"/>
              </a:rPr>
              <a:t>(==- mean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08080"/>
                </a:solidFill>
                <a:latin typeface="Arial"/>
              </a:rPr>
              <a:t>opposite equ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2044800" y="4178160"/>
            <a:ext cx="1917720" cy="622440"/>
          </a:xfrm>
          <a:custGeom>
            <a:avLst/>
            <a:gdLst/>
            <a:ahLst/>
            <a:rect l="l" t="t" r="r" b="b"/>
            <a:pathLst>
              <a:path w="1208" h="392">
                <a:moveTo>
                  <a:pt x="1208" y="0"/>
                </a:moveTo>
                <a:lnTo>
                  <a:pt x="0" y="392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2386080" y="4005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7" name=""/>
          <p:cNvGrpSpPr/>
          <p:nvPr/>
        </p:nvGrpSpPr>
        <p:grpSpPr>
          <a:xfrm>
            <a:off x="1724400" y="5131080"/>
            <a:ext cx="344880" cy="262080"/>
            <a:chOff x="1724400" y="5131080"/>
            <a:chExt cx="344880" cy="262080"/>
          </a:xfrm>
        </p:grpSpPr>
        <p:sp>
          <p:nvSpPr>
            <p:cNvPr id="1448" name=""/>
            <p:cNvSpPr/>
            <p:nvPr/>
          </p:nvSpPr>
          <p:spPr>
            <a:xfrm rot="1857600">
              <a:off x="1717200" y="5217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 rot="19593000">
              <a:off x="1717560" y="5227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q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468360" y="3848040"/>
            <a:ext cx="2448000" cy="2654280"/>
          </a:xfrm>
          <a:custGeom>
            <a:avLst/>
            <a:gdLst/>
            <a:ahLst/>
            <a:rect l="l" t="t" r="r" b="b"/>
            <a:pathLst>
              <a:path w="1040" h="1320">
                <a:moveTo>
                  <a:pt x="459" y="1293"/>
                </a:moveTo>
                <a:lnTo>
                  <a:pt x="460" y="309"/>
                </a:lnTo>
                <a:lnTo>
                  <a:pt x="112" y="624"/>
                </a:lnTo>
                <a:lnTo>
                  <a:pt x="0" y="176"/>
                </a:lnTo>
                <a:lnTo>
                  <a:pt x="936" y="0"/>
                </a:lnTo>
                <a:lnTo>
                  <a:pt x="1040" y="1320"/>
                </a:lnTo>
                <a:lnTo>
                  <a:pt x="459" y="129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650880" y="3467160"/>
            <a:ext cx="2023920" cy="3033720"/>
          </a:xfrm>
          <a:custGeom>
            <a:avLst/>
            <a:gdLst/>
            <a:ahLst/>
            <a:rect l="l" t="t" r="r" b="b"/>
            <a:pathLst>
              <a:path w="860" h="1508">
                <a:moveTo>
                  <a:pt x="860" y="704"/>
                </a:moveTo>
                <a:lnTo>
                  <a:pt x="740" y="216"/>
                </a:lnTo>
                <a:lnTo>
                  <a:pt x="332" y="0"/>
                </a:lnTo>
                <a:lnTo>
                  <a:pt x="0" y="168"/>
                </a:lnTo>
                <a:lnTo>
                  <a:pt x="378" y="508"/>
                </a:lnTo>
                <a:lnTo>
                  <a:pt x="366" y="1508"/>
                </a:lnTo>
                <a:lnTo>
                  <a:pt x="738" y="1432"/>
                </a:lnTo>
                <a:lnTo>
                  <a:pt x="860" y="7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555480" y="3724200"/>
            <a:ext cx="965520" cy="2784600"/>
          </a:xfrm>
          <a:custGeom>
            <a:avLst/>
            <a:gdLst/>
            <a:ahLst/>
            <a:rect l="l" t="t" r="r" b="b"/>
            <a:pathLst>
              <a:path w="410" h="1384">
                <a:moveTo>
                  <a:pt x="0" y="0"/>
                </a:moveTo>
                <a:lnTo>
                  <a:pt x="406" y="384"/>
                </a:lnTo>
                <a:lnTo>
                  <a:pt x="410" y="13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542880" y="4508640"/>
            <a:ext cx="1019160" cy="1993680"/>
          </a:xfrm>
          <a:custGeom>
            <a:avLst/>
            <a:gdLst/>
            <a:ahLst/>
            <a:rect l="l" t="t" r="r" b="b"/>
            <a:pathLst>
              <a:path w="642" h="1256">
                <a:moveTo>
                  <a:pt x="642" y="1256"/>
                </a:moveTo>
                <a:lnTo>
                  <a:pt x="639" y="0"/>
                </a:lnTo>
                <a:lnTo>
                  <a:pt x="0" y="4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"/>
          <p:cNvSpPr/>
          <p:nvPr/>
        </p:nvSpPr>
        <p:spPr>
          <a:xfrm>
            <a:off x="370440" y="17604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402480" y="364968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5044320" y="17928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1314360" y="4076640"/>
            <a:ext cx="1457280" cy="2300400"/>
          </a:xfrm>
          <a:custGeom>
            <a:avLst/>
            <a:gdLst/>
            <a:ahLst/>
            <a:rect l="l" t="t" r="r" b="b"/>
            <a:pathLst>
              <a:path w="918" h="1449">
                <a:moveTo>
                  <a:pt x="403" y="1449"/>
                </a:moveTo>
                <a:lnTo>
                  <a:pt x="404" y="465"/>
                </a:lnTo>
                <a:lnTo>
                  <a:pt x="0" y="120"/>
                </a:lnTo>
                <a:lnTo>
                  <a:pt x="288" y="0"/>
                </a:lnTo>
                <a:lnTo>
                  <a:pt x="918" y="376"/>
                </a:lnTo>
                <a:lnTo>
                  <a:pt x="672" y="1440"/>
                </a:lnTo>
                <a:lnTo>
                  <a:pt x="403" y="14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1212840" y="4216320"/>
            <a:ext cx="674640" cy="2179800"/>
          </a:xfrm>
          <a:custGeom>
            <a:avLst/>
            <a:gdLst/>
            <a:ahLst/>
            <a:rect l="l" t="t" r="r" b="b"/>
            <a:pathLst>
              <a:path w="425" h="1373">
                <a:moveTo>
                  <a:pt x="425" y="1373"/>
                </a:moveTo>
                <a:lnTo>
                  <a:pt x="423" y="397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1441440" y="4140360"/>
            <a:ext cx="1089000" cy="2247840"/>
          </a:xfrm>
          <a:custGeom>
            <a:avLst/>
            <a:gdLst/>
            <a:ahLst/>
            <a:rect l="l" t="t" r="r" b="b"/>
            <a:pathLst>
              <a:path w="686" h="1416">
                <a:moveTo>
                  <a:pt x="328" y="0"/>
                </a:moveTo>
                <a:lnTo>
                  <a:pt x="0" y="120"/>
                </a:lnTo>
                <a:lnTo>
                  <a:pt x="326" y="416"/>
                </a:lnTo>
                <a:lnTo>
                  <a:pt x="314" y="1416"/>
                </a:lnTo>
                <a:lnTo>
                  <a:pt x="686" y="1340"/>
                </a:lnTo>
                <a:lnTo>
                  <a:pt x="632" y="360"/>
                </a:lnTo>
                <a:lnTo>
                  <a:pt x="32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1301760" y="4216320"/>
            <a:ext cx="625320" cy="2178000"/>
          </a:xfrm>
          <a:custGeom>
            <a:avLst/>
            <a:gdLst/>
            <a:ahLst/>
            <a:rect l="l" t="t" r="r" b="b"/>
            <a:pathLst>
              <a:path w="394" h="1372">
                <a:moveTo>
                  <a:pt x="0" y="0"/>
                </a:moveTo>
                <a:lnTo>
                  <a:pt x="390" y="372"/>
                </a:lnTo>
                <a:lnTo>
                  <a:pt x="394" y="137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2634480" y="46512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1866960" y="475632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2408040" y="60991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6058080" y="647640"/>
            <a:ext cx="1380960" cy="2290680"/>
          </a:xfrm>
          <a:custGeom>
            <a:avLst/>
            <a:gdLst/>
            <a:ahLst/>
            <a:rect l="l" t="t" r="r" b="b"/>
            <a:pathLst>
              <a:path w="870" h="1443">
                <a:moveTo>
                  <a:pt x="355" y="1443"/>
                </a:moveTo>
                <a:lnTo>
                  <a:pt x="356" y="459"/>
                </a:lnTo>
                <a:lnTo>
                  <a:pt x="0" y="128"/>
                </a:lnTo>
                <a:lnTo>
                  <a:pt x="280" y="0"/>
                </a:lnTo>
                <a:lnTo>
                  <a:pt x="870" y="370"/>
                </a:lnTo>
                <a:lnTo>
                  <a:pt x="641" y="1347"/>
                </a:lnTo>
                <a:lnTo>
                  <a:pt x="355" y="144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7075440" y="2660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5956200" y="749160"/>
            <a:ext cx="674640" cy="2208240"/>
          </a:xfrm>
          <a:custGeom>
            <a:avLst/>
            <a:gdLst/>
            <a:ahLst/>
            <a:rect l="l" t="t" r="r" b="b"/>
            <a:pathLst>
              <a:path w="425" h="1391">
                <a:moveTo>
                  <a:pt x="425" y="1391"/>
                </a:moveTo>
                <a:lnTo>
                  <a:pt x="423" y="41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5943600" y="876240"/>
            <a:ext cx="1257480" cy="2073240"/>
          </a:xfrm>
          <a:custGeom>
            <a:avLst/>
            <a:gdLst/>
            <a:ahLst/>
            <a:rect l="l" t="t" r="r" b="b"/>
            <a:pathLst>
              <a:path w="792" h="1306">
                <a:moveTo>
                  <a:pt x="792" y="176"/>
                </a:moveTo>
                <a:lnTo>
                  <a:pt x="312" y="0"/>
                </a:lnTo>
                <a:lnTo>
                  <a:pt x="0" y="280"/>
                </a:lnTo>
                <a:lnTo>
                  <a:pt x="128" y="584"/>
                </a:lnTo>
                <a:lnTo>
                  <a:pt x="400" y="288"/>
                </a:lnTo>
                <a:lnTo>
                  <a:pt x="418" y="1306"/>
                </a:lnTo>
                <a:lnTo>
                  <a:pt x="790" y="1230"/>
                </a:lnTo>
                <a:lnTo>
                  <a:pt x="792" y="17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5981760" y="1368360"/>
            <a:ext cx="612720" cy="1587600"/>
          </a:xfrm>
          <a:custGeom>
            <a:avLst/>
            <a:gdLst/>
            <a:ahLst/>
            <a:rect l="l" t="t" r="r" b="b"/>
            <a:pathLst>
              <a:path w="386" h="1000">
                <a:moveTo>
                  <a:pt x="0" y="418"/>
                </a:moveTo>
                <a:lnTo>
                  <a:pt x="382" y="0"/>
                </a:lnTo>
                <a:lnTo>
                  <a:pt x="386" y="100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7301880" y="12128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6534000" y="131760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5803920" y="19540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586728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1193760" y="876240"/>
            <a:ext cx="1650960" cy="2095560"/>
          </a:xfrm>
          <a:custGeom>
            <a:avLst/>
            <a:gdLst/>
            <a:ahLst/>
            <a:rect l="l" t="t" r="r" b="b"/>
            <a:pathLst>
              <a:path w="1040" h="1320">
                <a:moveTo>
                  <a:pt x="459" y="1293"/>
                </a:moveTo>
                <a:lnTo>
                  <a:pt x="460" y="309"/>
                </a:lnTo>
                <a:lnTo>
                  <a:pt x="112" y="624"/>
                </a:lnTo>
                <a:lnTo>
                  <a:pt x="0" y="176"/>
                </a:lnTo>
                <a:lnTo>
                  <a:pt x="936" y="0"/>
                </a:lnTo>
                <a:lnTo>
                  <a:pt x="1040" y="1320"/>
                </a:lnTo>
                <a:lnTo>
                  <a:pt x="459" y="129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2376360" y="1085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1308240" y="546120"/>
            <a:ext cx="1365120" cy="2394000"/>
          </a:xfrm>
          <a:custGeom>
            <a:avLst/>
            <a:gdLst/>
            <a:ahLst/>
            <a:rect l="l" t="t" r="r" b="b"/>
            <a:pathLst>
              <a:path w="860" h="1508">
                <a:moveTo>
                  <a:pt x="860" y="704"/>
                </a:moveTo>
                <a:lnTo>
                  <a:pt x="740" y="216"/>
                </a:lnTo>
                <a:lnTo>
                  <a:pt x="332" y="0"/>
                </a:lnTo>
                <a:lnTo>
                  <a:pt x="0" y="168"/>
                </a:lnTo>
                <a:lnTo>
                  <a:pt x="378" y="508"/>
                </a:lnTo>
                <a:lnTo>
                  <a:pt x="366" y="1508"/>
                </a:lnTo>
                <a:lnTo>
                  <a:pt x="738" y="1432"/>
                </a:lnTo>
                <a:lnTo>
                  <a:pt x="860" y="7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1244520" y="749160"/>
            <a:ext cx="650880" cy="2197080"/>
          </a:xfrm>
          <a:custGeom>
            <a:avLst/>
            <a:gdLst/>
            <a:ahLst/>
            <a:rect l="l" t="t" r="r" b="b"/>
            <a:pathLst>
              <a:path w="410" h="1384">
                <a:moveTo>
                  <a:pt x="0" y="0"/>
                </a:moveTo>
                <a:lnTo>
                  <a:pt x="406" y="384"/>
                </a:lnTo>
                <a:lnTo>
                  <a:pt x="410" y="13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2598120" y="2741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1835280" y="13082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1106640" y="520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1063440" y="196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1244520" y="1398600"/>
            <a:ext cx="687600" cy="1549440"/>
          </a:xfrm>
          <a:custGeom>
            <a:avLst/>
            <a:gdLst/>
            <a:ahLst/>
            <a:rect l="l" t="t" r="r" b="b"/>
            <a:pathLst>
              <a:path w="433" h="976">
                <a:moveTo>
                  <a:pt x="433" y="976"/>
                </a:moveTo>
                <a:lnTo>
                  <a:pt x="431" y="0"/>
                </a:lnTo>
                <a:lnTo>
                  <a:pt x="0" y="3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905040" y="400536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189540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658800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3637440" y="106200"/>
            <a:ext cx="820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1943280" y="4863960"/>
            <a:ext cx="1574640" cy="1511280"/>
          </a:xfrm>
          <a:custGeom>
            <a:avLst/>
            <a:gdLst/>
            <a:ahLst/>
            <a:rect l="l" t="t" r="r" b="b"/>
            <a:pathLst>
              <a:path w="992" h="952">
                <a:moveTo>
                  <a:pt x="0" y="0"/>
                </a:moveTo>
                <a:lnTo>
                  <a:pt x="992" y="952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3630960" y="64533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3561840" y="5805360"/>
            <a:ext cx="3737880" cy="61992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Because first Pk // Q2 is checked on “collinearity”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 “opposite collinear” case should be hand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correctly (resulting in case </a:t>
            </a: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LR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3463920" y="6053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"/>
          <p:cNvSpPr/>
          <p:nvPr/>
        </p:nvSpPr>
        <p:spPr>
          <a:xfrm>
            <a:off x="370800" y="17604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5065200" y="16812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6621480" y="82872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7075440" y="2660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6627960" y="7761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6607080" y="1362240"/>
            <a:ext cx="590760" cy="1587240"/>
          </a:xfrm>
          <a:custGeom>
            <a:avLst/>
            <a:gdLst/>
            <a:ahLst/>
            <a:rect l="l" t="t" r="r" b="b"/>
            <a:pathLst>
              <a:path w="372" h="1000">
                <a:moveTo>
                  <a:pt x="366" y="350"/>
                </a:moveTo>
                <a:lnTo>
                  <a:pt x="12" y="0"/>
                </a:lnTo>
                <a:lnTo>
                  <a:pt x="0" y="1000"/>
                </a:lnTo>
                <a:lnTo>
                  <a:pt x="372" y="924"/>
                </a:lnTo>
                <a:lnTo>
                  <a:pt x="366" y="35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6588000" y="1368360"/>
            <a:ext cx="701640" cy="1587600"/>
          </a:xfrm>
          <a:custGeom>
            <a:avLst/>
            <a:gdLst/>
            <a:ahLst/>
            <a:rect l="l" t="t" r="r" b="b"/>
            <a:pathLst>
              <a:path w="442" h="1000">
                <a:moveTo>
                  <a:pt x="442" y="410"/>
                </a:moveTo>
                <a:lnTo>
                  <a:pt x="0" y="0"/>
                </a:lnTo>
                <a:lnTo>
                  <a:pt x="4" y="100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7301880" y="12128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6534000" y="131760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7327800" y="736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7354800" y="1773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396360" y="363708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1922400" y="1366920"/>
            <a:ext cx="922320" cy="1604880"/>
          </a:xfrm>
          <a:custGeom>
            <a:avLst/>
            <a:gdLst/>
            <a:ahLst/>
            <a:rect l="l" t="t" r="r" b="b"/>
            <a:pathLst>
              <a:path w="581" h="1011">
                <a:moveTo>
                  <a:pt x="0" y="984"/>
                </a:moveTo>
                <a:lnTo>
                  <a:pt x="1" y="0"/>
                </a:lnTo>
                <a:lnTo>
                  <a:pt x="349" y="347"/>
                </a:lnTo>
                <a:lnTo>
                  <a:pt x="581" y="1011"/>
                </a:lnTo>
                <a:lnTo>
                  <a:pt x="0" y="98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2376360" y="1085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1928880" y="1398600"/>
            <a:ext cx="636480" cy="1549440"/>
          </a:xfrm>
          <a:custGeom>
            <a:avLst/>
            <a:gdLst/>
            <a:ahLst/>
            <a:rect l="l" t="t" r="r" b="b"/>
            <a:pathLst>
              <a:path w="401" h="976">
                <a:moveTo>
                  <a:pt x="2" y="976"/>
                </a:moveTo>
                <a:lnTo>
                  <a:pt x="0" y="0"/>
                </a:lnTo>
                <a:lnTo>
                  <a:pt x="401" y="3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1908000" y="825480"/>
            <a:ext cx="809640" cy="2114640"/>
          </a:xfrm>
          <a:custGeom>
            <a:avLst/>
            <a:gdLst/>
            <a:ahLst/>
            <a:rect l="l" t="t" r="r" b="b"/>
            <a:pathLst>
              <a:path w="510" h="1332">
                <a:moveTo>
                  <a:pt x="510" y="296"/>
                </a:moveTo>
                <a:lnTo>
                  <a:pt x="366" y="0"/>
                </a:lnTo>
                <a:lnTo>
                  <a:pt x="12" y="332"/>
                </a:lnTo>
                <a:lnTo>
                  <a:pt x="0" y="1332"/>
                </a:lnTo>
                <a:lnTo>
                  <a:pt x="372" y="1256"/>
                </a:lnTo>
                <a:lnTo>
                  <a:pt x="510" y="2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1889280" y="749160"/>
            <a:ext cx="676080" cy="2197080"/>
          </a:xfrm>
          <a:custGeom>
            <a:avLst/>
            <a:gdLst/>
            <a:ahLst/>
            <a:rect l="l" t="t" r="r" b="b"/>
            <a:pathLst>
              <a:path w="426" h="1384">
                <a:moveTo>
                  <a:pt x="426" y="0"/>
                </a:moveTo>
                <a:lnTo>
                  <a:pt x="0" y="384"/>
                </a:lnTo>
                <a:lnTo>
                  <a:pt x="4" y="13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2598120" y="2741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1835280" y="13082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2411280" y="5238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2655720" y="1763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1900080" y="428796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1835280" y="42354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1908000" y="4249800"/>
            <a:ext cx="609840" cy="2158920"/>
          </a:xfrm>
          <a:custGeom>
            <a:avLst/>
            <a:gdLst/>
            <a:ahLst/>
            <a:rect l="l" t="t" r="r" b="b"/>
            <a:pathLst>
              <a:path w="384" h="1360">
                <a:moveTo>
                  <a:pt x="384" y="0"/>
                </a:moveTo>
                <a:lnTo>
                  <a:pt x="12" y="360"/>
                </a:lnTo>
                <a:lnTo>
                  <a:pt x="0" y="1360"/>
                </a:lnTo>
                <a:lnTo>
                  <a:pt x="372" y="1284"/>
                </a:lnTo>
                <a:lnTo>
                  <a:pt x="38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1895400" y="4218120"/>
            <a:ext cx="673200" cy="2235240"/>
          </a:xfrm>
          <a:custGeom>
            <a:avLst/>
            <a:gdLst/>
            <a:ahLst/>
            <a:rect l="l" t="t" r="r" b="b"/>
            <a:pathLst>
              <a:path w="424" h="1408">
                <a:moveTo>
                  <a:pt x="424" y="0"/>
                </a:moveTo>
                <a:lnTo>
                  <a:pt x="0" y="408"/>
                </a:lnTo>
                <a:lnTo>
                  <a:pt x="4" y="14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2580480" y="4672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1812960" y="47768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2354040" y="6119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3637440" y="106200"/>
            <a:ext cx="966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254160" y="4863960"/>
            <a:ext cx="1638000" cy="1536840"/>
          </a:xfrm>
          <a:custGeom>
            <a:avLst/>
            <a:gdLst/>
            <a:ahLst/>
            <a:rect l="l" t="t" r="r" b="b"/>
            <a:pathLst>
              <a:path w="1032" h="968">
                <a:moveTo>
                  <a:pt x="1032" y="0"/>
                </a:moveTo>
                <a:lnTo>
                  <a:pt x="0" y="968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322560" y="64533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257040" y="6021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"/>
          <p:cNvSpPr/>
          <p:nvPr/>
        </p:nvSpPr>
        <p:spPr>
          <a:xfrm>
            <a:off x="1900080" y="825480"/>
            <a:ext cx="817560" cy="210996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1906560" y="773280"/>
            <a:ext cx="660600" cy="218088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1320840" y="812880"/>
            <a:ext cx="1155600" cy="2133360"/>
          </a:xfrm>
          <a:custGeom>
            <a:avLst/>
            <a:gdLst/>
            <a:ahLst/>
            <a:rect l="l" t="t" r="r" b="b"/>
            <a:pathLst>
              <a:path w="728" h="1344">
                <a:moveTo>
                  <a:pt x="0" y="0"/>
                </a:moveTo>
                <a:lnTo>
                  <a:pt x="368" y="344"/>
                </a:lnTo>
                <a:lnTo>
                  <a:pt x="356" y="1344"/>
                </a:lnTo>
                <a:lnTo>
                  <a:pt x="728" y="1268"/>
                </a:lnTo>
                <a:lnTo>
                  <a:pt x="600" y="40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1257480" y="762120"/>
            <a:ext cx="615600" cy="2190600"/>
          </a:xfrm>
          <a:custGeom>
            <a:avLst/>
            <a:gdLst/>
            <a:ahLst/>
            <a:rect l="l" t="t" r="r" b="b"/>
            <a:pathLst>
              <a:path w="388" h="1380">
                <a:moveTo>
                  <a:pt x="0" y="0"/>
                </a:moveTo>
                <a:lnTo>
                  <a:pt x="384" y="380"/>
                </a:lnTo>
                <a:lnTo>
                  <a:pt x="388" y="1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289800" y="16344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2580480" y="1209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1812960" y="1314360"/>
            <a:ext cx="142920" cy="14472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5064840" y="16812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1704960" y="882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1068480" y="75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263052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6659640" y="3938760"/>
            <a:ext cx="714240" cy="2457360"/>
          </a:xfrm>
          <a:custGeom>
            <a:avLst/>
            <a:gdLst/>
            <a:ahLst/>
            <a:rect l="l" t="t" r="r" b="b"/>
            <a:pathLst>
              <a:path w="450" h="1548">
                <a:moveTo>
                  <a:pt x="0" y="1548"/>
                </a:moveTo>
                <a:lnTo>
                  <a:pt x="1" y="564"/>
                </a:lnTo>
                <a:lnTo>
                  <a:pt x="6" y="0"/>
                </a:lnTo>
                <a:lnTo>
                  <a:pt x="450" y="492"/>
                </a:lnTo>
                <a:lnTo>
                  <a:pt x="286" y="1452"/>
                </a:lnTo>
                <a:lnTo>
                  <a:pt x="0" y="154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6567480" y="4230720"/>
            <a:ext cx="812880" cy="2176560"/>
          </a:xfrm>
          <a:custGeom>
            <a:avLst/>
            <a:gdLst/>
            <a:ahLst/>
            <a:rect l="l" t="t" r="r" b="b"/>
            <a:pathLst>
              <a:path w="512" h="1371">
                <a:moveTo>
                  <a:pt x="0" y="0"/>
                </a:moveTo>
                <a:lnTo>
                  <a:pt x="21" y="371"/>
                </a:lnTo>
                <a:lnTo>
                  <a:pt x="9" y="1371"/>
                </a:lnTo>
                <a:lnTo>
                  <a:pt x="512" y="1116"/>
                </a:lnTo>
                <a:lnTo>
                  <a:pt x="124" y="128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6605640" y="4795920"/>
            <a:ext cx="14400" cy="1617480"/>
          </a:xfrm>
          <a:custGeom>
            <a:avLst/>
            <a:gdLst/>
            <a:ahLst/>
            <a:rect l="l" t="t" r="r" b="b"/>
            <a:pathLst>
              <a:path w="9" h="1019">
                <a:moveTo>
                  <a:pt x="0" y="0"/>
                </a:moveTo>
                <a:lnTo>
                  <a:pt x="9" y="101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7012800" y="4543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6595920" y="4173480"/>
            <a:ext cx="9720" cy="630360"/>
          </a:xfrm>
          <a:custGeom>
            <a:avLst/>
            <a:gdLst/>
            <a:ahLst/>
            <a:rect l="l" t="t" r="r" b="b"/>
            <a:pathLst>
              <a:path w="6" h="397">
                <a:moveTo>
                  <a:pt x="6" y="0"/>
                </a:moveTo>
                <a:lnTo>
                  <a:pt x="0" y="397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6649920" y="3868560"/>
            <a:ext cx="3240" cy="924120"/>
          </a:xfrm>
          <a:custGeom>
            <a:avLst/>
            <a:gdLst/>
            <a:ahLst/>
            <a:rect l="l" t="t" r="r" b="b"/>
            <a:pathLst>
              <a:path w="2" h="582">
                <a:moveTo>
                  <a:pt x="2" y="58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6656400" y="4808520"/>
            <a:ext cx="12600" cy="1606680"/>
          </a:xfrm>
          <a:custGeom>
            <a:avLst/>
            <a:gdLst/>
            <a:ahLst/>
            <a:rect l="l" t="t" r="r" b="b"/>
            <a:pathLst>
              <a:path w="8" h="1012">
                <a:moveTo>
                  <a:pt x="8" y="101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6562800" y="4740120"/>
            <a:ext cx="142920" cy="14472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7203960" y="5872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5017320" y="3598920"/>
            <a:ext cx="105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6058080" y="622440"/>
            <a:ext cx="1393560" cy="2313000"/>
          </a:xfrm>
          <a:custGeom>
            <a:avLst/>
            <a:gdLst/>
            <a:ahLst/>
            <a:rect l="l" t="t" r="r" b="b"/>
            <a:pathLst>
              <a:path w="878" h="1457">
                <a:moveTo>
                  <a:pt x="363" y="1457"/>
                </a:moveTo>
                <a:lnTo>
                  <a:pt x="364" y="473"/>
                </a:lnTo>
                <a:lnTo>
                  <a:pt x="0" y="136"/>
                </a:lnTo>
                <a:lnTo>
                  <a:pt x="320" y="0"/>
                </a:lnTo>
                <a:lnTo>
                  <a:pt x="878" y="384"/>
                </a:lnTo>
                <a:lnTo>
                  <a:pt x="649" y="1361"/>
                </a:lnTo>
                <a:lnTo>
                  <a:pt x="363" y="145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5931000" y="762120"/>
            <a:ext cx="712800" cy="2192040"/>
          </a:xfrm>
          <a:custGeom>
            <a:avLst/>
            <a:gdLst/>
            <a:ahLst/>
            <a:rect l="l" t="t" r="r" b="b"/>
            <a:pathLst>
              <a:path w="449" h="1381">
                <a:moveTo>
                  <a:pt x="449" y="1381"/>
                </a:moveTo>
                <a:lnTo>
                  <a:pt x="447" y="40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6620040" y="800280"/>
            <a:ext cx="771480" cy="2145960"/>
          </a:xfrm>
          <a:custGeom>
            <a:avLst/>
            <a:gdLst/>
            <a:ahLst/>
            <a:rect l="l" t="t" r="r" b="b"/>
            <a:pathLst>
              <a:path w="486" h="1352">
                <a:moveTo>
                  <a:pt x="358" y="0"/>
                </a:moveTo>
                <a:lnTo>
                  <a:pt x="12" y="352"/>
                </a:lnTo>
                <a:lnTo>
                  <a:pt x="0" y="1352"/>
                </a:lnTo>
                <a:lnTo>
                  <a:pt x="486" y="1280"/>
                </a:lnTo>
                <a:lnTo>
                  <a:pt x="35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6600960" y="762120"/>
            <a:ext cx="676080" cy="2190600"/>
          </a:xfrm>
          <a:custGeom>
            <a:avLst/>
            <a:gdLst/>
            <a:ahLst/>
            <a:rect l="l" t="t" r="r" b="b"/>
            <a:pathLst>
              <a:path w="426" h="1380">
                <a:moveTo>
                  <a:pt x="426" y="0"/>
                </a:moveTo>
                <a:lnTo>
                  <a:pt x="0" y="380"/>
                </a:lnTo>
                <a:lnTo>
                  <a:pt x="4" y="1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6341400" y="765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6546960" y="1314360"/>
            <a:ext cx="142920" cy="14472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7189560" y="2525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5802120" y="75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736452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1868400" y="3962520"/>
            <a:ext cx="865440" cy="2435040"/>
          </a:xfrm>
          <a:custGeom>
            <a:avLst/>
            <a:gdLst/>
            <a:ahLst/>
            <a:rect l="l" t="t" r="r" b="b"/>
            <a:pathLst>
              <a:path w="545" h="1534">
                <a:moveTo>
                  <a:pt x="30" y="1534"/>
                </a:moveTo>
                <a:lnTo>
                  <a:pt x="31" y="550"/>
                </a:lnTo>
                <a:lnTo>
                  <a:pt x="0" y="0"/>
                </a:lnTo>
                <a:lnTo>
                  <a:pt x="360" y="208"/>
                </a:lnTo>
                <a:lnTo>
                  <a:pt x="545" y="461"/>
                </a:lnTo>
                <a:lnTo>
                  <a:pt x="316" y="1438"/>
                </a:lnTo>
                <a:lnTo>
                  <a:pt x="30" y="15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1851120" y="3936960"/>
            <a:ext cx="17280" cy="2479680"/>
          </a:xfrm>
          <a:custGeom>
            <a:avLst/>
            <a:gdLst/>
            <a:ahLst/>
            <a:rect l="l" t="t" r="r" b="b"/>
            <a:pathLst>
              <a:path w="11" h="1562">
                <a:moveTo>
                  <a:pt x="2" y="1562"/>
                </a:moveTo>
                <a:lnTo>
                  <a:pt x="0" y="586"/>
                </a:ln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1924200" y="4013280"/>
            <a:ext cx="590400" cy="2395440"/>
          </a:xfrm>
          <a:custGeom>
            <a:avLst/>
            <a:gdLst/>
            <a:ahLst/>
            <a:rect l="l" t="t" r="r" b="b"/>
            <a:pathLst>
              <a:path w="372" h="1509">
                <a:moveTo>
                  <a:pt x="5" y="16"/>
                </a:moveTo>
                <a:lnTo>
                  <a:pt x="12" y="509"/>
                </a:lnTo>
                <a:lnTo>
                  <a:pt x="0" y="1509"/>
                </a:lnTo>
                <a:lnTo>
                  <a:pt x="372" y="1433"/>
                </a:lnTo>
                <a:lnTo>
                  <a:pt x="245" y="0"/>
                </a:lnTo>
                <a:lnTo>
                  <a:pt x="5" y="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1911240" y="3911760"/>
            <a:ext cx="20880" cy="2541600"/>
          </a:xfrm>
          <a:custGeom>
            <a:avLst/>
            <a:gdLst/>
            <a:ahLst/>
            <a:rect l="l" t="t" r="r" b="b"/>
            <a:pathLst>
              <a:path w="13" h="1601">
                <a:moveTo>
                  <a:pt x="13" y="0"/>
                </a:moveTo>
                <a:lnTo>
                  <a:pt x="0" y="601"/>
                </a:lnTo>
                <a:lnTo>
                  <a:pt x="4" y="160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2596680" y="4672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1828800" y="47768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2369880" y="6119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329400" y="3645000"/>
            <a:ext cx="105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3638880" y="106200"/>
            <a:ext cx="98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eft /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900080" y="812880"/>
            <a:ext cx="71460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956600" y="2660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06560" y="760320"/>
            <a:ext cx="66060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598760" y="21178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806480" y="1366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54000" y="1276200"/>
            <a:ext cx="1589040" cy="1047960"/>
          </a:xfrm>
          <a:custGeom>
            <a:avLst/>
            <a:gdLst/>
            <a:ahLst/>
            <a:rect l="l" t="t" r="r" b="b"/>
            <a:pathLst>
              <a:path w="1001" h="660">
                <a:moveTo>
                  <a:pt x="1001" y="245"/>
                </a:moveTo>
                <a:lnTo>
                  <a:pt x="936" y="0"/>
                </a:lnTo>
                <a:lnTo>
                  <a:pt x="0" y="328"/>
                </a:lnTo>
                <a:lnTo>
                  <a:pt x="211" y="660"/>
                </a:lnTo>
                <a:lnTo>
                  <a:pt x="1001" y="24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15840" y="1671480"/>
            <a:ext cx="1640160" cy="633600"/>
          </a:xfrm>
          <a:custGeom>
            <a:avLst/>
            <a:gdLst/>
            <a:ahLst/>
            <a:rect l="l" t="t" r="r" b="b"/>
            <a:pathLst>
              <a:path w="1033" h="399">
                <a:moveTo>
                  <a:pt x="0" y="15"/>
                </a:moveTo>
                <a:lnTo>
                  <a:pt x="216" y="399"/>
                </a:lnTo>
                <a:lnTo>
                  <a:pt x="103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0440" y="112680"/>
            <a:ext cx="96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68280" y="1747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interior</a:t>
            </a:r>
            <a:br>
              <a:rPr sz="44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touch in the middle, ‘m’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549440" y="3873600"/>
            <a:ext cx="851040" cy="2616120"/>
          </a:xfrm>
          <a:custGeom>
            <a:avLst/>
            <a:gdLst/>
            <a:ahLst/>
            <a:rect l="l" t="t" r="r" b="b"/>
            <a:pathLst>
              <a:path w="536" h="1648">
                <a:moveTo>
                  <a:pt x="15" y="1648"/>
                </a:moveTo>
                <a:lnTo>
                  <a:pt x="0" y="0"/>
                </a:lnTo>
                <a:lnTo>
                  <a:pt x="528" y="168"/>
                </a:lnTo>
                <a:lnTo>
                  <a:pt x="536" y="1478"/>
                </a:lnTo>
                <a:lnTo>
                  <a:pt x="15" y="164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65120" y="4865760"/>
            <a:ext cx="2112840" cy="874800"/>
          </a:xfrm>
          <a:custGeom>
            <a:avLst/>
            <a:gdLst/>
            <a:ahLst/>
            <a:rect l="l" t="t" r="r" b="b"/>
            <a:pathLst>
              <a:path w="1331" h="551">
                <a:moveTo>
                  <a:pt x="685" y="0"/>
                </a:moveTo>
                <a:lnTo>
                  <a:pt x="1331" y="303"/>
                </a:lnTo>
                <a:lnTo>
                  <a:pt x="1115" y="498"/>
                </a:lnTo>
                <a:lnTo>
                  <a:pt x="197" y="551"/>
                </a:lnTo>
                <a:lnTo>
                  <a:pt x="0" y="348"/>
                </a:lnTo>
                <a:lnTo>
                  <a:pt x="685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66720" y="3773520"/>
            <a:ext cx="6480" cy="2749680"/>
          </a:xfrm>
          <a:custGeom>
            <a:avLst/>
            <a:gdLst/>
            <a:ahLst/>
            <a:rect l="l" t="t" r="r" b="b"/>
            <a:pathLst>
              <a:path w="2" h="976">
                <a:moveTo>
                  <a:pt x="2" y="97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5280" y="4851360"/>
            <a:ext cx="2374920" cy="58896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85920" y="2004840"/>
            <a:ext cx="1119240" cy="492120"/>
          </a:xfrm>
          <a:custGeom>
            <a:avLst/>
            <a:gdLst/>
            <a:ahLst/>
            <a:rect l="l" t="t" r="r" b="b"/>
            <a:pathLst>
              <a:path w="705" h="310">
                <a:moveTo>
                  <a:pt x="376" y="0"/>
                </a:moveTo>
                <a:lnTo>
                  <a:pt x="705" y="163"/>
                </a:lnTo>
                <a:lnTo>
                  <a:pt x="612" y="280"/>
                </a:lnTo>
                <a:lnTo>
                  <a:pt x="108" y="310"/>
                </a:lnTo>
                <a:lnTo>
                  <a:pt x="0" y="196"/>
                </a:lnTo>
                <a:lnTo>
                  <a:pt x="37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395360" y="22654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950480" y="2657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47760" y="1996920"/>
            <a:ext cx="1303200" cy="33192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615000" y="80640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06960" y="1214280"/>
            <a:ext cx="1065240" cy="1279800"/>
          </a:xfrm>
          <a:custGeom>
            <a:avLst/>
            <a:gdLst/>
            <a:ahLst/>
            <a:rect l="l" t="t" r="r" b="b"/>
            <a:pathLst>
              <a:path w="671" h="806">
                <a:moveTo>
                  <a:pt x="376" y="496"/>
                </a:moveTo>
                <a:lnTo>
                  <a:pt x="83" y="198"/>
                </a:lnTo>
                <a:lnTo>
                  <a:pt x="413" y="0"/>
                </a:lnTo>
                <a:lnTo>
                  <a:pt x="671" y="288"/>
                </a:lnTo>
                <a:lnTo>
                  <a:pt x="551" y="744"/>
                </a:lnTo>
                <a:lnTo>
                  <a:pt x="108" y="806"/>
                </a:lnTo>
                <a:lnTo>
                  <a:pt x="0" y="692"/>
                </a:lnTo>
                <a:lnTo>
                  <a:pt x="376" y="4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16400" y="2262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671520" y="2654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621480" y="7542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977080" y="1376280"/>
            <a:ext cx="649080" cy="946080"/>
          </a:xfrm>
          <a:custGeom>
            <a:avLst/>
            <a:gdLst/>
            <a:ahLst/>
            <a:rect l="l" t="t" r="r" b="b"/>
            <a:pathLst>
              <a:path w="409" h="596">
                <a:moveTo>
                  <a:pt x="7" y="596"/>
                </a:moveTo>
                <a:lnTo>
                  <a:pt x="409" y="38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8424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306440" y="51181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940760" y="6068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890720" y="42069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39840" y="4835520"/>
            <a:ext cx="649440" cy="946080"/>
          </a:xfrm>
          <a:custGeom>
            <a:avLst/>
            <a:gdLst/>
            <a:ahLst/>
            <a:rect l="l" t="t" r="r" b="b"/>
            <a:pathLst>
              <a:path w="409" h="596">
                <a:moveTo>
                  <a:pt x="7" y="596"/>
                </a:moveTo>
                <a:lnTo>
                  <a:pt x="409" y="38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268280" y="4863960"/>
            <a:ext cx="584280" cy="870120"/>
          </a:xfrm>
          <a:custGeom>
            <a:avLst/>
            <a:gdLst/>
            <a:ahLst/>
            <a:rect l="l" t="t" r="r" b="b"/>
            <a:pathLst>
              <a:path w="368" h="548">
                <a:moveTo>
                  <a:pt x="0" y="0"/>
                </a:moveTo>
                <a:lnTo>
                  <a:pt x="368" y="364"/>
                </a:lnTo>
                <a:lnTo>
                  <a:pt x="32" y="548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87640" y="168120"/>
            <a:ext cx="106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002560" y="163440"/>
            <a:ext cx="106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87640" y="3573360"/>
            <a:ext cx="106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643120" y="2320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639800" y="13460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788080" y="1322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521400" y="13604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79440" y="5715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30520" y="4788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6021360"/>
            <a:ext cx="1943280" cy="61992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registered, to know if polygons touch, but ignored for traver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285920" y="1676520"/>
            <a:ext cx="1219320" cy="639720"/>
          </a:xfrm>
          <a:custGeom>
            <a:avLst/>
            <a:gdLst/>
            <a:ahLst/>
            <a:rect l="l" t="t" r="r" b="b"/>
            <a:pathLst>
              <a:path w="768" h="403">
                <a:moveTo>
                  <a:pt x="376" y="207"/>
                </a:moveTo>
                <a:lnTo>
                  <a:pt x="705" y="370"/>
                </a:lnTo>
                <a:lnTo>
                  <a:pt x="768" y="168"/>
                </a:lnTo>
                <a:lnTo>
                  <a:pt x="390" y="0"/>
                </a:lnTo>
                <a:lnTo>
                  <a:pt x="54" y="114"/>
                </a:lnTo>
                <a:lnTo>
                  <a:pt x="0" y="403"/>
                </a:lnTo>
                <a:lnTo>
                  <a:pt x="376" y="2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403280" y="1844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950480" y="2657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247760" y="1996920"/>
            <a:ext cx="1303200" cy="33192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615000" y="80640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603840" y="1447920"/>
            <a:ext cx="692280" cy="828720"/>
          </a:xfrm>
          <a:custGeom>
            <a:avLst/>
            <a:gdLst/>
            <a:ahLst/>
            <a:rect l="l" t="t" r="r" b="b"/>
            <a:pathLst>
              <a:path w="436" h="522">
                <a:moveTo>
                  <a:pt x="0" y="349"/>
                </a:moveTo>
                <a:lnTo>
                  <a:pt x="364" y="0"/>
                </a:lnTo>
                <a:lnTo>
                  <a:pt x="436" y="522"/>
                </a:lnTo>
                <a:lnTo>
                  <a:pt x="0" y="34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16400" y="2262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671520" y="2654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21480" y="7542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626160" y="1371600"/>
            <a:ext cx="650880" cy="942840"/>
          </a:xfrm>
          <a:custGeom>
            <a:avLst/>
            <a:gdLst/>
            <a:ahLst/>
            <a:rect l="l" t="t" r="r" b="b"/>
            <a:pathLst>
              <a:path w="410" h="594">
                <a:moveTo>
                  <a:pt x="410" y="594"/>
                </a:moveTo>
                <a:lnTo>
                  <a:pt x="0" y="392"/>
                </a:lnTo>
                <a:lnTo>
                  <a:pt x="40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88424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87240" y="5608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40760" y="6068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890720" y="42069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889280" y="4809960"/>
            <a:ext cx="691920" cy="971640"/>
          </a:xfrm>
          <a:custGeom>
            <a:avLst/>
            <a:gdLst/>
            <a:ahLst/>
            <a:rect l="l" t="t" r="r" b="b"/>
            <a:pathLst>
              <a:path w="436" h="612">
                <a:moveTo>
                  <a:pt x="436" y="612"/>
                </a:moveTo>
                <a:lnTo>
                  <a:pt x="0" y="405"/>
                </a:lnTo>
                <a:lnTo>
                  <a:pt x="4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319040" y="4848120"/>
            <a:ext cx="1186200" cy="1181160"/>
          </a:xfrm>
          <a:custGeom>
            <a:avLst/>
            <a:gdLst/>
            <a:ahLst/>
            <a:rect l="l" t="t" r="r" b="b"/>
            <a:pathLst>
              <a:path w="747" h="744">
                <a:moveTo>
                  <a:pt x="747" y="0"/>
                </a:moveTo>
                <a:lnTo>
                  <a:pt x="336" y="374"/>
                </a:lnTo>
                <a:lnTo>
                  <a:pt x="687" y="540"/>
                </a:lnTo>
                <a:lnTo>
                  <a:pt x="345" y="744"/>
                </a:lnTo>
                <a:lnTo>
                  <a:pt x="0" y="558"/>
                </a:lnTo>
                <a:lnTo>
                  <a:pt x="243" y="36"/>
                </a:lnTo>
                <a:lnTo>
                  <a:pt x="74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88000" y="16812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002920" y="16344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88000" y="357336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89160" y="227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639800" y="1346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392880" y="1322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323120" y="13604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360520" y="57340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768320" y="48639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825560" y="537372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627280" y="5889600"/>
            <a:ext cx="1943280" cy="80244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Intersection should switch from source, so from green it should take blue, and v.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285920" y="1746360"/>
            <a:ext cx="1038240" cy="1054080"/>
          </a:xfrm>
          <a:custGeom>
            <a:avLst/>
            <a:gdLst/>
            <a:ahLst/>
            <a:rect l="l" t="t" r="r" b="b"/>
            <a:pathLst>
              <a:path w="654" h="664">
                <a:moveTo>
                  <a:pt x="376" y="354"/>
                </a:moveTo>
                <a:lnTo>
                  <a:pt x="390" y="0"/>
                </a:lnTo>
                <a:lnTo>
                  <a:pt x="654" y="251"/>
                </a:lnTo>
                <a:lnTo>
                  <a:pt x="612" y="634"/>
                </a:lnTo>
                <a:lnTo>
                  <a:pt x="108" y="664"/>
                </a:lnTo>
                <a:lnTo>
                  <a:pt x="0" y="550"/>
                </a:lnTo>
                <a:lnTo>
                  <a:pt x="376" y="3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395360" y="2568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382120" y="1125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247760" y="1708200"/>
            <a:ext cx="644400" cy="920880"/>
          </a:xfrm>
          <a:custGeom>
            <a:avLst/>
            <a:gdLst/>
            <a:ahLst/>
            <a:rect l="l" t="t" r="r" b="b"/>
            <a:pathLst>
              <a:path w="406" h="580">
                <a:moveTo>
                  <a:pt x="0" y="580"/>
                </a:moveTo>
                <a:lnTo>
                  <a:pt x="402" y="373"/>
                </a:lnTo>
                <a:lnTo>
                  <a:pt x="4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615000" y="80640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013440" y="1690560"/>
            <a:ext cx="603360" cy="551160"/>
          </a:xfrm>
          <a:custGeom>
            <a:avLst/>
            <a:gdLst/>
            <a:ahLst/>
            <a:rect l="l" t="t" r="r" b="b"/>
            <a:pathLst>
              <a:path w="380" h="347">
                <a:moveTo>
                  <a:pt x="376" y="0"/>
                </a:moveTo>
                <a:lnTo>
                  <a:pt x="380" y="347"/>
                </a:lnTo>
                <a:lnTo>
                  <a:pt x="108" y="310"/>
                </a:lnTo>
                <a:lnTo>
                  <a:pt x="0" y="196"/>
                </a:lnTo>
                <a:lnTo>
                  <a:pt x="37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122880" y="1951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92360" y="1125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621480" y="7542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975280" y="1682640"/>
            <a:ext cx="654120" cy="641520"/>
          </a:xfrm>
          <a:custGeom>
            <a:avLst/>
            <a:gdLst/>
            <a:ahLst/>
            <a:rect l="l" t="t" r="r" b="b"/>
            <a:pathLst>
              <a:path w="412" h="404">
                <a:moveTo>
                  <a:pt x="0" y="207"/>
                </a:moveTo>
                <a:lnTo>
                  <a:pt x="402" y="0"/>
                </a:lnTo>
                <a:lnTo>
                  <a:pt x="412" y="4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97360" y="168120"/>
            <a:ext cx="110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011560" y="163440"/>
            <a:ext cx="132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L-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476360" y="167148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315200" y="5238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6460200" y="1810080"/>
            <a:ext cx="344880" cy="262080"/>
            <a:chOff x="6460200" y="1810080"/>
            <a:chExt cx="344880" cy="262080"/>
          </a:xfrm>
        </p:grpSpPr>
        <p:sp>
          <p:nvSpPr>
            <p:cNvPr id="312" name=""/>
            <p:cNvSpPr/>
            <p:nvPr/>
          </p:nvSpPr>
          <p:spPr>
            <a:xfrm rot="1857600">
              <a:off x="6453000" y="1896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19593000">
              <a:off x="6453360" y="1906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1892160" y="428148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881360" y="5218200"/>
            <a:ext cx="661680" cy="820800"/>
          </a:xfrm>
          <a:custGeom>
            <a:avLst/>
            <a:gdLst/>
            <a:ahLst/>
            <a:rect l="l" t="t" r="r" b="b"/>
            <a:pathLst>
              <a:path w="417" h="517">
                <a:moveTo>
                  <a:pt x="0" y="354"/>
                </a:moveTo>
                <a:lnTo>
                  <a:pt x="14" y="0"/>
                </a:lnTo>
                <a:lnTo>
                  <a:pt x="393" y="157"/>
                </a:lnTo>
                <a:lnTo>
                  <a:pt x="417" y="517"/>
                </a:lnTo>
                <a:lnTo>
                  <a:pt x="0" y="3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7760" y="58294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380680" y="4597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889280" y="4229280"/>
            <a:ext cx="660240" cy="218088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884240" y="5180040"/>
            <a:ext cx="668520" cy="887400"/>
          </a:xfrm>
          <a:custGeom>
            <a:avLst/>
            <a:gdLst/>
            <a:ahLst/>
            <a:rect l="l" t="t" r="r" b="b"/>
            <a:pathLst>
              <a:path w="421" h="559">
                <a:moveTo>
                  <a:pt x="421" y="559"/>
                </a:moveTo>
                <a:lnTo>
                  <a:pt x="0" y="373"/>
                </a:lnTo>
                <a:lnTo>
                  <a:pt x="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613560" y="4278240"/>
            <a:ext cx="71424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200640" y="4781520"/>
            <a:ext cx="1238400" cy="932040"/>
          </a:xfrm>
          <a:custGeom>
            <a:avLst/>
            <a:gdLst/>
            <a:ahLst/>
            <a:rect l="l" t="t" r="r" b="b"/>
            <a:pathLst>
              <a:path w="780" h="587">
                <a:moveTo>
                  <a:pt x="257" y="240"/>
                </a:moveTo>
                <a:lnTo>
                  <a:pt x="261" y="587"/>
                </a:lnTo>
                <a:lnTo>
                  <a:pt x="18" y="498"/>
                </a:lnTo>
                <a:lnTo>
                  <a:pt x="0" y="36"/>
                </a:lnTo>
                <a:lnTo>
                  <a:pt x="438" y="0"/>
                </a:lnTo>
                <a:lnTo>
                  <a:pt x="780" y="258"/>
                </a:lnTo>
                <a:lnTo>
                  <a:pt x="666" y="432"/>
                </a:lnTo>
                <a:lnTo>
                  <a:pt x="257" y="24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948360" y="54421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090560" y="4597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20040" y="422604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611760" y="5154480"/>
            <a:ext cx="665280" cy="641520"/>
          </a:xfrm>
          <a:custGeom>
            <a:avLst/>
            <a:gdLst/>
            <a:ahLst/>
            <a:rect l="l" t="t" r="r" b="b"/>
            <a:pathLst>
              <a:path w="419" h="404">
                <a:moveTo>
                  <a:pt x="419" y="203"/>
                </a:moveTo>
                <a:lnTo>
                  <a:pt x="0" y="0"/>
                </a:lnTo>
                <a:lnTo>
                  <a:pt x="10" y="4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95920" y="3639960"/>
            <a:ext cx="112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010840" y="363528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R-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6458400" y="5281920"/>
            <a:ext cx="344880" cy="262080"/>
            <a:chOff x="6458400" y="5281920"/>
            <a:chExt cx="344880" cy="262080"/>
          </a:xfrm>
        </p:grpSpPr>
        <p:sp>
          <p:nvSpPr>
            <p:cNvPr id="329" name=""/>
            <p:cNvSpPr/>
            <p:nvPr/>
          </p:nvSpPr>
          <p:spPr>
            <a:xfrm rot="1857600">
              <a:off x="6451200" y="53686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19593000">
              <a:off x="6451560" y="53780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4948200" y="4251240"/>
            <a:ext cx="1003320" cy="1490760"/>
          </a:xfrm>
          <a:custGeom>
            <a:avLst/>
            <a:gdLst/>
            <a:ahLst/>
            <a:rect l="l" t="t" r="r" b="b"/>
            <a:pathLst>
              <a:path w="632" h="939">
                <a:moveTo>
                  <a:pt x="632" y="780"/>
                </a:moveTo>
                <a:lnTo>
                  <a:pt x="211" y="592"/>
                </a:lnTo>
                <a:lnTo>
                  <a:pt x="215" y="939"/>
                </a:lnTo>
                <a:lnTo>
                  <a:pt x="0" y="0"/>
                </a:lnTo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284800" y="4268880"/>
            <a:ext cx="646200" cy="2128680"/>
          </a:xfrm>
          <a:custGeom>
            <a:avLst/>
            <a:gdLst/>
            <a:ahLst/>
            <a:rect l="l" t="t" r="r" b="b"/>
            <a:pathLst>
              <a:path w="407" h="1341">
                <a:moveTo>
                  <a:pt x="16" y="1341"/>
                </a:moveTo>
                <a:lnTo>
                  <a:pt x="0" y="371"/>
                </a:lnTo>
                <a:lnTo>
                  <a:pt x="407" y="0"/>
                </a:lnTo>
                <a:lnTo>
                  <a:pt x="130" y="942"/>
                </a:lnTo>
                <a:lnTo>
                  <a:pt x="16" y="1341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046480" y="4537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294160" y="4238640"/>
            <a:ext cx="648000" cy="2197080"/>
          </a:xfrm>
          <a:custGeom>
            <a:avLst/>
            <a:gdLst/>
            <a:ahLst/>
            <a:rect l="l" t="t" r="r" b="b"/>
            <a:pathLst>
              <a:path w="408" h="1384">
                <a:moveTo>
                  <a:pt x="2" y="1384"/>
                </a:moveTo>
                <a:lnTo>
                  <a:pt x="0" y="408"/>
                </a:lnTo>
                <a:lnTo>
                  <a:pt x="408" y="0"/>
                </a:lnTo>
              </a:path>
            </a:pathLst>
          </a:custGeom>
          <a:noFill/>
          <a:ln w="1908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286240" y="5183280"/>
            <a:ext cx="665280" cy="641160"/>
          </a:xfrm>
          <a:custGeom>
            <a:avLst/>
            <a:gdLst/>
            <a:ahLst/>
            <a:rect l="l" t="t" r="r" b="b"/>
            <a:pathLst>
              <a:path w="419" h="404">
                <a:moveTo>
                  <a:pt x="419" y="203"/>
                </a:moveTo>
                <a:lnTo>
                  <a:pt x="0" y="0"/>
                </a:lnTo>
                <a:lnTo>
                  <a:pt x="10" y="404"/>
                </a:lnTo>
              </a:path>
            </a:pathLst>
          </a:custGeom>
          <a:noFill/>
          <a:ln w="1908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289480" y="4238640"/>
            <a:ext cx="647640" cy="2185920"/>
          </a:xfrm>
          <a:custGeom>
            <a:avLst/>
            <a:gdLst/>
            <a:ahLst/>
            <a:rect l="l" t="t" r="r" b="b"/>
            <a:pathLst>
              <a:path w="408" h="1377">
                <a:moveTo>
                  <a:pt x="408" y="0"/>
                </a:moveTo>
                <a:lnTo>
                  <a:pt x="0" y="1377"/>
                </a:lnTo>
              </a:path>
            </a:pathLst>
          </a:custGeom>
          <a:noFill/>
          <a:ln w="1908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941720" y="4238640"/>
            <a:ext cx="1016280" cy="1523880"/>
          </a:xfrm>
          <a:custGeom>
            <a:avLst/>
            <a:gdLst/>
            <a:ahLst/>
            <a:rect l="l" t="t" r="r" b="b"/>
            <a:pathLst>
              <a:path w="640" h="960">
                <a:moveTo>
                  <a:pt x="216" y="960"/>
                </a:moveTo>
                <a:lnTo>
                  <a:pt x="0" y="0"/>
                </a:lnTo>
                <a:lnTo>
                  <a:pt x="640" y="792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303880" y="4824360"/>
            <a:ext cx="338040" cy="486000"/>
          </a:xfrm>
          <a:custGeom>
            <a:avLst/>
            <a:gdLst/>
            <a:ahLst/>
            <a:rect l="l" t="t" r="r" b="b"/>
            <a:pathLst>
              <a:path w="213" h="306">
                <a:moveTo>
                  <a:pt x="6" y="216"/>
                </a:moveTo>
                <a:lnTo>
                  <a:pt x="0" y="51"/>
                </a:lnTo>
                <a:lnTo>
                  <a:pt x="51" y="0"/>
                </a:lnTo>
                <a:lnTo>
                  <a:pt x="213" y="201"/>
                </a:lnTo>
                <a:lnTo>
                  <a:pt x="180" y="306"/>
                </a:lnTo>
                <a:lnTo>
                  <a:pt x="27" y="228"/>
                </a:lnTo>
              </a:path>
            </a:pathLst>
          </a:custGeom>
          <a:noFill/>
          <a:ln w="19080">
            <a:solidFill>
              <a:srgbClr val="ff9933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913280" y="4143240"/>
            <a:ext cx="1090800" cy="2347920"/>
          </a:xfrm>
          <a:custGeom>
            <a:avLst/>
            <a:gdLst/>
            <a:ahLst/>
            <a:rect l="l" t="t" r="r" b="b"/>
            <a:pathLst>
              <a:path w="687" h="1479">
                <a:moveTo>
                  <a:pt x="228" y="1479"/>
                </a:moveTo>
                <a:lnTo>
                  <a:pt x="213" y="1038"/>
                </a:lnTo>
                <a:lnTo>
                  <a:pt x="114" y="612"/>
                </a:lnTo>
                <a:lnTo>
                  <a:pt x="0" y="30"/>
                </a:lnTo>
                <a:lnTo>
                  <a:pt x="303" y="375"/>
                </a:lnTo>
                <a:lnTo>
                  <a:pt x="675" y="0"/>
                </a:lnTo>
                <a:lnTo>
                  <a:pt x="504" y="621"/>
                </a:lnTo>
                <a:lnTo>
                  <a:pt x="687" y="879"/>
                </a:lnTo>
                <a:lnTo>
                  <a:pt x="453" y="786"/>
                </a:lnTo>
                <a:lnTo>
                  <a:pt x="252" y="1461"/>
                </a:lnTo>
              </a:path>
            </a:pathLst>
          </a:custGeom>
          <a:noFill/>
          <a:ln w="19080">
            <a:solidFill>
              <a:srgbClr val="ff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665320" y="4591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54800" y="3992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535040" y="553572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Piet</cp:lastModifiedBy>
  <dcterms:modified xsi:type="dcterms:W3CDTF">2010-10-31T13:42:34Z</dcterms:modified>
  <cp:revision>390</cp:revision>
  <dc:subject/>
  <dc:title>Slide 1</dc:title>
</cp:coreProperties>
</file>