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A428-61CA-4697-8E6D-446B6A8C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AD12-0C50-424F-844A-5156A47E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7460-8A70-442D-8C9B-DA2643F3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F344-72FE-4EAF-9F9E-DB809AAF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0A41-EE93-4E81-A832-E32B3163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32C2-C8A3-4782-AEAD-B4F07EC0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C764-774F-4071-B00A-69D3C6BD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1C91-049B-4D27-A8AE-5C73AD88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72BE-6527-4953-9F32-BF9995BE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B46A-DF26-404A-B1F3-1453E01D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095B-813C-4875-A79F-0C5D7545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272B-0C06-4257-8D37-432BF054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C3D3-CD84-4523-A276-FC352626C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_cases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st/algorithms/overlay/overlay_cases.h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sed in the unit t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t_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ra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me of them are used in union/inter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te: the majority is drawn as powerpoint arrows. The newer system is to dra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ygons and is used at the last cases. The first cases should be updated to tha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br>
              <a:rPr sz="1100"/>
            </a:b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4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2, partially eq fake h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3 semi-i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1, 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0, col. opp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3049560" y="1395360"/>
            <a:ext cx="1892160" cy="1587600"/>
          </a:xfrm>
          <a:custGeom>
            <a:avLst/>
            <a:gdLst/>
            <a:ahLst/>
            <a:rect l="l" t="t" r="r" b="b"/>
            <a:pathLst>
              <a:path w="1192" h="1000">
                <a:moveTo>
                  <a:pt x="1192" y="0"/>
                </a:moveTo>
                <a:lnTo>
                  <a:pt x="1176" y="984"/>
                </a:lnTo>
                <a:lnTo>
                  <a:pt x="0" y="1000"/>
                </a:lnTo>
                <a:lnTo>
                  <a:pt x="0" y="16"/>
                </a:lnTo>
                <a:lnTo>
                  <a:pt x="119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49560" y="343080"/>
            <a:ext cx="2359080" cy="2603160"/>
          </a:xfrm>
          <a:custGeom>
            <a:avLst/>
            <a:gdLst/>
            <a:ahLst/>
            <a:rect l="l" t="t" r="r" b="b"/>
            <a:pathLst>
              <a:path w="1486" h="1640">
                <a:moveTo>
                  <a:pt x="1486" y="0"/>
                </a:moveTo>
                <a:lnTo>
                  <a:pt x="1462" y="1640"/>
                </a:lnTo>
                <a:lnTo>
                  <a:pt x="1205" y="1632"/>
                </a:lnTo>
                <a:lnTo>
                  <a:pt x="1190" y="650"/>
                </a:lnTo>
                <a:lnTo>
                  <a:pt x="0" y="660"/>
                </a:lnTo>
                <a:lnTo>
                  <a:pt x="6" y="8"/>
                </a:lnTo>
                <a:lnTo>
                  <a:pt x="148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95640" y="13809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7480" y="13953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19360" y="1419120"/>
            <a:ext cx="46692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50080" y="353880"/>
            <a:ext cx="234936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29240" y="816120"/>
            <a:ext cx="1409760" cy="1571400"/>
          </a:xfrm>
          <a:custGeom>
            <a:avLst/>
            <a:gdLst/>
            <a:ahLst/>
            <a:rect l="l" t="t" r="r" b="b"/>
            <a:pathLst>
              <a:path w="888" h="990">
                <a:moveTo>
                  <a:pt x="582" y="0"/>
                </a:moveTo>
                <a:lnTo>
                  <a:pt x="0" y="678"/>
                </a:lnTo>
                <a:lnTo>
                  <a:pt x="888" y="990"/>
                </a:lnTo>
                <a:lnTo>
                  <a:pt x="582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486480" y="882720"/>
            <a:ext cx="1305000" cy="1447560"/>
          </a:xfrm>
          <a:custGeom>
            <a:avLst/>
            <a:gdLst/>
            <a:ahLst/>
            <a:rect l="l" t="t" r="r" b="b"/>
            <a:pathLst>
              <a:path w="822" h="912">
                <a:moveTo>
                  <a:pt x="540" y="0"/>
                </a:moveTo>
                <a:lnTo>
                  <a:pt x="822" y="912"/>
                </a:lnTo>
                <a:lnTo>
                  <a:pt x="0" y="624"/>
                </a:lnTo>
                <a:lnTo>
                  <a:pt x="54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2200" y="3635280"/>
            <a:ext cx="234972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870" y="1280"/>
                </a:lnTo>
                <a:lnTo>
                  <a:pt x="1170" y="314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3080" y="3648240"/>
            <a:ext cx="2314440" cy="2562120"/>
          </a:xfrm>
          <a:custGeom>
            <a:avLst/>
            <a:gdLst/>
            <a:ahLst/>
            <a:rect l="l" t="t" r="r" b="b"/>
            <a:pathLst>
              <a:path w="1458" h="1614">
                <a:moveTo>
                  <a:pt x="1158" y="1308"/>
                </a:moveTo>
                <a:lnTo>
                  <a:pt x="12" y="1614"/>
                </a:lnTo>
                <a:lnTo>
                  <a:pt x="0" y="48"/>
                </a:lnTo>
                <a:lnTo>
                  <a:pt x="870" y="1326"/>
                </a:lnTo>
                <a:lnTo>
                  <a:pt x="1188" y="294"/>
                </a:lnTo>
                <a:lnTo>
                  <a:pt x="54" y="0"/>
                </a:lnTo>
                <a:lnTo>
                  <a:pt x="1458" y="6"/>
                </a:lnTo>
                <a:lnTo>
                  <a:pt x="1158" y="130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1360" y="4665600"/>
            <a:ext cx="48744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75040" y="5521320"/>
            <a:ext cx="936720" cy="702360"/>
          </a:xfrm>
          <a:prstGeom prst="rect">
            <a:avLst/>
          </a:prstGeom>
          <a:solidFill>
            <a:srgbClr val="ffff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wo reps, one with tangent hole; one with (not SF valid) self-to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519360" y="522900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4036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72" y="993"/>
                </a:lnTo>
                <a:lnTo>
                  <a:pt x="868" y="1307"/>
                </a:lnTo>
                <a:lnTo>
                  <a:pt x="1180" y="1306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77" y="645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96120" y="4653000"/>
            <a:ext cx="1393920" cy="1590480"/>
          </a:xfrm>
          <a:custGeom>
            <a:avLst/>
            <a:gdLst/>
            <a:ahLst/>
            <a:rect l="l" t="t" r="r" b="b"/>
            <a:pathLst>
              <a:path w="878" h="1002">
                <a:moveTo>
                  <a:pt x="877" y="3"/>
                </a:moveTo>
                <a:lnTo>
                  <a:pt x="878" y="1002"/>
                </a:lnTo>
                <a:lnTo>
                  <a:pt x="0" y="998"/>
                </a:lnTo>
                <a:lnTo>
                  <a:pt x="2" y="357"/>
                </a:lnTo>
                <a:lnTo>
                  <a:pt x="278" y="351"/>
                </a:lnTo>
                <a:lnTo>
                  <a:pt x="279" y="689"/>
                </a:lnTo>
                <a:lnTo>
                  <a:pt x="602" y="683"/>
                </a:lnTo>
                <a:lnTo>
                  <a:pt x="599" y="335"/>
                </a:lnTo>
                <a:lnTo>
                  <a:pt x="290" y="345"/>
                </a:lnTo>
                <a:lnTo>
                  <a:pt x="296" y="0"/>
                </a:lnTo>
                <a:lnTo>
                  <a:pt x="877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04000" y="515772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70360" y="510372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24360" y="134136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5, 2xsemi-i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8 fourf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5964120" y="382680"/>
          <a:ext cx="232740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7 semi-multi+simp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059280" y="360360"/>
          <a:ext cx="2327040" cy="3103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6 semi-interior+semi-mul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304920" y="330120"/>
            <a:ext cx="2324160" cy="2616120"/>
          </a:xfrm>
          <a:custGeom>
            <a:avLst/>
            <a:gdLst/>
            <a:ahLst/>
            <a:rect l="l" t="t" r="r" b="b"/>
            <a:pathLst>
              <a:path w="1464" h="1648">
                <a:moveTo>
                  <a:pt x="1458" y="1645"/>
                </a:moveTo>
                <a:lnTo>
                  <a:pt x="591" y="1648"/>
                </a:lnTo>
                <a:lnTo>
                  <a:pt x="596" y="997"/>
                </a:lnTo>
                <a:lnTo>
                  <a:pt x="880" y="1309"/>
                </a:lnTo>
                <a:lnTo>
                  <a:pt x="1191" y="1313"/>
                </a:lnTo>
                <a:lnTo>
                  <a:pt x="1184" y="328"/>
                </a:lnTo>
                <a:lnTo>
                  <a:pt x="288" y="329"/>
                </a:lnTo>
                <a:lnTo>
                  <a:pt x="288" y="655"/>
                </a:lnTo>
                <a:lnTo>
                  <a:pt x="585" y="980"/>
                </a:lnTo>
                <a:lnTo>
                  <a:pt x="0" y="976"/>
                </a:lnTo>
                <a:lnTo>
                  <a:pt x="0" y="0"/>
                </a:lnTo>
                <a:lnTo>
                  <a:pt x="1464" y="4"/>
                </a:lnTo>
                <a:lnTo>
                  <a:pt x="1458" y="16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1370160"/>
            <a:ext cx="1398600" cy="1542960"/>
          </a:xfrm>
          <a:custGeom>
            <a:avLst/>
            <a:gdLst/>
            <a:ahLst/>
            <a:rect l="l" t="t" r="r" b="b"/>
            <a:pathLst>
              <a:path w="881" h="972">
                <a:moveTo>
                  <a:pt x="876" y="3"/>
                </a:moveTo>
                <a:lnTo>
                  <a:pt x="881" y="972"/>
                </a:lnTo>
                <a:lnTo>
                  <a:pt x="2" y="967"/>
                </a:lnTo>
                <a:lnTo>
                  <a:pt x="0" y="657"/>
                </a:lnTo>
                <a:lnTo>
                  <a:pt x="289" y="333"/>
                </a:lnTo>
                <a:lnTo>
                  <a:pt x="291" y="654"/>
                </a:lnTo>
                <a:lnTo>
                  <a:pt x="588" y="652"/>
                </a:lnTo>
                <a:lnTo>
                  <a:pt x="590" y="327"/>
                </a:lnTo>
                <a:lnTo>
                  <a:pt x="301" y="327"/>
                </a:lnTo>
                <a:lnTo>
                  <a:pt x="590" y="0"/>
                </a:lnTo>
                <a:lnTo>
                  <a:pt x="876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87280" y="184644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62160" y="1386000"/>
            <a:ext cx="2297160" cy="155880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05320" y="876240"/>
            <a:ext cx="1866960" cy="2070000"/>
          </a:xfrm>
          <a:custGeom>
            <a:avLst/>
            <a:gdLst/>
            <a:ahLst/>
            <a:rect l="l" t="t" r="r" b="b"/>
            <a:pathLst>
              <a:path w="1176" h="1304">
                <a:moveTo>
                  <a:pt x="1168" y="1296"/>
                </a:moveTo>
                <a:lnTo>
                  <a:pt x="600" y="1296"/>
                </a:lnTo>
                <a:lnTo>
                  <a:pt x="880" y="968"/>
                </a:lnTo>
                <a:lnTo>
                  <a:pt x="888" y="328"/>
                </a:lnTo>
                <a:lnTo>
                  <a:pt x="288" y="328"/>
                </a:lnTo>
                <a:lnTo>
                  <a:pt x="304" y="968"/>
                </a:lnTo>
                <a:lnTo>
                  <a:pt x="568" y="1288"/>
                </a:lnTo>
                <a:lnTo>
                  <a:pt x="0" y="1304"/>
                </a:lnTo>
                <a:lnTo>
                  <a:pt x="16" y="0"/>
                </a:lnTo>
                <a:lnTo>
                  <a:pt x="1176" y="8"/>
                </a:lnTo>
                <a:lnTo>
                  <a:pt x="1168" y="1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58000" y="1411200"/>
            <a:ext cx="2297160" cy="155916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9160" y="393840"/>
            <a:ext cx="2286000" cy="259056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1184" y="0"/>
                </a:moveTo>
                <a:lnTo>
                  <a:pt x="1440" y="1608"/>
                </a:lnTo>
                <a:lnTo>
                  <a:pt x="0" y="1632"/>
                </a:lnTo>
                <a:lnTo>
                  <a:pt x="11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30120" y="3632040"/>
            <a:ext cx="2298960" cy="2590920"/>
          </a:xfrm>
          <a:custGeom>
            <a:avLst/>
            <a:gdLst/>
            <a:ahLst/>
            <a:rect l="l" t="t" r="r" b="b"/>
            <a:pathLst>
              <a:path w="1448" h="1632">
                <a:moveTo>
                  <a:pt x="289" y="318"/>
                </a:moveTo>
                <a:lnTo>
                  <a:pt x="289" y="649"/>
                </a:lnTo>
                <a:lnTo>
                  <a:pt x="1156" y="318"/>
                </a:lnTo>
                <a:lnTo>
                  <a:pt x="584" y="656"/>
                </a:lnTo>
                <a:lnTo>
                  <a:pt x="580" y="973"/>
                </a:lnTo>
                <a:lnTo>
                  <a:pt x="1165" y="337"/>
                </a:lnTo>
                <a:lnTo>
                  <a:pt x="875" y="973"/>
                </a:lnTo>
                <a:lnTo>
                  <a:pt x="1174" y="972"/>
                </a:lnTo>
                <a:lnTo>
                  <a:pt x="1184" y="333"/>
                </a:lnTo>
                <a:lnTo>
                  <a:pt x="1448" y="1632"/>
                </a:lnTo>
                <a:lnTo>
                  <a:pt x="0" y="976"/>
                </a:lnTo>
                <a:lnTo>
                  <a:pt x="0" y="0"/>
                </a:lnTo>
                <a:lnTo>
                  <a:pt x="1165" y="300"/>
                </a:lnTo>
                <a:lnTo>
                  <a:pt x="289" y="31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703520" y="4132440"/>
            <a:ext cx="48708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76720" y="4356000"/>
            <a:ext cx="1422360" cy="1587600"/>
          </a:xfrm>
          <a:custGeom>
            <a:avLst/>
            <a:gdLst/>
            <a:ahLst/>
            <a:rect l="l" t="t" r="r" b="b"/>
            <a:pathLst>
              <a:path w="896" h="1000">
                <a:moveTo>
                  <a:pt x="896" y="0"/>
                </a:moveTo>
                <a:lnTo>
                  <a:pt x="720" y="1000"/>
                </a:lnTo>
                <a:lnTo>
                  <a:pt x="424" y="528"/>
                </a:lnTo>
                <a:lnTo>
                  <a:pt x="0" y="192"/>
                </a:lnTo>
                <a:lnTo>
                  <a:pt x="8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88200" y="3657600"/>
            <a:ext cx="1854000" cy="2082960"/>
          </a:xfrm>
          <a:custGeom>
            <a:avLst/>
            <a:gdLst/>
            <a:ahLst/>
            <a:rect l="l" t="t" r="r" b="b"/>
            <a:pathLst>
              <a:path w="1168" h="1312">
                <a:moveTo>
                  <a:pt x="1168" y="0"/>
                </a:moveTo>
                <a:lnTo>
                  <a:pt x="600" y="1312"/>
                </a:lnTo>
                <a:lnTo>
                  <a:pt x="0" y="632"/>
                </a:lnTo>
                <a:lnTo>
                  <a:pt x="116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1984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1 self-tangent bo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6 multi overlap/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5964120" y="382680"/>
          <a:ext cx="2327400" cy="314640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3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2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>
            <a:off x="762120" y="136512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1892160"/>
            <a:ext cx="46980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231920" y="8445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368360"/>
            <a:ext cx="47016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94200" y="8859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95600" y="1384200"/>
            <a:ext cx="51444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521160" y="1419120"/>
            <a:ext cx="450720" cy="50508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96160" y="190188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07280" y="1371600"/>
            <a:ext cx="51408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432480" y="1406520"/>
            <a:ext cx="451080" cy="50472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66800" y="517680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4960" y="5195880"/>
            <a:ext cx="42840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31920" y="4641840"/>
            <a:ext cx="469800" cy="5205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11800" y="5173560"/>
            <a:ext cx="947520" cy="50508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483000" y="516240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65400" y="464184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87720" y="4667400"/>
            <a:ext cx="419040" cy="47628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927760" y="3645000"/>
            <a:ext cx="466560" cy="103500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97560" y="468000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4699080"/>
            <a:ext cx="900000" cy="476280"/>
          </a:xfrm>
          <a:custGeom>
            <a:avLst/>
            <a:gdLst/>
            <a:ahLst/>
            <a:rect l="l" t="t" r="r" b="b"/>
            <a:pathLst>
              <a:path w="567" h="300">
                <a:moveTo>
                  <a:pt x="567" y="0"/>
                </a:moveTo>
                <a:lnTo>
                  <a:pt x="564" y="300"/>
                </a:lnTo>
                <a:lnTo>
                  <a:pt x="0" y="300"/>
                </a:lnTo>
                <a:lnTo>
                  <a:pt x="0" y="4"/>
                </a:lnTo>
                <a:lnTo>
                  <a:pt x="56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10160" y="569592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77080" y="5194440"/>
            <a:ext cx="920880" cy="5140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766800" y="168444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43080" y="1703520"/>
            <a:ext cx="44748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9160" y="12510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454640" y="1200240"/>
            <a:ext cx="898560" cy="5144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959280" y="1670040"/>
            <a:ext cx="504720" cy="5396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06800" y="1701720"/>
            <a:ext cx="882720" cy="4762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02120" y="12384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89480" y="1263600"/>
            <a:ext cx="504720" cy="4888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67360" y="819000"/>
            <a:ext cx="505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67360" y="2203560"/>
            <a:ext cx="505080" cy="46332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340760" y="1301760"/>
            <a:ext cx="46980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10160" y="1308240"/>
            <a:ext cx="505080" cy="901440"/>
          </a:xfrm>
          <a:custGeom>
            <a:avLst/>
            <a:gdLst/>
            <a:ahLst/>
            <a:rect l="l" t="t" r="r" b="b"/>
            <a:pathLst>
              <a:path w="318" h="568">
                <a:moveTo>
                  <a:pt x="314" y="0"/>
                </a:moveTo>
                <a:lnTo>
                  <a:pt x="318" y="565"/>
                </a:lnTo>
                <a:lnTo>
                  <a:pt x="0" y="568"/>
                </a:lnTo>
                <a:lnTo>
                  <a:pt x="2" y="3"/>
                </a:lnTo>
                <a:lnTo>
                  <a:pt x="31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38960" y="1758960"/>
            <a:ext cx="419040" cy="4190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60320" y="4443480"/>
            <a:ext cx="1422360" cy="1371600"/>
          </a:xfrm>
          <a:custGeom>
            <a:avLst/>
            <a:gdLst/>
            <a:ahLst/>
            <a:rect l="l" t="t" r="r" b="b"/>
            <a:pathLst>
              <a:path w="896" h="864">
                <a:moveTo>
                  <a:pt x="896" y="1"/>
                </a:moveTo>
                <a:lnTo>
                  <a:pt x="892" y="864"/>
                </a:lnTo>
                <a:lnTo>
                  <a:pt x="301" y="861"/>
                </a:lnTo>
                <a:lnTo>
                  <a:pt x="298" y="573"/>
                </a:lnTo>
                <a:lnTo>
                  <a:pt x="598" y="573"/>
                </a:lnTo>
                <a:lnTo>
                  <a:pt x="601" y="294"/>
                </a:lnTo>
                <a:lnTo>
                  <a:pt x="307" y="288"/>
                </a:lnTo>
                <a:lnTo>
                  <a:pt x="301" y="855"/>
                </a:lnTo>
                <a:lnTo>
                  <a:pt x="0" y="857"/>
                </a:lnTo>
                <a:lnTo>
                  <a:pt x="6" y="1"/>
                </a:lnTo>
                <a:lnTo>
                  <a:pt x="406" y="0"/>
                </a:lnTo>
                <a:lnTo>
                  <a:pt x="896" y="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79400" y="4890960"/>
            <a:ext cx="1401840" cy="909720"/>
          </a:xfrm>
          <a:custGeom>
            <a:avLst/>
            <a:gdLst/>
            <a:ahLst/>
            <a:rect l="l" t="t" r="r" b="b"/>
            <a:pathLst>
              <a:path w="883" h="573">
                <a:moveTo>
                  <a:pt x="883" y="0"/>
                </a:moveTo>
                <a:lnTo>
                  <a:pt x="880" y="573"/>
                </a:lnTo>
                <a:lnTo>
                  <a:pt x="589" y="570"/>
                </a:lnTo>
                <a:lnTo>
                  <a:pt x="595" y="312"/>
                </a:lnTo>
                <a:lnTo>
                  <a:pt x="301" y="312"/>
                </a:lnTo>
                <a:lnTo>
                  <a:pt x="295" y="570"/>
                </a:lnTo>
                <a:lnTo>
                  <a:pt x="0" y="571"/>
                </a:lnTo>
                <a:lnTo>
                  <a:pt x="1" y="0"/>
                </a:lnTo>
                <a:lnTo>
                  <a:pt x="883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4524480"/>
            <a:ext cx="1847880" cy="1390680"/>
          </a:xfrm>
          <a:custGeom>
            <a:avLst/>
            <a:gdLst/>
            <a:ahLst/>
            <a:rect l="l" t="t" r="r" b="b"/>
            <a:pathLst>
              <a:path w="1164" h="876">
                <a:moveTo>
                  <a:pt x="1164" y="873"/>
                </a:moveTo>
                <a:lnTo>
                  <a:pt x="0" y="876"/>
                </a:lnTo>
                <a:lnTo>
                  <a:pt x="0" y="6"/>
                </a:lnTo>
                <a:lnTo>
                  <a:pt x="294" y="0"/>
                </a:lnTo>
                <a:lnTo>
                  <a:pt x="285" y="588"/>
                </a:lnTo>
                <a:lnTo>
                  <a:pt x="867" y="582"/>
                </a:lnTo>
                <a:lnTo>
                  <a:pt x="873" y="288"/>
                </a:lnTo>
                <a:lnTo>
                  <a:pt x="1164" y="294"/>
                </a:lnTo>
                <a:lnTo>
                  <a:pt x="1164" y="8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63960" y="4543560"/>
            <a:ext cx="1376280" cy="43956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948280" y="4098960"/>
            <a:ext cx="1855800" cy="1835280"/>
          </a:xfrm>
          <a:custGeom>
            <a:avLst/>
            <a:gdLst/>
            <a:ahLst/>
            <a:rect l="l" t="t" r="r" b="b"/>
            <a:pathLst>
              <a:path w="1169" h="1156">
                <a:moveTo>
                  <a:pt x="1169" y="0"/>
                </a:moveTo>
                <a:lnTo>
                  <a:pt x="879" y="1156"/>
                </a:lnTo>
                <a:lnTo>
                  <a:pt x="873" y="289"/>
                </a:lnTo>
                <a:lnTo>
                  <a:pt x="0" y="289"/>
                </a:lnTo>
                <a:lnTo>
                  <a:pt x="1169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410160" y="455760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6" y="0"/>
                </a:moveTo>
                <a:lnTo>
                  <a:pt x="291" y="576"/>
                </a:lnTo>
                <a:lnTo>
                  <a:pt x="0" y="285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92400" y="4562640"/>
            <a:ext cx="419400" cy="39996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958000" y="4100400"/>
            <a:ext cx="1842840" cy="1838520"/>
          </a:xfrm>
          <a:custGeom>
            <a:avLst/>
            <a:gdLst/>
            <a:ahLst/>
            <a:rect l="l" t="t" r="r" b="b"/>
            <a:pathLst>
              <a:path w="1161" h="1158">
                <a:moveTo>
                  <a:pt x="873" y="276"/>
                </a:moveTo>
                <a:lnTo>
                  <a:pt x="1161" y="867"/>
                </a:lnTo>
                <a:lnTo>
                  <a:pt x="0" y="1158"/>
                </a:lnTo>
                <a:lnTo>
                  <a:pt x="285" y="0"/>
                </a:lnTo>
                <a:lnTo>
                  <a:pt x="873" y="2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7" name=""/>
          <p:cNvSpPr/>
          <p:nvPr/>
        </p:nvSpPr>
        <p:spPr>
          <a:xfrm>
            <a:off x="755640" y="1231920"/>
            <a:ext cx="939960" cy="947880"/>
          </a:xfrm>
          <a:custGeom>
            <a:avLst/>
            <a:gdLst/>
            <a:ahLst/>
            <a:rect l="l" t="t" r="r" b="b"/>
            <a:pathLst>
              <a:path w="592" h="597">
                <a:moveTo>
                  <a:pt x="588" y="0"/>
                </a:moveTo>
                <a:lnTo>
                  <a:pt x="592" y="592"/>
                </a:lnTo>
                <a:lnTo>
                  <a:pt x="7" y="597"/>
                </a:lnTo>
                <a:lnTo>
                  <a:pt x="7" y="291"/>
                </a:lnTo>
                <a:lnTo>
                  <a:pt x="0" y="300"/>
                </a:lnTo>
                <a:lnTo>
                  <a:pt x="296" y="304"/>
                </a:lnTo>
                <a:lnTo>
                  <a:pt x="292" y="0"/>
                </a:lnTo>
                <a:lnTo>
                  <a:pt x="5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44520" y="1251000"/>
            <a:ext cx="41904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93800" y="1733400"/>
            <a:ext cx="41904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73320" y="361800"/>
            <a:ext cx="1854360" cy="2292480"/>
          </a:xfrm>
          <a:custGeom>
            <a:avLst/>
            <a:gdLst/>
            <a:ahLst/>
            <a:rect l="l" t="t" r="r" b="b"/>
            <a:pathLst>
              <a:path w="1168" h="1444">
                <a:moveTo>
                  <a:pt x="1164" y="8"/>
                </a:moveTo>
                <a:lnTo>
                  <a:pt x="1168" y="1444"/>
                </a:lnTo>
                <a:lnTo>
                  <a:pt x="576" y="1440"/>
                </a:lnTo>
                <a:lnTo>
                  <a:pt x="580" y="1152"/>
                </a:lnTo>
                <a:lnTo>
                  <a:pt x="872" y="1156"/>
                </a:lnTo>
                <a:lnTo>
                  <a:pt x="860" y="576"/>
                </a:lnTo>
                <a:lnTo>
                  <a:pt x="284" y="572"/>
                </a:lnTo>
                <a:lnTo>
                  <a:pt x="284" y="864"/>
                </a:lnTo>
                <a:lnTo>
                  <a:pt x="576" y="860"/>
                </a:lnTo>
                <a:lnTo>
                  <a:pt x="572" y="1148"/>
                </a:lnTo>
                <a:lnTo>
                  <a:pt x="0" y="1152"/>
                </a:lnTo>
                <a:lnTo>
                  <a:pt x="4" y="0"/>
                </a:lnTo>
                <a:lnTo>
                  <a:pt x="1164" y="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98880" y="1282680"/>
            <a:ext cx="882720" cy="1365120"/>
          </a:xfrm>
          <a:custGeom>
            <a:avLst/>
            <a:gdLst/>
            <a:ahLst/>
            <a:rect l="l" t="t" r="r" b="b"/>
            <a:pathLst>
              <a:path w="556" h="860">
                <a:moveTo>
                  <a:pt x="256" y="572"/>
                </a:moveTo>
                <a:lnTo>
                  <a:pt x="552" y="572"/>
                </a:lnTo>
                <a:lnTo>
                  <a:pt x="556" y="860"/>
                </a:lnTo>
                <a:lnTo>
                  <a:pt x="0" y="860"/>
                </a:lnTo>
                <a:lnTo>
                  <a:pt x="0" y="0"/>
                </a:lnTo>
                <a:lnTo>
                  <a:pt x="252" y="4"/>
                </a:lnTo>
                <a:lnTo>
                  <a:pt x="256" y="5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21160" y="831960"/>
            <a:ext cx="460440" cy="419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365960" y="831960"/>
            <a:ext cx="457200" cy="4762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353360" y="1771560"/>
            <a:ext cx="46332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26360" y="838080"/>
            <a:ext cx="463320" cy="4510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32480" y="1758960"/>
            <a:ext cx="457200" cy="4572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99400" y="1282680"/>
            <a:ext cx="460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15240" y="1308240"/>
            <a:ext cx="406440" cy="4251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349200" y="3643200"/>
            <a:ext cx="2279880" cy="216540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1640" y="4135320"/>
            <a:ext cx="2311560" cy="17622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969160" y="3659040"/>
            <a:ext cx="2266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1 (c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8" name=""/>
          <p:cNvSpPr/>
          <p:nvPr/>
        </p:nvSpPr>
        <p:spPr>
          <a:xfrm>
            <a:off x="311040" y="330120"/>
            <a:ext cx="2324160" cy="2311560"/>
          </a:xfrm>
          <a:custGeom>
            <a:avLst/>
            <a:gdLst/>
            <a:ahLst/>
            <a:rect l="l" t="t" r="r" b="b"/>
            <a:pathLst>
              <a:path w="1464" h="1456">
                <a:moveTo>
                  <a:pt x="1464" y="0"/>
                </a:moveTo>
                <a:lnTo>
                  <a:pt x="1440" y="576"/>
                </a:lnTo>
                <a:lnTo>
                  <a:pt x="576" y="580"/>
                </a:lnTo>
                <a:lnTo>
                  <a:pt x="576" y="864"/>
                </a:lnTo>
                <a:lnTo>
                  <a:pt x="1440" y="868"/>
                </a:lnTo>
                <a:lnTo>
                  <a:pt x="1454" y="1438"/>
                </a:lnTo>
                <a:lnTo>
                  <a:pt x="0" y="1456"/>
                </a:lnTo>
                <a:lnTo>
                  <a:pt x="10" y="0"/>
                </a:lnTo>
                <a:lnTo>
                  <a:pt x="14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00" y="343080"/>
            <a:ext cx="2260800" cy="2279520"/>
          </a:xfrm>
          <a:custGeom>
            <a:avLst/>
            <a:gdLst/>
            <a:ahLst/>
            <a:rect l="l" t="t" r="r" b="b"/>
            <a:pathLst>
              <a:path w="1424" h="1436">
                <a:moveTo>
                  <a:pt x="1424" y="0"/>
                </a:moveTo>
                <a:lnTo>
                  <a:pt x="1416" y="1412"/>
                </a:lnTo>
                <a:lnTo>
                  <a:pt x="548" y="1432"/>
                </a:lnTo>
                <a:lnTo>
                  <a:pt x="552" y="860"/>
                </a:lnTo>
                <a:lnTo>
                  <a:pt x="256" y="860"/>
                </a:lnTo>
                <a:lnTo>
                  <a:pt x="252" y="1428"/>
                </a:lnTo>
                <a:lnTo>
                  <a:pt x="0" y="1436"/>
                </a:lnTo>
                <a:lnTo>
                  <a:pt x="0" y="8"/>
                </a:lnTo>
                <a:lnTo>
                  <a:pt x="142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6426360" y="831960"/>
            <a:ext cx="1384200" cy="1384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3232080" y="379440"/>
            <a:ext cx="1987560" cy="22446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3"/>
          <a:stretch/>
        </p:blipFill>
        <p:spPr>
          <a:xfrm>
            <a:off x="355680" y="4038480"/>
            <a:ext cx="2260440" cy="177804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4"/>
          <a:stretch/>
        </p:blipFill>
        <p:spPr>
          <a:xfrm>
            <a:off x="6419880" y="4114800"/>
            <a:ext cx="912960" cy="13399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5"/>
          <a:stretch/>
        </p:blipFill>
        <p:spPr>
          <a:xfrm>
            <a:off x="3051000" y="4114800"/>
            <a:ext cx="1393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5958000" y="657360"/>
            <a:ext cx="2336760" cy="18032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3260880" y="1038240"/>
            <a:ext cx="1484280" cy="100476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946080" y="1085760"/>
            <a:ext cx="8780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998720" y="456408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many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>
            <a:off x="2013120" y="914400"/>
            <a:ext cx="2419200" cy="1225440"/>
          </a:xfrm>
          <a:custGeom>
            <a:avLst/>
            <a:gdLst/>
            <a:ahLst/>
            <a:rect l="l" t="t" r="r" b="b"/>
            <a:pathLst>
              <a:path w="1524" h="772">
                <a:moveTo>
                  <a:pt x="0" y="772"/>
                </a:moveTo>
                <a:lnTo>
                  <a:pt x="152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743120" y="4249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25440" y="4734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25440" y="621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98720" y="3230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98720" y="1679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98720" y="204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5588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3200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2288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3092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38036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432320" y="927000"/>
            <a:ext cx="2438280" cy="1219320"/>
          </a:xfrm>
          <a:custGeom>
            <a:avLst/>
            <a:gdLst/>
            <a:ahLst/>
            <a:rect l="l" t="t" r="r" b="b"/>
            <a:pathLst>
              <a:path w="1536" h="768">
                <a:moveTo>
                  <a:pt x="0" y="0"/>
                </a:moveTo>
                <a:lnTo>
                  <a:pt x="1536" y="7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70600" y="2146320"/>
            <a:ext cx="12960" cy="2425680"/>
          </a:xfrm>
          <a:custGeom>
            <a:avLst/>
            <a:gdLst/>
            <a:ahLst/>
            <a:rect l="l" t="t" r="r" b="b"/>
            <a:pathLst>
              <a:path w="8" h="1528">
                <a:moveTo>
                  <a:pt x="8" y="0"/>
                </a:moveTo>
                <a:lnTo>
                  <a:pt x="0" y="15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22840" y="54673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00160" y="2127240"/>
            <a:ext cx="6480" cy="2406600"/>
          </a:xfrm>
          <a:custGeom>
            <a:avLst/>
            <a:gdLst/>
            <a:ahLst/>
            <a:rect l="l" t="t" r="r" b="b"/>
            <a:pathLst>
              <a:path w="4" h="1516">
                <a:moveTo>
                  <a:pt x="4" y="151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46480" y="330120"/>
            <a:ext cx="298440" cy="577800"/>
          </a:xfrm>
          <a:custGeom>
            <a:avLst/>
            <a:gdLst/>
            <a:ahLst/>
            <a:rect l="l" t="t" r="r" b="b"/>
            <a:pathLst>
              <a:path w="188" h="364">
                <a:moveTo>
                  <a:pt x="0" y="0"/>
                </a:moveTo>
                <a:lnTo>
                  <a:pt x="188" y="36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44920" y="939960"/>
            <a:ext cx="1800" cy="711000"/>
          </a:xfrm>
          <a:custGeom>
            <a:avLst/>
            <a:gdLst/>
            <a:ahLst/>
            <a:rect l="l" t="t" r="r" b="b"/>
            <a:pathLst>
              <a:path w="1" h="448">
                <a:moveTo>
                  <a:pt x="0" y="0"/>
                </a:moveTo>
                <a:lnTo>
                  <a:pt x="0" y="44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62440" y="1085760"/>
            <a:ext cx="290520" cy="14940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64000" y="1084320"/>
            <a:ext cx="300240" cy="585720"/>
          </a:xfrm>
          <a:custGeom>
            <a:avLst/>
            <a:gdLst/>
            <a:ahLst/>
            <a:rect l="l" t="t" r="r" b="b"/>
            <a:pathLst>
              <a:path w="189" h="369">
                <a:moveTo>
                  <a:pt x="0" y="369"/>
                </a:moveTo>
                <a:lnTo>
                  <a:pt x="189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49840" y="1225440"/>
            <a:ext cx="304920" cy="60336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43360" y="1822320"/>
            <a:ext cx="335160" cy="171720"/>
          </a:xfrm>
          <a:custGeom>
            <a:avLst/>
            <a:gdLst/>
            <a:ahLst/>
            <a:rect l="l" t="t" r="r" b="b"/>
            <a:pathLst>
              <a:path w="211" h="108">
                <a:moveTo>
                  <a:pt x="0" y="0"/>
                </a:moveTo>
                <a:lnTo>
                  <a:pt x="211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6720" y="1384200"/>
            <a:ext cx="282600" cy="611280"/>
          </a:xfrm>
          <a:custGeom>
            <a:avLst/>
            <a:gdLst/>
            <a:ahLst/>
            <a:rect l="l" t="t" r="r" b="b"/>
            <a:pathLst>
              <a:path w="178" h="385">
                <a:moveTo>
                  <a:pt x="0" y="385"/>
                </a:moveTo>
                <a:lnTo>
                  <a:pt x="1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78400" y="800280"/>
            <a:ext cx="298440" cy="571320"/>
          </a:xfrm>
          <a:custGeom>
            <a:avLst/>
            <a:gdLst/>
            <a:ahLst/>
            <a:rect l="l" t="t" r="r" b="b"/>
            <a:pathLst>
              <a:path w="188" h="360">
                <a:moveTo>
                  <a:pt x="0" y="360"/>
                </a:moveTo>
                <a:lnTo>
                  <a:pt x="18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86560" y="804960"/>
            <a:ext cx="290520" cy="14904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673600" y="944640"/>
            <a:ext cx="304920" cy="60300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667480" y="1541520"/>
            <a:ext cx="301680" cy="160200"/>
          </a:xfrm>
          <a:custGeom>
            <a:avLst/>
            <a:gdLst/>
            <a:ahLst/>
            <a:rect l="l" t="t" r="r" b="b"/>
            <a:pathLst>
              <a:path w="190" h="101">
                <a:moveTo>
                  <a:pt x="0" y="0"/>
                </a:moveTo>
                <a:lnTo>
                  <a:pt x="190" y="10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2680" y="1041480"/>
            <a:ext cx="317520" cy="666720"/>
          </a:xfrm>
          <a:custGeom>
            <a:avLst/>
            <a:gdLst/>
            <a:ahLst/>
            <a:rect l="l" t="t" r="r" b="b"/>
            <a:pathLst>
              <a:path w="200" h="420">
                <a:moveTo>
                  <a:pt x="0" y="420"/>
                </a:moveTo>
                <a:lnTo>
                  <a:pt x="20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35440" y="333360"/>
            <a:ext cx="304920" cy="892080"/>
          </a:xfrm>
          <a:custGeom>
            <a:avLst/>
            <a:gdLst/>
            <a:ahLst/>
            <a:rect l="l" t="t" r="r" b="b"/>
            <a:pathLst>
              <a:path w="192" h="562">
                <a:moveTo>
                  <a:pt x="0" y="562"/>
                </a:moveTo>
                <a:lnTo>
                  <a:pt x="19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30520" y="933480"/>
            <a:ext cx="319320" cy="266760"/>
          </a:xfrm>
          <a:custGeom>
            <a:avLst/>
            <a:gdLst/>
            <a:ahLst/>
            <a:rect l="l" t="t" r="r" b="b"/>
            <a:pathLst>
              <a:path w="201" h="168">
                <a:moveTo>
                  <a:pt x="0" y="0"/>
                </a:moveTo>
                <a:lnTo>
                  <a:pt x="201" y="1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511440" y="914400"/>
            <a:ext cx="7920" cy="903240"/>
          </a:xfrm>
          <a:custGeom>
            <a:avLst/>
            <a:gdLst/>
            <a:ahLst/>
            <a:rect l="l" t="t" r="r" b="b"/>
            <a:pathLst>
              <a:path w="5" h="569">
                <a:moveTo>
                  <a:pt x="5" y="56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647800" y="1828800"/>
            <a:ext cx="871560" cy="20520"/>
          </a:xfrm>
          <a:custGeom>
            <a:avLst/>
            <a:gdLst/>
            <a:ahLst/>
            <a:rect l="l" t="t" r="r" b="b"/>
            <a:pathLst>
              <a:path w="549" h="13">
                <a:moveTo>
                  <a:pt x="0" y="0"/>
                </a:moveTo>
                <a:lnTo>
                  <a:pt x="549" y="13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25840" y="1828800"/>
            <a:ext cx="11160" cy="318960"/>
          </a:xfrm>
          <a:custGeom>
            <a:avLst/>
            <a:gdLst/>
            <a:ahLst/>
            <a:rect l="l" t="t" r="r" b="b"/>
            <a:pathLst>
              <a:path w="7" h="201">
                <a:moveTo>
                  <a:pt x="0" y="201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708200" y="2127240"/>
            <a:ext cx="917640" cy="6480"/>
          </a:xfrm>
          <a:custGeom>
            <a:avLst/>
            <a:gdLst/>
            <a:ahLst/>
            <a:rect l="l" t="t" r="r" b="b"/>
            <a:pathLst>
              <a:path w="578" h="4">
                <a:moveTo>
                  <a:pt x="0" y="4"/>
                </a:moveTo>
                <a:lnTo>
                  <a:pt x="5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720800" y="2139840"/>
            <a:ext cx="298440" cy="596880"/>
          </a:xfrm>
          <a:custGeom>
            <a:avLst/>
            <a:gdLst/>
            <a:ahLst/>
            <a:rect l="l" t="t" r="r" b="b"/>
            <a:pathLst>
              <a:path w="188" h="376">
                <a:moveTo>
                  <a:pt x="188" y="3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94040" y="2736720"/>
            <a:ext cx="19080" cy="292320"/>
          </a:xfrm>
          <a:custGeom>
            <a:avLst/>
            <a:gdLst/>
            <a:ahLst/>
            <a:rect l="l" t="t" r="r" b="b"/>
            <a:pathLst>
              <a:path w="12" h="184">
                <a:moveTo>
                  <a:pt x="0" y="184"/>
                </a:moveTo>
                <a:lnTo>
                  <a:pt x="1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92240" y="304812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004840" y="333540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98720" y="363060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03400" y="393696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04840" y="425304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019240" y="457200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203640" y="51577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86900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27280" y="48783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03640" y="515772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843360" y="54831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883560" y="2133720"/>
            <a:ext cx="298440" cy="2919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0"/>
                </a:moveTo>
                <a:lnTo>
                  <a:pt x="188" y="1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2444760"/>
            <a:ext cx="609480" cy="590400"/>
          </a:xfrm>
          <a:custGeom>
            <a:avLst/>
            <a:gdLst/>
            <a:ahLst/>
            <a:rect l="l" t="t" r="r" b="b"/>
            <a:pathLst>
              <a:path w="384" h="372">
                <a:moveTo>
                  <a:pt x="384" y="0"/>
                </a:moveTo>
                <a:lnTo>
                  <a:pt x="0" y="37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85120" y="3041640"/>
            <a:ext cx="603000" cy="609480"/>
          </a:xfrm>
          <a:custGeom>
            <a:avLst/>
            <a:gdLst/>
            <a:ahLst/>
            <a:rect l="l" t="t" r="r" b="b"/>
            <a:pathLst>
              <a:path w="380" h="384">
                <a:moveTo>
                  <a:pt x="0" y="0"/>
                </a:moveTo>
                <a:lnTo>
                  <a:pt x="380" y="3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175520" y="3638520"/>
            <a:ext cx="12600" cy="596880"/>
          </a:xfrm>
          <a:custGeom>
            <a:avLst/>
            <a:gdLst/>
            <a:ahLst/>
            <a:rect l="l" t="t" r="r" b="b"/>
            <a:pathLst>
              <a:path w="8" h="376">
                <a:moveTo>
                  <a:pt x="8" y="0"/>
                </a:moveTo>
                <a:lnTo>
                  <a:pt x="0" y="3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54640" y="1054080"/>
            <a:ext cx="615960" cy="1060560"/>
          </a:xfrm>
          <a:custGeom>
            <a:avLst/>
            <a:gdLst/>
            <a:ahLst/>
            <a:rect l="l" t="t" r="r" b="b"/>
            <a:pathLst>
              <a:path w="388" h="668">
                <a:moveTo>
                  <a:pt x="0" y="0"/>
                </a:moveTo>
                <a:lnTo>
                  <a:pt x="388" y="6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12840" y="4254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280200" y="455148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84760" y="486252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64120" y="516564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56080" y="547380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44920" y="5619600"/>
            <a:ext cx="304920" cy="171720"/>
          </a:xfrm>
          <a:custGeom>
            <a:avLst/>
            <a:gdLst/>
            <a:ahLst/>
            <a:rect l="l" t="t" r="r" b="b"/>
            <a:pathLst>
              <a:path w="192" h="108">
                <a:moveTo>
                  <a:pt x="192" y="0"/>
                </a:moveTo>
                <a:lnTo>
                  <a:pt x="0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80080" y="5302080"/>
            <a:ext cx="579240" cy="31464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383080" y="4992840"/>
            <a:ext cx="579600" cy="31428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996160" y="4870440"/>
            <a:ext cx="277560" cy="128520"/>
          </a:xfrm>
          <a:custGeom>
            <a:avLst/>
            <a:gdLst/>
            <a:ahLst/>
            <a:rect l="l" t="t" r="r" b="b"/>
            <a:pathLst>
              <a:path w="175" h="81">
                <a:moveTo>
                  <a:pt x="175" y="0"/>
                </a:moveTo>
                <a:lnTo>
                  <a:pt x="0" y="8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92800" y="4851360"/>
            <a:ext cx="285840" cy="6480"/>
          </a:xfrm>
          <a:custGeom>
            <a:avLst/>
            <a:gdLst/>
            <a:ahLst/>
            <a:rect l="l" t="t" r="r" b="b"/>
            <a:pathLst>
              <a:path w="180" h="4">
                <a:moveTo>
                  <a:pt x="180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597720" y="4248000"/>
            <a:ext cx="590400" cy="622440"/>
          </a:xfrm>
          <a:custGeom>
            <a:avLst/>
            <a:gdLst/>
            <a:ahLst/>
            <a:rect l="l" t="t" r="r" b="b"/>
            <a:pathLst>
              <a:path w="372" h="392">
                <a:moveTo>
                  <a:pt x="372" y="0"/>
                </a:moveTo>
                <a:lnTo>
                  <a:pt x="0" y="3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ew polygon within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96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797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994040" y="901800"/>
            <a:ext cx="4889520" cy="4876560"/>
          </a:xfrm>
          <a:custGeom>
            <a:avLst/>
            <a:gdLst/>
            <a:ahLst/>
            <a:rect l="l" t="t" r="r" b="b"/>
            <a:pathLst>
              <a:path w="3080" h="3072">
                <a:moveTo>
                  <a:pt x="3080" y="0"/>
                </a:moveTo>
                <a:lnTo>
                  <a:pt x="3080" y="3056"/>
                </a:lnTo>
                <a:lnTo>
                  <a:pt x="16" y="3072"/>
                </a:lnTo>
                <a:lnTo>
                  <a:pt x="0" y="0"/>
                </a:lnTo>
                <a:lnTo>
                  <a:pt x="30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03520" y="1498680"/>
            <a:ext cx="3695760" cy="3695760"/>
          </a:xfrm>
          <a:custGeom>
            <a:avLst/>
            <a:gdLst/>
            <a:ahLst/>
            <a:rect l="l" t="t" r="r" b="b"/>
            <a:pathLst>
              <a:path w="2328" h="2328">
                <a:moveTo>
                  <a:pt x="2328" y="0"/>
                </a:moveTo>
                <a:lnTo>
                  <a:pt x="2304" y="2328"/>
                </a:lnTo>
                <a:lnTo>
                  <a:pt x="8" y="2328"/>
                </a:lnTo>
                <a:lnTo>
                  <a:pt x="0" y="24"/>
                </a:lnTo>
                <a:lnTo>
                  <a:pt x="232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38560" y="2133720"/>
            <a:ext cx="2120760" cy="2438280"/>
          </a:xfrm>
          <a:custGeom>
            <a:avLst/>
            <a:gdLst/>
            <a:ahLst/>
            <a:rect l="l" t="t" r="r" b="b"/>
            <a:pathLst>
              <a:path w="1336" h="1536">
                <a:moveTo>
                  <a:pt x="1336" y="0"/>
                </a:moveTo>
                <a:lnTo>
                  <a:pt x="544" y="768"/>
                </a:lnTo>
                <a:lnTo>
                  <a:pt x="1328" y="1536"/>
                </a:lnTo>
                <a:lnTo>
                  <a:pt x="0" y="752"/>
                </a:lnTo>
                <a:lnTo>
                  <a:pt x="1336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33760" y="2124000"/>
            <a:ext cx="2133720" cy="2425680"/>
          </a:xfrm>
          <a:custGeom>
            <a:avLst/>
            <a:gdLst/>
            <a:ahLst/>
            <a:rect l="l" t="t" r="r" b="b"/>
            <a:pathLst>
              <a:path w="1344" h="1528">
                <a:moveTo>
                  <a:pt x="0" y="0"/>
                </a:moveTo>
                <a:lnTo>
                  <a:pt x="760" y="752"/>
                </a:lnTo>
                <a:lnTo>
                  <a:pt x="0" y="1528"/>
                </a:lnTo>
                <a:lnTo>
                  <a:pt x="1344" y="7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52960" y="31104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, simple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3251160" y="851040"/>
            <a:ext cx="469800" cy="203184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30120"/>
            <a:ext cx="1836720" cy="52092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0480" y="330120"/>
            <a:ext cx="44928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55680"/>
            <a:ext cx="876240" cy="153648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3480" y="3556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359000"/>
            <a:ext cx="927000" cy="152388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009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543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3623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89320" y="189216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3684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, ho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22200" y="4224240"/>
            <a:ext cx="469800" cy="203220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7760" y="3703680"/>
            <a:ext cx="1836720" cy="52056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71880" y="3703680"/>
            <a:ext cx="44892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3728880"/>
            <a:ext cx="876240" cy="153684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44520" y="37288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3800" y="4732200"/>
            <a:ext cx="927000" cy="152424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78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5925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57355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526572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27696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, 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718320" y="851040"/>
            <a:ext cx="38160" cy="1549440"/>
          </a:xfrm>
          <a:custGeom>
            <a:avLst/>
            <a:gdLst/>
            <a:ahLst/>
            <a:rect l="l" t="t" r="r" b="b"/>
            <a:pathLst>
              <a:path w="24" h="976">
                <a:moveTo>
                  <a:pt x="24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18320" y="863640"/>
            <a:ext cx="1397160" cy="12600"/>
          </a:xfrm>
          <a:custGeom>
            <a:avLst/>
            <a:gdLst/>
            <a:ahLst/>
            <a:rect l="l" t="t" r="r" b="b"/>
            <a:pathLst>
              <a:path w="880" h="8">
                <a:moveTo>
                  <a:pt x="0" y="0"/>
                </a:moveTo>
                <a:lnTo>
                  <a:pt x="88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02520" y="888840"/>
            <a:ext cx="25560" cy="1486080"/>
          </a:xfrm>
          <a:custGeom>
            <a:avLst/>
            <a:gdLst/>
            <a:ahLst/>
            <a:rect l="l" t="t" r="r" b="b"/>
            <a:pathLst>
              <a:path w="16" h="936">
                <a:moveTo>
                  <a:pt x="16" y="0"/>
                </a:moveTo>
                <a:lnTo>
                  <a:pt x="0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0920" y="851040"/>
            <a:ext cx="482760" cy="1028520"/>
          </a:xfrm>
          <a:custGeom>
            <a:avLst/>
            <a:gdLst/>
            <a:ahLst/>
            <a:rect l="l" t="t" r="r" b="b"/>
            <a:pathLst>
              <a:path w="304" h="648">
                <a:moveTo>
                  <a:pt x="0" y="648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26280" y="851040"/>
            <a:ext cx="889200" cy="482400"/>
          </a:xfrm>
          <a:custGeom>
            <a:avLst/>
            <a:gdLst/>
            <a:ahLst/>
            <a:rect l="l" t="t" r="r" b="b"/>
            <a:pathLst>
              <a:path w="560" h="304">
                <a:moveTo>
                  <a:pt x="0" y="0"/>
                </a:moveTo>
                <a:lnTo>
                  <a:pt x="560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83480" y="1384200"/>
            <a:ext cx="419040" cy="101628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264" y="0"/>
                </a:moveTo>
                <a:lnTo>
                  <a:pt x="0" y="6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8640" y="1628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43880" y="2387520"/>
            <a:ext cx="1358640" cy="1800"/>
          </a:xfrm>
          <a:custGeom>
            <a:avLst/>
            <a:gdLst/>
            <a:ahLst/>
            <a:rect l="l" t="t" r="r" b="b"/>
            <a:pathLst>
              <a:path w="856" h="1">
                <a:moveTo>
                  <a:pt x="856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0920" y="1892160"/>
            <a:ext cx="927360" cy="482760"/>
          </a:xfrm>
          <a:custGeom>
            <a:avLst/>
            <a:gdLst/>
            <a:ahLst/>
            <a:rect l="l" t="t" r="r" b="b"/>
            <a:pathLst>
              <a:path w="584" h="304">
                <a:moveTo>
                  <a:pt x="584" y="30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70080" y="419580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0800" y="4729320"/>
            <a:ext cx="449280" cy="1440"/>
          </a:xfrm>
          <a:custGeom>
            <a:avLst/>
            <a:gdLst/>
            <a:ahLst/>
            <a:rect l="l" t="t" r="r" b="b"/>
            <a:pathLst>
              <a:path w="283" h="1">
                <a:moveTo>
                  <a:pt x="283" y="0"/>
                </a:moveTo>
                <a:lnTo>
                  <a:pt x="0" y="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2880" y="4221000"/>
            <a:ext cx="12600" cy="495360"/>
          </a:xfrm>
          <a:custGeom>
            <a:avLst/>
            <a:gdLst/>
            <a:ahLst/>
            <a:rect l="l" t="t" r="r" b="b"/>
            <a:pathLst>
              <a:path w="8" h="312">
                <a:moveTo>
                  <a:pt x="0" y="31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87680" y="4195800"/>
            <a:ext cx="469800" cy="12600"/>
          </a:xfrm>
          <a:custGeom>
            <a:avLst/>
            <a:gdLst/>
            <a:ahLst/>
            <a:rect l="l" t="t" r="r" b="b"/>
            <a:pathLst>
              <a:path w="296" h="8">
                <a:moveTo>
                  <a:pt x="0" y="0"/>
                </a:moveTo>
                <a:lnTo>
                  <a:pt x="296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38400" y="523404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3800" y="5759280"/>
            <a:ext cx="444600" cy="8280"/>
          </a:xfrm>
          <a:custGeom>
            <a:avLst/>
            <a:gdLst/>
            <a:ahLst/>
            <a:rect l="l" t="t" r="r" b="b"/>
            <a:pathLst>
              <a:path w="280" h="5">
                <a:moveTo>
                  <a:pt x="280" y="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1200" y="5226120"/>
            <a:ext cx="1440" cy="528480"/>
          </a:xfrm>
          <a:custGeom>
            <a:avLst/>
            <a:gdLst/>
            <a:ahLst/>
            <a:rect l="l" t="t" r="r" b="b"/>
            <a:pathLst>
              <a:path w="1" h="333">
                <a:moveTo>
                  <a:pt x="0" y="33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229360"/>
            <a:ext cx="488880" cy="1440"/>
          </a:xfrm>
          <a:custGeom>
            <a:avLst/>
            <a:gdLst/>
            <a:ahLst/>
            <a:rect l="l" t="t" r="r" b="b"/>
            <a:pathLst>
              <a:path w="308" h="1">
                <a:moveTo>
                  <a:pt x="0" y="1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03640" y="3657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, multi-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441600" y="3930480"/>
            <a:ext cx="19080" cy="2057400"/>
          </a:xfrm>
          <a:custGeom>
            <a:avLst/>
            <a:gdLst/>
            <a:ahLst/>
            <a:rect l="l" t="t" r="r" b="b"/>
            <a:pathLst>
              <a:path w="12" h="1296">
                <a:moveTo>
                  <a:pt x="12" y="12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898800"/>
            <a:ext cx="1879560" cy="25560"/>
          </a:xfrm>
          <a:custGeom>
            <a:avLst/>
            <a:gdLst/>
            <a:ahLst/>
            <a:rect l="l" t="t" r="r" b="b"/>
            <a:pathLst>
              <a:path w="1184" h="16">
                <a:moveTo>
                  <a:pt x="0" y="16"/>
                </a:moveTo>
                <a:lnTo>
                  <a:pt x="1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02080" y="3949560"/>
            <a:ext cx="6480" cy="2051280"/>
          </a:xfrm>
          <a:custGeom>
            <a:avLst/>
            <a:gdLst/>
            <a:ahLst/>
            <a:rect l="l" t="t" r="r" b="b"/>
            <a:pathLst>
              <a:path w="4" h="1292">
                <a:moveTo>
                  <a:pt x="0" y="0"/>
                </a:moveTo>
                <a:lnTo>
                  <a:pt x="4" y="12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9480" y="3683160"/>
            <a:ext cx="444600" cy="495000"/>
          </a:xfrm>
          <a:custGeom>
            <a:avLst/>
            <a:gdLst/>
            <a:ahLst/>
            <a:rect l="l" t="t" r="r" b="b"/>
            <a:pathLst>
              <a:path w="280" h="312">
                <a:moveTo>
                  <a:pt x="0" y="312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3689280"/>
            <a:ext cx="673200" cy="482760"/>
          </a:xfrm>
          <a:custGeom>
            <a:avLst/>
            <a:gdLst/>
            <a:ahLst/>
            <a:rect l="l" t="t" r="r" b="b"/>
            <a:pathLst>
              <a:path w="424" h="304">
                <a:moveTo>
                  <a:pt x="0" y="0"/>
                </a:moveTo>
                <a:lnTo>
                  <a:pt x="424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30800" y="3676680"/>
            <a:ext cx="482400" cy="4824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0" y="304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414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6400" y="6000840"/>
            <a:ext cx="1860480" cy="6120"/>
          </a:xfrm>
          <a:custGeom>
            <a:avLst/>
            <a:gdLst/>
            <a:ahLst/>
            <a:rect l="l" t="t" r="r" b="b"/>
            <a:pathLst>
              <a:path w="1172" h="4">
                <a:moveTo>
                  <a:pt x="1172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19680" y="3701880"/>
            <a:ext cx="685800" cy="451080"/>
          </a:xfrm>
          <a:custGeom>
            <a:avLst/>
            <a:gdLst/>
            <a:ahLst/>
            <a:rect l="l" t="t" r="r" b="b"/>
            <a:pathLst>
              <a:path w="432" h="284">
                <a:moveTo>
                  <a:pt x="0" y="0"/>
                </a:moveTo>
                <a:lnTo>
                  <a:pt x="432" y="2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67360" y="4146480"/>
            <a:ext cx="444600" cy="540000"/>
          </a:xfrm>
          <a:custGeom>
            <a:avLst/>
            <a:gdLst/>
            <a:ahLst/>
            <a:rect l="l" t="t" r="r" b="b"/>
            <a:pathLst>
              <a:path w="280" h="340">
                <a:moveTo>
                  <a:pt x="280" y="0"/>
                </a:moveTo>
                <a:lnTo>
                  <a:pt x="0" y="3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3480" y="4699080"/>
            <a:ext cx="432000" cy="488880"/>
          </a:xfrm>
          <a:custGeom>
            <a:avLst/>
            <a:gdLst/>
            <a:ahLst/>
            <a:rect l="l" t="t" r="r" b="b"/>
            <a:pathLst>
              <a:path w="272" h="308">
                <a:moveTo>
                  <a:pt x="0" y="0"/>
                </a:moveTo>
                <a:lnTo>
                  <a:pt x="272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67360" y="5200560"/>
            <a:ext cx="450720" cy="527040"/>
          </a:xfrm>
          <a:custGeom>
            <a:avLst/>
            <a:gdLst/>
            <a:ahLst/>
            <a:rect l="l" t="t" r="r" b="b"/>
            <a:pathLst>
              <a:path w="284" h="332">
                <a:moveTo>
                  <a:pt x="284" y="0"/>
                </a:moveTo>
                <a:lnTo>
                  <a:pt x="0" y="3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727600"/>
            <a:ext cx="183960" cy="50184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036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82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0200" y="4387680"/>
            <a:ext cx="270000" cy="1841760"/>
          </a:xfrm>
          <a:custGeom>
            <a:avLst/>
            <a:gdLst/>
            <a:ahLst/>
            <a:rect l="l" t="t" r="r" b="b"/>
            <a:pathLst>
              <a:path w="170" h="1160">
                <a:moveTo>
                  <a:pt x="170" y="116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0640" y="5734080"/>
            <a:ext cx="18396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36960" y="5734080"/>
            <a:ext cx="18432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09840" y="4413240"/>
            <a:ext cx="354240" cy="277920"/>
          </a:xfrm>
          <a:custGeom>
            <a:avLst/>
            <a:gdLst/>
            <a:ahLst/>
            <a:rect l="l" t="t" r="r" b="b"/>
            <a:pathLst>
              <a:path w="223" h="175">
                <a:moveTo>
                  <a:pt x="223" y="0"/>
                </a:moveTo>
                <a:lnTo>
                  <a:pt x="0" y="1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24240" y="4686480"/>
            <a:ext cx="333360" cy="247320"/>
          </a:xfrm>
          <a:custGeom>
            <a:avLst/>
            <a:gdLst/>
            <a:ahLst/>
            <a:rect l="l" t="t" r="r" b="b"/>
            <a:pathLst>
              <a:path w="210" h="156">
                <a:moveTo>
                  <a:pt x="0" y="0"/>
                </a:moveTo>
                <a:lnTo>
                  <a:pt x="210" y="1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64040" y="4929120"/>
            <a:ext cx="479160" cy="287280"/>
          </a:xfrm>
          <a:custGeom>
            <a:avLst/>
            <a:gdLst/>
            <a:ahLst/>
            <a:rect l="l" t="t" r="r" b="b"/>
            <a:pathLst>
              <a:path w="302" h="181">
                <a:moveTo>
                  <a:pt x="302" y="0"/>
                </a:moveTo>
                <a:lnTo>
                  <a:pt x="0" y="18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6880" y="4178160"/>
            <a:ext cx="1440" cy="1028880"/>
          </a:xfrm>
          <a:custGeom>
            <a:avLst/>
            <a:gdLst/>
            <a:ahLst/>
            <a:rect l="l" t="t" r="r" b="b"/>
            <a:pathLst>
              <a:path w="1" h="648">
                <a:moveTo>
                  <a:pt x="0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300720" y="3672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319800" y="3716280"/>
            <a:ext cx="88920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21600" y="3716280"/>
            <a:ext cx="1384200" cy="1498680"/>
          </a:xfrm>
          <a:custGeom>
            <a:avLst/>
            <a:gdLst/>
            <a:ahLst/>
            <a:rect l="l" t="t" r="r" b="b"/>
            <a:pathLst>
              <a:path w="872" h="944">
                <a:moveTo>
                  <a:pt x="0" y="0"/>
                </a:moveTo>
                <a:lnTo>
                  <a:pt x="872" y="9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19800" y="5214960"/>
            <a:ext cx="2273400" cy="546120"/>
          </a:xfrm>
          <a:custGeom>
            <a:avLst/>
            <a:gdLst/>
            <a:ahLst/>
            <a:rect l="l" t="t" r="r" b="b"/>
            <a:pathLst>
              <a:path w="1432" h="344">
                <a:moveTo>
                  <a:pt x="143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576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6280" y="4533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69080" y="4737240"/>
            <a:ext cx="1841400" cy="457200"/>
          </a:xfrm>
          <a:custGeom>
            <a:avLst/>
            <a:gdLst/>
            <a:ahLst/>
            <a:rect l="l" t="t" r="r" b="b"/>
            <a:pathLst>
              <a:path w="1160" h="288">
                <a:moveTo>
                  <a:pt x="1160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26320" y="3753000"/>
            <a:ext cx="406440" cy="971280"/>
          </a:xfrm>
          <a:custGeom>
            <a:avLst/>
            <a:gdLst/>
            <a:ahLst/>
            <a:rect l="l" t="t" r="r" b="b"/>
            <a:pathLst>
              <a:path w="256" h="612">
                <a:moveTo>
                  <a:pt x="0" y="612"/>
                </a:moveTo>
                <a:lnTo>
                  <a:pt x="25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51840" y="367020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collinear overlap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812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813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1403280" y="3956040"/>
            <a:ext cx="2441520" cy="2127240"/>
          </a:xfrm>
          <a:custGeom>
            <a:avLst/>
            <a:gdLst/>
            <a:ahLst/>
            <a:rect l="l" t="t" r="r" b="b"/>
            <a:pathLst>
              <a:path w="1538" h="1340">
                <a:moveTo>
                  <a:pt x="1150" y="0"/>
                </a:moveTo>
                <a:lnTo>
                  <a:pt x="1154" y="194"/>
                </a:lnTo>
                <a:lnTo>
                  <a:pt x="1538" y="194"/>
                </a:lnTo>
                <a:lnTo>
                  <a:pt x="1532" y="576"/>
                </a:lnTo>
                <a:lnTo>
                  <a:pt x="1146" y="574"/>
                </a:lnTo>
                <a:lnTo>
                  <a:pt x="1146" y="770"/>
                </a:lnTo>
                <a:lnTo>
                  <a:pt x="1536" y="764"/>
                </a:lnTo>
                <a:lnTo>
                  <a:pt x="1536" y="1146"/>
                </a:lnTo>
                <a:lnTo>
                  <a:pt x="1150" y="1146"/>
                </a:lnTo>
                <a:lnTo>
                  <a:pt x="1148" y="1338"/>
                </a:lnTo>
                <a:lnTo>
                  <a:pt x="382" y="1340"/>
                </a:lnTo>
                <a:lnTo>
                  <a:pt x="382" y="1154"/>
                </a:lnTo>
                <a:lnTo>
                  <a:pt x="0" y="1152"/>
                </a:lnTo>
                <a:lnTo>
                  <a:pt x="0" y="764"/>
                </a:lnTo>
                <a:lnTo>
                  <a:pt x="382" y="764"/>
                </a:lnTo>
                <a:lnTo>
                  <a:pt x="382" y="572"/>
                </a:lnTo>
                <a:lnTo>
                  <a:pt x="0" y="574"/>
                </a:lnTo>
                <a:lnTo>
                  <a:pt x="0" y="184"/>
                </a:lnTo>
                <a:lnTo>
                  <a:pt x="386" y="182"/>
                </a:lnTo>
                <a:lnTo>
                  <a:pt x="386" y="0"/>
                </a:lnTo>
                <a:lnTo>
                  <a:pt x="115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692360" y="3645000"/>
            <a:ext cx="1854000" cy="2727360"/>
          </a:xfrm>
          <a:custGeom>
            <a:avLst/>
            <a:gdLst/>
            <a:ahLst/>
            <a:rect l="l" t="t" r="r" b="b"/>
            <a:pathLst>
              <a:path w="1168" h="1718">
                <a:moveTo>
                  <a:pt x="776" y="0"/>
                </a:moveTo>
                <a:lnTo>
                  <a:pt x="774" y="404"/>
                </a:lnTo>
                <a:lnTo>
                  <a:pt x="1162" y="402"/>
                </a:lnTo>
                <a:lnTo>
                  <a:pt x="1160" y="574"/>
                </a:lnTo>
                <a:lnTo>
                  <a:pt x="774" y="572"/>
                </a:lnTo>
                <a:lnTo>
                  <a:pt x="776" y="780"/>
                </a:lnTo>
                <a:lnTo>
                  <a:pt x="1164" y="778"/>
                </a:lnTo>
                <a:lnTo>
                  <a:pt x="1168" y="940"/>
                </a:lnTo>
                <a:lnTo>
                  <a:pt x="774" y="942"/>
                </a:lnTo>
                <a:lnTo>
                  <a:pt x="776" y="1152"/>
                </a:lnTo>
                <a:lnTo>
                  <a:pt x="1162" y="1154"/>
                </a:lnTo>
                <a:lnTo>
                  <a:pt x="1162" y="1326"/>
                </a:lnTo>
                <a:lnTo>
                  <a:pt x="778" y="1328"/>
                </a:lnTo>
                <a:lnTo>
                  <a:pt x="776" y="1714"/>
                </a:lnTo>
                <a:lnTo>
                  <a:pt x="388" y="1718"/>
                </a:lnTo>
                <a:lnTo>
                  <a:pt x="394" y="1328"/>
                </a:lnTo>
                <a:lnTo>
                  <a:pt x="8" y="1330"/>
                </a:lnTo>
                <a:lnTo>
                  <a:pt x="8" y="1154"/>
                </a:lnTo>
                <a:lnTo>
                  <a:pt x="390" y="1152"/>
                </a:lnTo>
                <a:lnTo>
                  <a:pt x="392" y="940"/>
                </a:lnTo>
                <a:lnTo>
                  <a:pt x="4" y="934"/>
                </a:lnTo>
                <a:lnTo>
                  <a:pt x="6" y="778"/>
                </a:lnTo>
                <a:lnTo>
                  <a:pt x="390" y="778"/>
                </a:lnTo>
                <a:lnTo>
                  <a:pt x="394" y="580"/>
                </a:lnTo>
                <a:lnTo>
                  <a:pt x="0" y="582"/>
                </a:lnTo>
                <a:lnTo>
                  <a:pt x="0" y="394"/>
                </a:lnTo>
                <a:lnTo>
                  <a:pt x="394" y="398"/>
                </a:lnTo>
                <a:lnTo>
                  <a:pt x="388" y="0"/>
                </a:lnTo>
                <a:lnTo>
                  <a:pt x="7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47628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1, line-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6" name=""/>
          <p:cNvSpPr/>
          <p:nvPr/>
        </p:nvSpPr>
        <p:spPr>
          <a:xfrm flipH="1" flipV="1">
            <a:off x="475920" y="1351080"/>
            <a:ext cx="1368360" cy="1582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20560" y="35244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5360" y="37800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97160" y="37800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560" y="2430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955880" y="2719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18960" y="1411200"/>
            <a:ext cx="465120" cy="987480"/>
          </a:xfrm>
          <a:custGeom>
            <a:avLst/>
            <a:gdLst/>
            <a:ahLst/>
            <a:rect l="l" t="t" r="r" b="b"/>
            <a:pathLst>
              <a:path w="293" h="622">
                <a:moveTo>
                  <a:pt x="0" y="622"/>
                </a:moveTo>
                <a:lnTo>
                  <a:pt x="29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00" y="1395360"/>
            <a:ext cx="1839960" cy="480960"/>
          </a:xfrm>
          <a:custGeom>
            <a:avLst/>
            <a:gdLst/>
            <a:ahLst/>
            <a:rect l="l" t="t" r="r" b="b"/>
            <a:pathLst>
              <a:path w="1159" h="303">
                <a:moveTo>
                  <a:pt x="0" y="0"/>
                </a:moveTo>
                <a:lnTo>
                  <a:pt x="1159" y="3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960" y="1881360"/>
            <a:ext cx="2305080" cy="542880"/>
          </a:xfrm>
          <a:custGeom>
            <a:avLst/>
            <a:gdLst/>
            <a:ahLst/>
            <a:rect l="l" t="t" r="r" b="b"/>
            <a:pathLst>
              <a:path w="1452" h="342">
                <a:moveTo>
                  <a:pt x="1452" y="0"/>
                </a:moveTo>
                <a:lnTo>
                  <a:pt x="0" y="34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" y="1347840"/>
            <a:ext cx="1828800" cy="495360"/>
          </a:xfrm>
          <a:custGeom>
            <a:avLst/>
            <a:gdLst/>
            <a:ahLst/>
            <a:rect l="l" t="t" r="r" b="b"/>
            <a:pathLst>
              <a:path w="1152" h="312">
                <a:moveTo>
                  <a:pt x="1152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1000" y="33336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2, new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961240" y="4173480"/>
            <a:ext cx="411120" cy="1535040"/>
          </a:xfrm>
          <a:custGeom>
            <a:avLst/>
            <a:gdLst/>
            <a:ahLst/>
            <a:rect l="l" t="t" r="r" b="b"/>
            <a:pathLst>
              <a:path w="259" h="967">
                <a:moveTo>
                  <a:pt x="0" y="967"/>
                </a:moveTo>
                <a:lnTo>
                  <a:pt x="25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84960" y="4173480"/>
            <a:ext cx="469800" cy="1028880"/>
          </a:xfrm>
          <a:custGeom>
            <a:avLst/>
            <a:gdLst/>
            <a:ahLst/>
            <a:rect l="l" t="t" r="r" b="b"/>
            <a:pathLst>
              <a:path w="296" h="648">
                <a:moveTo>
                  <a:pt x="0" y="0"/>
                </a:moveTo>
                <a:lnTo>
                  <a:pt x="296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5684760"/>
            <a:ext cx="1854360" cy="12600"/>
          </a:xfrm>
          <a:custGeom>
            <a:avLst/>
            <a:gdLst/>
            <a:ahLst/>
            <a:rect l="l" t="t" r="r" b="b"/>
            <a:pathLst>
              <a:path w="1168" h="8">
                <a:moveTo>
                  <a:pt x="1168" y="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3440" y="5742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86440" y="432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91120" y="4656240"/>
            <a:ext cx="1790640" cy="38160"/>
          </a:xfrm>
          <a:custGeom>
            <a:avLst/>
            <a:gdLst/>
            <a:ahLst/>
            <a:rect l="l" t="t" r="r" b="b"/>
            <a:pathLst>
              <a:path w="1128" h="24">
                <a:moveTo>
                  <a:pt x="1128" y="0"/>
                </a:moveTo>
                <a:lnTo>
                  <a:pt x="0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6680" y="413532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0" y="336"/>
                </a:moveTo>
                <a:lnTo>
                  <a:pt x="53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80320" y="4135320"/>
            <a:ext cx="939600" cy="533520"/>
          </a:xfrm>
          <a:custGeom>
            <a:avLst/>
            <a:gdLst/>
            <a:ahLst/>
            <a:rect l="l" t="t" r="r" b="b"/>
            <a:pathLst>
              <a:path w="592" h="336">
                <a:moveTo>
                  <a:pt x="0" y="0"/>
                </a:moveTo>
                <a:lnTo>
                  <a:pt x="592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37520" y="4173480"/>
            <a:ext cx="444240" cy="1511280"/>
          </a:xfrm>
          <a:custGeom>
            <a:avLst/>
            <a:gdLst/>
            <a:ahLst/>
            <a:rect l="l" t="t" r="r" b="b"/>
            <a:pathLst>
              <a:path w="280" h="952">
                <a:moveTo>
                  <a:pt x="0" y="0"/>
                </a:moveTo>
                <a:lnTo>
                  <a:pt x="280" y="95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92920" y="4148280"/>
            <a:ext cx="419040" cy="101592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0" y="640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90180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972040" y="923760"/>
            <a:ext cx="1296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85000" y="94932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72040" y="2960640"/>
            <a:ext cx="184176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49800" y="2649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08880" y="124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96160" y="876240"/>
            <a:ext cx="12600" cy="1054080"/>
          </a:xfrm>
          <a:custGeom>
            <a:avLst/>
            <a:gdLst/>
            <a:ahLst/>
            <a:rect l="l" t="t" r="r" b="b"/>
            <a:pathLst>
              <a:path w="8" h="664">
                <a:moveTo>
                  <a:pt x="0" y="664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914400"/>
            <a:ext cx="1307880" cy="12600"/>
          </a:xfrm>
          <a:custGeom>
            <a:avLst/>
            <a:gdLst/>
            <a:ahLst/>
            <a:rect l="l" t="t" r="r" b="b"/>
            <a:pathLst>
              <a:path w="824" h="8">
                <a:moveTo>
                  <a:pt x="0" y="8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96160" y="927000"/>
            <a:ext cx="1346040" cy="990720"/>
          </a:xfrm>
          <a:custGeom>
            <a:avLst/>
            <a:gdLst/>
            <a:ahLst/>
            <a:rect l="l" t="t" r="r" b="b"/>
            <a:pathLst>
              <a:path w="848" h="624">
                <a:moveTo>
                  <a:pt x="848" y="0"/>
                </a:moveTo>
                <a:lnTo>
                  <a:pt x="0" y="6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55680" y="4178160"/>
            <a:ext cx="888840" cy="2005200"/>
          </a:xfrm>
          <a:custGeom>
            <a:avLst/>
            <a:gdLst/>
            <a:ahLst/>
            <a:rect l="l" t="t" r="r" b="b"/>
            <a:pathLst>
              <a:path w="560" h="1263">
                <a:moveTo>
                  <a:pt x="0" y="1263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7480" y="4152960"/>
            <a:ext cx="927000" cy="2017800"/>
          </a:xfrm>
          <a:custGeom>
            <a:avLst/>
            <a:gdLst/>
            <a:ahLst/>
            <a:rect l="l" t="t" r="r" b="b"/>
            <a:pathLst>
              <a:path w="584" h="1271">
                <a:moveTo>
                  <a:pt x="0" y="0"/>
                </a:moveTo>
                <a:lnTo>
                  <a:pt x="584" y="127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976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912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9160" y="3625920"/>
            <a:ext cx="489240" cy="1536480"/>
          </a:xfrm>
          <a:custGeom>
            <a:avLst/>
            <a:gdLst/>
            <a:ahLst/>
            <a:rect l="l" t="t" r="r" b="b"/>
            <a:pathLst>
              <a:path w="308" h="968">
                <a:moveTo>
                  <a:pt x="0" y="968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63600" y="4064040"/>
            <a:ext cx="451080" cy="1009440"/>
          </a:xfrm>
          <a:custGeom>
            <a:avLst/>
            <a:gdLst/>
            <a:ahLst/>
            <a:rect l="l" t="t" r="r" b="b"/>
            <a:pathLst>
              <a:path w="284" h="636">
                <a:moveTo>
                  <a:pt x="284" y="6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3600" y="3606840"/>
            <a:ext cx="476280" cy="1549440"/>
          </a:xfrm>
          <a:custGeom>
            <a:avLst/>
            <a:gdLst/>
            <a:ahLst/>
            <a:rect l="l" t="t" r="r" b="b"/>
            <a:pathLst>
              <a:path w="300" h="976">
                <a:moveTo>
                  <a:pt x="0" y="0"/>
                </a:moveTo>
                <a:lnTo>
                  <a:pt x="300" y="97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095720"/>
            <a:ext cx="488880" cy="1092240"/>
          </a:xfrm>
          <a:custGeom>
            <a:avLst/>
            <a:gdLst/>
            <a:ahLst/>
            <a:rect l="l" t="t" r="r" b="b"/>
            <a:pathLst>
              <a:path w="308" h="688">
                <a:moveTo>
                  <a:pt x="308" y="0"/>
                </a:moveTo>
                <a:lnTo>
                  <a:pt x="0" y="6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1, touch insid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056040" y="416412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8640" y="4189320"/>
            <a:ext cx="1828800" cy="198144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604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2272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54400" y="5229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67160" y="5168880"/>
            <a:ext cx="482400" cy="1440"/>
          </a:xfrm>
          <a:custGeom>
            <a:avLst/>
            <a:gdLst/>
            <a:ahLst/>
            <a:rect l="l" t="t" r="r" b="b"/>
            <a:pathLst>
              <a:path w="304" h="1">
                <a:moveTo>
                  <a:pt x="0" y="0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79760" y="5168880"/>
            <a:ext cx="495360" cy="533520"/>
          </a:xfrm>
          <a:custGeom>
            <a:avLst/>
            <a:gdLst/>
            <a:ahLst/>
            <a:rect l="l" t="t" r="r" b="b"/>
            <a:pathLst>
              <a:path w="312" h="336">
                <a:moveTo>
                  <a:pt x="312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156280"/>
            <a:ext cx="1440" cy="507960"/>
          </a:xfrm>
          <a:custGeom>
            <a:avLst/>
            <a:gdLst/>
            <a:ahLst/>
            <a:rect l="l" t="t" r="r" b="b"/>
            <a:pathLst>
              <a:path w="1" h="320">
                <a:moveTo>
                  <a:pt x="0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960" y="1955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48600" y="148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83400" y="1974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3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18960" y="1849320"/>
            <a:ext cx="425520" cy="549360"/>
          </a:xfrm>
          <a:custGeom>
            <a:avLst/>
            <a:gdLst/>
            <a:ahLst/>
            <a:rect l="l" t="t" r="r" b="b"/>
            <a:pathLst>
              <a:path w="268" h="346">
                <a:moveTo>
                  <a:pt x="0" y="346"/>
                </a:moveTo>
                <a:lnTo>
                  <a:pt x="2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3320" y="1881360"/>
            <a:ext cx="936720" cy="968040"/>
          </a:xfrm>
          <a:custGeom>
            <a:avLst/>
            <a:gdLst/>
            <a:ahLst/>
            <a:rect l="l" t="t" r="r" b="b"/>
            <a:pathLst>
              <a:path w="590" h="610">
                <a:moveTo>
                  <a:pt x="0" y="0"/>
                </a:moveTo>
                <a:lnTo>
                  <a:pt x="590" y="6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8960" y="2424240"/>
            <a:ext cx="1360440" cy="477720"/>
          </a:xfrm>
          <a:custGeom>
            <a:avLst/>
            <a:gdLst/>
            <a:ahLst/>
            <a:rect l="l" t="t" r="r" b="b"/>
            <a:pathLst>
              <a:path w="857" h="301">
                <a:moveTo>
                  <a:pt x="857" y="30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960" y="1055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840" y="1335240"/>
            <a:ext cx="920520" cy="993600"/>
          </a:xfrm>
          <a:custGeom>
            <a:avLst/>
            <a:gdLst/>
            <a:ahLst/>
            <a:rect l="l" t="t" r="r" b="b"/>
            <a:pathLst>
              <a:path w="580" h="626">
                <a:moveTo>
                  <a:pt x="580" y="62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0120" y="1339920"/>
            <a:ext cx="849240" cy="20520"/>
          </a:xfrm>
          <a:custGeom>
            <a:avLst/>
            <a:gdLst/>
            <a:ahLst/>
            <a:rect l="l" t="t" r="r" b="b"/>
            <a:pathLst>
              <a:path w="535" h="13">
                <a:moveTo>
                  <a:pt x="0" y="0"/>
                </a:moveTo>
                <a:lnTo>
                  <a:pt x="535" y="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2840" y="1371600"/>
            <a:ext cx="20520" cy="1009800"/>
          </a:xfrm>
          <a:custGeom>
            <a:avLst/>
            <a:gdLst/>
            <a:ahLst/>
            <a:rect l="l" t="t" r="r" b="b"/>
            <a:pathLst>
              <a:path w="13" h="636">
                <a:moveTo>
                  <a:pt x="0" y="0"/>
                </a:moveTo>
                <a:lnTo>
                  <a:pt x="13" y="6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8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4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60720" y="90180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5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6, encapsu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7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4005360" y="191628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92088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52960" y="94608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8120" y="2646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35720" y="1096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32480" y="1403280"/>
            <a:ext cx="903240" cy="946080"/>
          </a:xfrm>
          <a:custGeom>
            <a:avLst/>
            <a:gdLst/>
            <a:ahLst/>
            <a:rect l="l" t="t" r="r" b="b"/>
            <a:pathLst>
              <a:path w="569" h="596">
                <a:moveTo>
                  <a:pt x="569" y="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8320" y="90792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50120" y="946080"/>
            <a:ext cx="40644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13600" y="2222640"/>
            <a:ext cx="711360" cy="72864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6400" y="171144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70600" y="292428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040" y="4127400"/>
            <a:ext cx="907920" cy="1003320"/>
          </a:xfrm>
          <a:custGeom>
            <a:avLst/>
            <a:gdLst/>
            <a:ahLst/>
            <a:rect l="l" t="t" r="r" b="b"/>
            <a:pathLst>
              <a:path w="572" h="632">
                <a:moveTo>
                  <a:pt x="0" y="632"/>
                </a:moveTo>
                <a:lnTo>
                  <a:pt x="57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7480" y="4114800"/>
            <a:ext cx="480960" cy="1542960"/>
          </a:xfrm>
          <a:custGeom>
            <a:avLst/>
            <a:gdLst/>
            <a:ahLst/>
            <a:rect l="l" t="t" r="r" b="b"/>
            <a:pathLst>
              <a:path w="303" h="972">
                <a:moveTo>
                  <a:pt x="303" y="0"/>
                </a:moveTo>
                <a:lnTo>
                  <a:pt x="0" y="97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160" y="5137200"/>
            <a:ext cx="433440" cy="514440"/>
          </a:xfrm>
          <a:custGeom>
            <a:avLst/>
            <a:gdLst/>
            <a:ahLst/>
            <a:rect l="l" t="t" r="r" b="b"/>
            <a:pathLst>
              <a:path w="273" h="324">
                <a:moveTo>
                  <a:pt x="273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0400" y="494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8440" y="596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4127400"/>
            <a:ext cx="438120" cy="1568520"/>
          </a:xfrm>
          <a:custGeom>
            <a:avLst/>
            <a:gdLst/>
            <a:ahLst/>
            <a:rect l="l" t="t" r="r" b="b"/>
            <a:pathLst>
              <a:path w="276" h="988">
                <a:moveTo>
                  <a:pt x="0" y="988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9640" y="5200560"/>
            <a:ext cx="419040" cy="505080"/>
          </a:xfrm>
          <a:custGeom>
            <a:avLst/>
            <a:gdLst/>
            <a:ahLst/>
            <a:rect l="l" t="t" r="r" b="b"/>
            <a:pathLst>
              <a:path w="264" h="318">
                <a:moveTo>
                  <a:pt x="0" y="0"/>
                </a:moveTo>
                <a:lnTo>
                  <a:pt x="264" y="31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43080" y="4146480"/>
            <a:ext cx="444600" cy="482760"/>
          </a:xfrm>
          <a:custGeom>
            <a:avLst/>
            <a:gdLst/>
            <a:ahLst/>
            <a:rect l="l" t="t" r="r" b="b"/>
            <a:pathLst>
              <a:path w="280" h="304">
                <a:moveTo>
                  <a:pt x="280" y="0"/>
                </a:moveTo>
                <a:lnTo>
                  <a:pt x="0" y="3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81240" y="3638520"/>
            <a:ext cx="444240" cy="965160"/>
          </a:xfrm>
          <a:custGeom>
            <a:avLst/>
            <a:gdLst/>
            <a:ahLst/>
            <a:rect l="l" t="t" r="r" b="b"/>
            <a:pathLst>
              <a:path w="280" h="608">
                <a:moveTo>
                  <a:pt x="0" y="60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19360" y="3632040"/>
            <a:ext cx="476280" cy="2571840"/>
          </a:xfrm>
          <a:custGeom>
            <a:avLst/>
            <a:gdLst/>
            <a:ahLst/>
            <a:rect l="l" t="t" r="r" b="b"/>
            <a:pathLst>
              <a:path w="300" h="1620">
                <a:moveTo>
                  <a:pt x="0" y="0"/>
                </a:moveTo>
                <a:lnTo>
                  <a:pt x="300" y="16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1080" y="6184800"/>
            <a:ext cx="1378080" cy="6480"/>
          </a:xfrm>
          <a:custGeom>
            <a:avLst/>
            <a:gdLst/>
            <a:ahLst/>
            <a:rect l="l" t="t" r="r" b="b"/>
            <a:pathLst>
              <a:path w="868" h="4">
                <a:moveTo>
                  <a:pt x="868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0280" y="5181480"/>
            <a:ext cx="23760" cy="1028880"/>
          </a:xfrm>
          <a:custGeom>
            <a:avLst/>
            <a:gdLst/>
            <a:ahLst/>
            <a:rect l="l" t="t" r="r" b="b"/>
            <a:pathLst>
              <a:path w="15" h="648">
                <a:moveTo>
                  <a:pt x="15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4880" y="415908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7480" y="418464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4880" y="619596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22640" y="5884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53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8840" y="4603680"/>
            <a:ext cx="19080" cy="109872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30520" y="4629240"/>
            <a:ext cx="939960" cy="102384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11440" y="5676840"/>
            <a:ext cx="92736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419400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52960" y="421956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812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13600" y="5495760"/>
            <a:ext cx="711360" cy="72900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6400" y="498492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0600" y="6197760"/>
            <a:ext cx="1841400" cy="1080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99200" y="558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21320" y="4653000"/>
            <a:ext cx="19080" cy="109836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53360" y="4678200"/>
            <a:ext cx="939600" cy="102420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34280" y="5726160"/>
            <a:ext cx="92700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84080" y="1411200"/>
            <a:ext cx="43524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88136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50760" y="2565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" y="1347840"/>
            <a:ext cx="1828800" cy="523800"/>
          </a:xfrm>
          <a:custGeom>
            <a:avLst/>
            <a:gdLst/>
            <a:ahLst/>
            <a:rect l="l" t="t" r="r" b="b"/>
            <a:pathLst>
              <a:path w="1152" h="330">
                <a:moveTo>
                  <a:pt x="1152" y="312"/>
                </a:moveTo>
                <a:lnTo>
                  <a:pt x="1149" y="33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51000" y="333360"/>
            <a:ext cx="1368360" cy="1509840"/>
          </a:xfrm>
          <a:custGeom>
            <a:avLst/>
            <a:gdLst/>
            <a:ahLst/>
            <a:rect l="l" t="t" r="r" b="b"/>
            <a:pathLst>
              <a:path w="862" h="951">
                <a:moveTo>
                  <a:pt x="0" y="0"/>
                </a:moveTo>
                <a:lnTo>
                  <a:pt x="862" y="9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4, touch in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2, touch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3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1, filled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0,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752400" y="139536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24400" y="142704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9280" y="1897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92440" y="2630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57440" y="1438200"/>
            <a:ext cx="428760" cy="1476360"/>
          </a:xfrm>
          <a:custGeom>
            <a:avLst/>
            <a:gdLst/>
            <a:ahLst/>
            <a:rect l="l" t="t" r="r" b="b"/>
            <a:pathLst>
              <a:path w="270" h="930">
                <a:moveTo>
                  <a:pt x="270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24400" y="1324080"/>
            <a:ext cx="1780920" cy="51408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95720" y="2019240"/>
            <a:ext cx="1257480" cy="924120"/>
          </a:xfrm>
          <a:custGeom>
            <a:avLst/>
            <a:gdLst/>
            <a:ahLst/>
            <a:rect l="l" t="t" r="r" b="b"/>
            <a:pathLst>
              <a:path w="792" h="582">
                <a:moveTo>
                  <a:pt x="792" y="0"/>
                </a:moveTo>
                <a:lnTo>
                  <a:pt x="0" y="5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1411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72040" y="409680"/>
            <a:ext cx="457200" cy="2533680"/>
          </a:xfrm>
          <a:custGeom>
            <a:avLst/>
            <a:gdLst/>
            <a:ahLst/>
            <a:rect l="l" t="t" r="r" b="b"/>
            <a:pathLst>
              <a:path w="288" h="1596">
                <a:moveTo>
                  <a:pt x="288" y="1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19880" y="1924200"/>
            <a:ext cx="1852560" cy="1009440"/>
          </a:xfrm>
          <a:custGeom>
            <a:avLst/>
            <a:gdLst/>
            <a:ahLst/>
            <a:rect l="l" t="t" r="r" b="b"/>
            <a:pathLst>
              <a:path w="1167" h="636">
                <a:moveTo>
                  <a:pt x="1167" y="0"/>
                </a:moveTo>
                <a:lnTo>
                  <a:pt x="0" y="63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07120" y="272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67480" y="229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72040" y="399960"/>
            <a:ext cx="2252880" cy="1552680"/>
          </a:xfrm>
          <a:custGeom>
            <a:avLst/>
            <a:gdLst/>
            <a:ahLst/>
            <a:rect l="l" t="t" r="r" b="b"/>
            <a:pathLst>
              <a:path w="1419" h="978">
                <a:moveTo>
                  <a:pt x="0" y="0"/>
                </a:moveTo>
                <a:lnTo>
                  <a:pt x="1419" y="97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67360" y="195264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7400" y="1442880"/>
            <a:ext cx="895320" cy="509760"/>
          </a:xfrm>
          <a:custGeom>
            <a:avLst/>
            <a:gdLst/>
            <a:ahLst/>
            <a:rect l="l" t="t" r="r" b="b"/>
            <a:pathLst>
              <a:path w="564" h="321">
                <a:moveTo>
                  <a:pt x="564" y="321"/>
                </a:moveTo>
                <a:lnTo>
                  <a:pt x="549" y="30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58040" y="1452600"/>
            <a:ext cx="423720" cy="961920"/>
          </a:xfrm>
          <a:custGeom>
            <a:avLst/>
            <a:gdLst/>
            <a:ahLst/>
            <a:rect l="l" t="t" r="r" b="b"/>
            <a:pathLst>
              <a:path w="267" h="606">
                <a:moveTo>
                  <a:pt x="0" y="0"/>
                </a:moveTo>
                <a:lnTo>
                  <a:pt x="267" y="6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05520" y="1928880"/>
            <a:ext cx="514440" cy="576360"/>
          </a:xfrm>
          <a:custGeom>
            <a:avLst/>
            <a:gdLst/>
            <a:ahLst/>
            <a:rect l="l" t="t" r="r" b="b"/>
            <a:pathLst>
              <a:path w="324" h="363">
                <a:moveTo>
                  <a:pt x="324" y="0"/>
                </a:moveTo>
                <a:lnTo>
                  <a:pt x="0" y="3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1424160"/>
            <a:ext cx="447840" cy="1052280"/>
          </a:xfrm>
          <a:custGeom>
            <a:avLst/>
            <a:gdLst/>
            <a:ahLst/>
            <a:rect l="l" t="t" r="r" b="b"/>
            <a:pathLst>
              <a:path w="282" h="663">
                <a:moveTo>
                  <a:pt x="282" y="66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3640" y="1386000"/>
            <a:ext cx="957240" cy="509400"/>
          </a:xfrm>
          <a:custGeom>
            <a:avLst/>
            <a:gdLst/>
            <a:ahLst/>
            <a:rect l="l" t="t" r="r" b="b"/>
            <a:pathLst>
              <a:path w="603" h="321">
                <a:moveTo>
                  <a:pt x="0" y="0"/>
                </a:moveTo>
                <a:lnTo>
                  <a:pt x="603" y="32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467676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7480" y="521028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928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22400" y="42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70080" y="4140360"/>
            <a:ext cx="846000" cy="1022040"/>
          </a:xfrm>
          <a:custGeom>
            <a:avLst/>
            <a:gdLst/>
            <a:ahLst/>
            <a:rect l="l" t="t" r="r" b="b"/>
            <a:pathLst>
              <a:path w="533" h="644">
                <a:moveTo>
                  <a:pt x="533" y="64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70080" y="3632040"/>
            <a:ext cx="1282680" cy="520920"/>
          </a:xfrm>
          <a:custGeom>
            <a:avLst/>
            <a:gdLst/>
            <a:ahLst/>
            <a:rect l="l" t="t" r="r" b="b"/>
            <a:pathLst>
              <a:path w="808" h="328">
                <a:moveTo>
                  <a:pt x="0" y="328"/>
                </a:moveTo>
                <a:lnTo>
                  <a:pt x="8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17880" y="3619440"/>
            <a:ext cx="49824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804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6864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4016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71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00720" y="4403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7920" y="517536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56080" y="4635360"/>
            <a:ext cx="876240" cy="1028880"/>
          </a:xfrm>
          <a:custGeom>
            <a:avLst/>
            <a:gdLst/>
            <a:ahLst/>
            <a:rect l="l" t="t" r="r" b="b"/>
            <a:pathLst>
              <a:path w="552" h="648">
                <a:moveTo>
                  <a:pt x="0" y="64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9560" y="4660920"/>
            <a:ext cx="407880" cy="523800"/>
          </a:xfrm>
          <a:custGeom>
            <a:avLst/>
            <a:gdLst/>
            <a:ahLst/>
            <a:rect l="l" t="t" r="r" b="b"/>
            <a:pathLst>
              <a:path w="257" h="330">
                <a:moveTo>
                  <a:pt x="0" y="0"/>
                </a:moveTo>
                <a:lnTo>
                  <a:pt x="257" y="33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60720" y="469116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61240" y="46864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32400" y="521964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6420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67480" y="495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10160" y="517212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8320" y="5181480"/>
            <a:ext cx="409680" cy="479520"/>
          </a:xfrm>
          <a:custGeom>
            <a:avLst/>
            <a:gdLst/>
            <a:ahLst/>
            <a:rect l="l" t="t" r="r" b="b"/>
            <a:pathLst>
              <a:path w="258" h="302">
                <a:moveTo>
                  <a:pt x="0" y="302"/>
                </a:moveTo>
                <a:lnTo>
                  <a:pt x="2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70600" y="5181480"/>
            <a:ext cx="862200" cy="12960"/>
          </a:xfrm>
          <a:custGeom>
            <a:avLst/>
            <a:gdLst/>
            <a:ahLst/>
            <a:rect l="l" t="t" r="r" b="b"/>
            <a:pathLst>
              <a:path w="543" h="8">
                <a:moveTo>
                  <a:pt x="0" y="8"/>
                </a:moveTo>
                <a:lnTo>
                  <a:pt x="5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52960" y="468792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5, touch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0, concave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8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9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7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6, touch L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331920" y="13906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3440" y="1924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880" y="2608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43120" y="257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49560" y="1847880"/>
            <a:ext cx="466560" cy="1022400"/>
          </a:xfrm>
          <a:custGeom>
            <a:avLst/>
            <a:gdLst/>
            <a:ahLst/>
            <a:rect l="l" t="t" r="r" b="b"/>
            <a:pathLst>
              <a:path w="294" h="644">
                <a:moveTo>
                  <a:pt x="3" y="0"/>
                </a:moveTo>
                <a:lnTo>
                  <a:pt x="0" y="18"/>
                </a:lnTo>
                <a:lnTo>
                  <a:pt x="294" y="64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01720" y="186696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32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139212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01720" y="2413080"/>
            <a:ext cx="927360" cy="495360"/>
          </a:xfrm>
          <a:custGeom>
            <a:avLst/>
            <a:gdLst/>
            <a:ahLst/>
            <a:rect l="l" t="t" r="r" b="b"/>
            <a:pathLst>
              <a:path w="584" h="312">
                <a:moveTo>
                  <a:pt x="584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54240" y="139860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5760" y="1932120"/>
            <a:ext cx="140508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57560" y="2616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84720" y="2506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71880" y="876240"/>
            <a:ext cx="474840" cy="1008000"/>
          </a:xfrm>
          <a:custGeom>
            <a:avLst/>
            <a:gdLst/>
            <a:ahLst/>
            <a:rect l="l" t="t" r="r" b="b"/>
            <a:pathLst>
              <a:path w="299" h="635">
                <a:moveTo>
                  <a:pt x="0" y="635"/>
                </a:moveTo>
                <a:lnTo>
                  <a:pt x="29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874880"/>
            <a:ext cx="449280" cy="563400"/>
          </a:xfrm>
          <a:custGeom>
            <a:avLst/>
            <a:gdLst/>
            <a:ahLst/>
            <a:rect l="l" t="t" r="r" b="b"/>
            <a:pathLst>
              <a:path w="283" h="355">
                <a:moveTo>
                  <a:pt x="0" y="355"/>
                </a:moveTo>
                <a:lnTo>
                  <a:pt x="28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6320" y="140004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4400" y="2421000"/>
            <a:ext cx="490680" cy="525240"/>
          </a:xfrm>
          <a:custGeom>
            <a:avLst/>
            <a:gdLst/>
            <a:ahLst/>
            <a:rect l="l" t="t" r="r" b="b"/>
            <a:pathLst>
              <a:path w="309" h="331">
                <a:moveTo>
                  <a:pt x="309" y="33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15080" y="914400"/>
            <a:ext cx="469800" cy="2044800"/>
          </a:xfrm>
          <a:custGeom>
            <a:avLst/>
            <a:gdLst/>
            <a:ahLst/>
            <a:rect l="l" t="t" r="r" b="b"/>
            <a:pathLst>
              <a:path w="296" h="1288">
                <a:moveTo>
                  <a:pt x="296" y="0"/>
                </a:moveTo>
                <a:lnTo>
                  <a:pt x="0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51520" y="143028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23040" y="196380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54840" y="2647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1340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769160" y="1916280"/>
            <a:ext cx="466920" cy="993600"/>
          </a:xfrm>
          <a:custGeom>
            <a:avLst/>
            <a:gdLst/>
            <a:ahLst/>
            <a:rect l="l" t="t" r="r" b="b"/>
            <a:pathLst>
              <a:path w="294" h="626">
                <a:moveTo>
                  <a:pt x="0" y="0"/>
                </a:moveTo>
                <a:lnTo>
                  <a:pt x="294" y="6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58040" y="190656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43600" y="143208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45080" y="246204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46767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040" y="52102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784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6400" y="5380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62160" y="4178160"/>
            <a:ext cx="487440" cy="984240"/>
          </a:xfrm>
          <a:custGeom>
            <a:avLst/>
            <a:gdLst/>
            <a:ahLst/>
            <a:rect l="l" t="t" r="r" b="b"/>
            <a:pathLst>
              <a:path w="307" h="620">
                <a:moveTo>
                  <a:pt x="0" y="620"/>
                </a:moveTo>
                <a:lnTo>
                  <a:pt x="30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51040" y="515304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570852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11440" y="4191120"/>
            <a:ext cx="38160" cy="2019240"/>
          </a:xfrm>
          <a:custGeom>
            <a:avLst/>
            <a:gdLst/>
            <a:ahLst/>
            <a:rect l="l" t="t" r="r" b="b"/>
            <a:pathLst>
              <a:path w="24" h="1272">
                <a:moveTo>
                  <a:pt x="24" y="0"/>
                </a:moveTo>
                <a:lnTo>
                  <a:pt x="0" y="12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21120" y="46641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92640" y="519732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0000" y="388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70400" y="5194440"/>
            <a:ext cx="1368360" cy="457200"/>
          </a:xfrm>
          <a:custGeom>
            <a:avLst/>
            <a:gdLst/>
            <a:ahLst/>
            <a:rect l="l" t="t" r="r" b="b"/>
            <a:pathLst>
              <a:path w="862" h="288">
                <a:moveTo>
                  <a:pt x="862" y="0"/>
                </a:moveTo>
                <a:lnTo>
                  <a:pt x="0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8200" y="4140360"/>
            <a:ext cx="1368720" cy="1498320"/>
          </a:xfrm>
          <a:custGeom>
            <a:avLst/>
            <a:gdLst/>
            <a:ahLst/>
            <a:rect l="l" t="t" r="r" b="b"/>
            <a:pathLst>
              <a:path w="862" h="944">
                <a:moveTo>
                  <a:pt x="0" y="944"/>
                </a:moveTo>
                <a:lnTo>
                  <a:pt x="86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49920" y="5159520"/>
            <a:ext cx="509400" cy="542880"/>
          </a:xfrm>
          <a:custGeom>
            <a:avLst/>
            <a:gdLst/>
            <a:ahLst/>
            <a:rect l="l" t="t" r="r" b="b"/>
            <a:pathLst>
              <a:path w="321" h="342">
                <a:moveTo>
                  <a:pt x="321" y="3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13200" y="466560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89520" y="4127400"/>
            <a:ext cx="469800" cy="1575000"/>
          </a:xfrm>
          <a:custGeom>
            <a:avLst/>
            <a:gdLst/>
            <a:ahLst/>
            <a:rect l="l" t="t" r="r" b="b"/>
            <a:pathLst>
              <a:path w="296" h="992">
                <a:moveTo>
                  <a:pt x="0" y="0"/>
                </a:moveTo>
                <a:lnTo>
                  <a:pt x="296" y="9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64120" y="4686480"/>
            <a:ext cx="449280" cy="1536480"/>
          </a:xfrm>
          <a:custGeom>
            <a:avLst/>
            <a:gdLst/>
            <a:ahLst/>
            <a:rect l="l" t="t" r="r" b="b"/>
            <a:pathLst>
              <a:path w="283" h="968">
                <a:moveTo>
                  <a:pt x="283" y="96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1520" y="4673520"/>
            <a:ext cx="476280" cy="520920"/>
          </a:xfrm>
          <a:custGeom>
            <a:avLst/>
            <a:gdLst/>
            <a:ahLst/>
            <a:rect l="l" t="t" r="r" b="b"/>
            <a:pathLst>
              <a:path w="300" h="328">
                <a:moveTo>
                  <a:pt x="0" y="32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6744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2764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4178160"/>
            <a:ext cx="25560" cy="1003320"/>
          </a:xfrm>
          <a:custGeom>
            <a:avLst/>
            <a:gdLst/>
            <a:ahLst/>
            <a:rect l="l" t="t" r="r" b="b"/>
            <a:pathLst>
              <a:path w="16" h="632">
                <a:moveTo>
                  <a:pt x="0" y="632"/>
                </a:moveTo>
                <a:lnTo>
                  <a:pt x="1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13400" y="5181480"/>
            <a:ext cx="457200" cy="25560"/>
          </a:xfrm>
          <a:custGeom>
            <a:avLst/>
            <a:gdLst/>
            <a:ahLst/>
            <a:rect l="l" t="t" r="r" b="b"/>
            <a:pathLst>
              <a:path w="288" h="16">
                <a:moveTo>
                  <a:pt x="0" y="16"/>
                </a:moveTo>
                <a:lnTo>
                  <a:pt x="2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56200" y="4687920"/>
            <a:ext cx="901800" cy="493560"/>
          </a:xfrm>
          <a:custGeom>
            <a:avLst/>
            <a:gdLst/>
            <a:ahLst/>
            <a:rect l="l" t="t" r="r" b="b"/>
            <a:pathLst>
              <a:path w="568" h="311">
                <a:moveTo>
                  <a:pt x="0" y="0"/>
                </a:moveTo>
                <a:lnTo>
                  <a:pt x="568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26360" y="5232240"/>
            <a:ext cx="901440" cy="457200"/>
          </a:xfrm>
          <a:custGeom>
            <a:avLst/>
            <a:gdLst/>
            <a:ahLst/>
            <a:rect l="l" t="t" r="r" b="b"/>
            <a:pathLst>
              <a:path w="568" h="288">
                <a:moveTo>
                  <a:pt x="568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27800" y="4648320"/>
            <a:ext cx="444600" cy="1054080"/>
          </a:xfrm>
          <a:custGeom>
            <a:avLst/>
            <a:gdLst/>
            <a:ahLst/>
            <a:rect l="l" t="t" r="r" b="b"/>
            <a:pathLst>
              <a:path w="280" h="664">
                <a:moveTo>
                  <a:pt x="280" y="0"/>
                </a:moveTo>
                <a:lnTo>
                  <a:pt x="0" y="6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38960" y="4711680"/>
            <a:ext cx="863640" cy="1523880"/>
          </a:xfrm>
          <a:custGeom>
            <a:avLst/>
            <a:gdLst/>
            <a:ahLst/>
            <a:rect l="l" t="t" r="r" b="b"/>
            <a:pathLst>
              <a:path w="544" h="960">
                <a:moveTo>
                  <a:pt x="54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4178160"/>
            <a:ext cx="914400" cy="508320"/>
          </a:xfrm>
          <a:custGeom>
            <a:avLst/>
            <a:gdLst/>
            <a:ahLst/>
            <a:rect l="l" t="t" r="r" b="b"/>
            <a:pathLst>
              <a:path w="576" h="320">
                <a:moveTo>
                  <a:pt x="0" y="0"/>
                </a:moveTo>
                <a:lnTo>
                  <a:pt x="57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1, touch coll^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6, int+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4, cross out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5, inside co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3, touch c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2, touch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595800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952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60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50200" y="365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4635360"/>
            <a:ext cx="393840" cy="54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54800" y="3678120"/>
            <a:ext cx="1731960" cy="1800"/>
          </a:xfrm>
          <a:custGeom>
            <a:avLst/>
            <a:gdLst/>
            <a:ahLst/>
            <a:rect l="l" t="t" r="r" b="b"/>
            <a:pathLst>
              <a:path w="1091" h="1">
                <a:moveTo>
                  <a:pt x="0" y="0"/>
                </a:moveTo>
                <a:lnTo>
                  <a:pt x="109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29560" y="3632040"/>
            <a:ext cx="49860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50080" y="4691160"/>
            <a:ext cx="182376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19880" y="3657600"/>
            <a:ext cx="1440" cy="1549440"/>
          </a:xfrm>
          <a:custGeom>
            <a:avLst/>
            <a:gdLst/>
            <a:ahLst/>
            <a:rect l="l" t="t" r="r" b="b"/>
            <a:pathLst>
              <a:path w="1" h="976">
                <a:moveTo>
                  <a:pt x="0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32480" y="5181480"/>
            <a:ext cx="444600" cy="533520"/>
          </a:xfrm>
          <a:custGeom>
            <a:avLst/>
            <a:gdLst/>
            <a:ahLst/>
            <a:rect l="l" t="t" r="r" b="b"/>
            <a:pathLst>
              <a:path w="280" h="336">
                <a:moveTo>
                  <a:pt x="280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02280" y="4660920"/>
            <a:ext cx="432000" cy="1041480"/>
          </a:xfrm>
          <a:custGeom>
            <a:avLst/>
            <a:gdLst/>
            <a:ahLst/>
            <a:rect l="l" t="t" r="r" b="b"/>
            <a:pathLst>
              <a:path w="272" h="656">
                <a:moveTo>
                  <a:pt x="27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8440" y="1305000"/>
            <a:ext cx="17640" cy="151596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196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20840" y="2373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51000" y="1893960"/>
            <a:ext cx="888840" cy="495360"/>
          </a:xfrm>
          <a:custGeom>
            <a:avLst/>
            <a:gdLst/>
            <a:ahLst/>
            <a:rect l="l" t="t" r="r" b="b"/>
            <a:pathLst>
              <a:path w="560" h="312">
                <a:moveTo>
                  <a:pt x="560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3360" y="134460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3080" y="1881360"/>
            <a:ext cx="895320" cy="103644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33400" y="1347840"/>
            <a:ext cx="419400" cy="1003320"/>
          </a:xfrm>
          <a:custGeom>
            <a:avLst/>
            <a:gdLst/>
            <a:ahLst/>
            <a:rect l="l" t="t" r="r" b="b"/>
            <a:pathLst>
              <a:path w="264" h="632">
                <a:moveTo>
                  <a:pt x="0" y="0"/>
                </a:moveTo>
                <a:lnTo>
                  <a:pt x="264" y="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51000" y="1309680"/>
            <a:ext cx="419040" cy="53352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65400" y="138096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03720" y="2674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260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40240" y="2427120"/>
            <a:ext cx="441360" cy="535320"/>
          </a:xfrm>
          <a:custGeom>
            <a:avLst/>
            <a:gdLst/>
            <a:ahLst/>
            <a:rect l="l" t="t" r="r" b="b"/>
            <a:pathLst>
              <a:path w="278" h="337">
                <a:moveTo>
                  <a:pt x="278" y="0"/>
                </a:moveTo>
                <a:lnTo>
                  <a:pt x="0" y="3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75120" y="138276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84480" y="19191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08600" y="1959120"/>
            <a:ext cx="431640" cy="990360"/>
          </a:xfrm>
          <a:custGeom>
            <a:avLst/>
            <a:gdLst/>
            <a:ahLst/>
            <a:rect l="l" t="t" r="r" b="b"/>
            <a:pathLst>
              <a:path w="272" h="624">
                <a:moveTo>
                  <a:pt x="272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19400" y="1938240"/>
            <a:ext cx="905040" cy="560520"/>
          </a:xfrm>
          <a:custGeom>
            <a:avLst/>
            <a:gdLst/>
            <a:ahLst/>
            <a:rect l="l" t="t" r="r" b="b"/>
            <a:pathLst>
              <a:path w="570" h="353">
                <a:moveTo>
                  <a:pt x="0" y="0"/>
                </a:moveTo>
                <a:lnTo>
                  <a:pt x="570" y="35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138420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03880" y="271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18520" y="1163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92920" y="1973160"/>
            <a:ext cx="473040" cy="986040"/>
          </a:xfrm>
          <a:custGeom>
            <a:avLst/>
            <a:gdLst/>
            <a:ahLst/>
            <a:rect l="l" t="t" r="r" b="b"/>
            <a:pathLst>
              <a:path w="298" h="621">
                <a:moveTo>
                  <a:pt x="298" y="62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75280" y="1424160"/>
            <a:ext cx="879480" cy="54900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85000" y="19605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53360" y="1409760"/>
            <a:ext cx="12600" cy="1485720"/>
          </a:xfrm>
          <a:custGeom>
            <a:avLst/>
            <a:gdLst/>
            <a:ahLst/>
            <a:rect l="l" t="t" r="r" b="b"/>
            <a:pathLst>
              <a:path w="8" h="936">
                <a:moveTo>
                  <a:pt x="0" y="0"/>
                </a:moveTo>
                <a:lnTo>
                  <a:pt x="8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92920" y="1389240"/>
            <a:ext cx="419040" cy="53316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4520" y="4676760"/>
            <a:ext cx="874800" cy="1533600"/>
          </a:xfrm>
          <a:custGeom>
            <a:avLst/>
            <a:gdLst/>
            <a:ahLst/>
            <a:rect l="l" t="t" r="r" b="b"/>
            <a:pathLst>
              <a:path w="551" h="966">
                <a:moveTo>
                  <a:pt x="551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31920" y="5210280"/>
            <a:ext cx="888840" cy="1000080"/>
          </a:xfrm>
          <a:custGeom>
            <a:avLst/>
            <a:gdLst/>
            <a:ahLst/>
            <a:rect l="l" t="t" r="r" b="b"/>
            <a:pathLst>
              <a:path w="560" h="630">
                <a:moveTo>
                  <a:pt x="560" y="0"/>
                </a:moveTo>
                <a:lnTo>
                  <a:pt x="0" y="6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380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63600" y="5300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62160" y="4660920"/>
            <a:ext cx="466920" cy="501480"/>
          </a:xfrm>
          <a:custGeom>
            <a:avLst/>
            <a:gdLst/>
            <a:ahLst/>
            <a:rect l="l" t="t" r="r" b="b"/>
            <a:pathLst>
              <a:path w="294" h="316">
                <a:moveTo>
                  <a:pt x="0" y="316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70080" y="5153040"/>
            <a:ext cx="888840" cy="523800"/>
          </a:xfrm>
          <a:custGeom>
            <a:avLst/>
            <a:gdLst/>
            <a:ahLst/>
            <a:rect l="l" t="t" r="r" b="b"/>
            <a:pathLst>
              <a:path w="560" h="330">
                <a:moveTo>
                  <a:pt x="0" y="330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31920" y="5676840"/>
            <a:ext cx="952560" cy="12600"/>
          </a:xfrm>
          <a:custGeom>
            <a:avLst/>
            <a:gdLst/>
            <a:ahLst/>
            <a:rect l="l" t="t" r="r" b="b"/>
            <a:pathLst>
              <a:path w="600" h="8">
                <a:moveTo>
                  <a:pt x="600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22640" y="4648320"/>
            <a:ext cx="393480" cy="1041120"/>
          </a:xfrm>
          <a:custGeom>
            <a:avLst/>
            <a:gdLst/>
            <a:ahLst/>
            <a:rect l="l" t="t" r="r" b="b"/>
            <a:pathLst>
              <a:path w="248" h="656">
                <a:moveTo>
                  <a:pt x="248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33720" y="466560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05240" y="5689440"/>
            <a:ext cx="1928880" cy="524160"/>
          </a:xfrm>
          <a:custGeom>
            <a:avLst/>
            <a:gdLst/>
            <a:ahLst/>
            <a:rect l="l" t="t" r="r" b="b"/>
            <a:pathLst>
              <a:path w="1215" h="330">
                <a:moveTo>
                  <a:pt x="1215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7040" y="5883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9960" y="4929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51360" y="5181480"/>
            <a:ext cx="25560" cy="507960"/>
          </a:xfrm>
          <a:custGeom>
            <a:avLst/>
            <a:gdLst/>
            <a:ahLst/>
            <a:rect l="l" t="t" r="r" b="b"/>
            <a:pathLst>
              <a:path w="16" h="320">
                <a:moveTo>
                  <a:pt x="0" y="0"/>
                </a:moveTo>
                <a:lnTo>
                  <a:pt x="1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30480" y="5160960"/>
            <a:ext cx="933480" cy="541440"/>
          </a:xfrm>
          <a:custGeom>
            <a:avLst/>
            <a:gdLst/>
            <a:ahLst/>
            <a:rect l="l" t="t" r="r" b="b"/>
            <a:pathLst>
              <a:path w="588" h="341">
                <a:moveTo>
                  <a:pt x="588" y="34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43440" y="5143680"/>
            <a:ext cx="946080" cy="29880"/>
          </a:xfrm>
          <a:custGeom>
            <a:avLst/>
            <a:gdLst/>
            <a:ahLst/>
            <a:rect l="l" t="t" r="r" b="b"/>
            <a:pathLst>
              <a:path w="596" h="19">
                <a:moveTo>
                  <a:pt x="0" y="19"/>
                </a:moveTo>
                <a:lnTo>
                  <a:pt x="5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25800" y="4660920"/>
            <a:ext cx="2308320" cy="6480"/>
          </a:xfrm>
          <a:custGeom>
            <a:avLst/>
            <a:gdLst/>
            <a:ahLst/>
            <a:rect l="l" t="t" r="r" b="b"/>
            <a:pathLst>
              <a:path w="1454" h="4">
                <a:moveTo>
                  <a:pt x="0" y="4"/>
                </a:moveTo>
                <a:lnTo>
                  <a:pt x="145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00680" y="4686480"/>
            <a:ext cx="407880" cy="496800"/>
          </a:xfrm>
          <a:custGeom>
            <a:avLst/>
            <a:gdLst/>
            <a:ahLst/>
            <a:rect l="l" t="t" r="r" b="b"/>
            <a:pathLst>
              <a:path w="257" h="313">
                <a:moveTo>
                  <a:pt x="257" y="0"/>
                </a:moveTo>
                <a:lnTo>
                  <a:pt x="0" y="31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86280" y="5170320"/>
            <a:ext cx="460440" cy="493920"/>
          </a:xfrm>
          <a:custGeom>
            <a:avLst/>
            <a:gdLst/>
            <a:ahLst/>
            <a:rect l="l" t="t" r="r" b="b"/>
            <a:pathLst>
              <a:path w="290" h="311">
                <a:moveTo>
                  <a:pt x="0" y="0"/>
                </a:moveTo>
                <a:lnTo>
                  <a:pt x="290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7 int.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942160" y="364500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2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,degene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0 un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036960" y="362268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1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9, b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8 int.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47760" y="1876320"/>
            <a:ext cx="914400" cy="1019160"/>
          </a:xfrm>
          <a:custGeom>
            <a:avLst/>
            <a:gdLst/>
            <a:ahLst/>
            <a:rect l="l" t="t" r="r" b="b"/>
            <a:pathLst>
              <a:path w="576" h="642">
                <a:moveTo>
                  <a:pt x="576" y="6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1948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4000" y="1569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47760" y="1876320"/>
            <a:ext cx="933480" cy="542880"/>
          </a:xfrm>
          <a:custGeom>
            <a:avLst/>
            <a:gdLst/>
            <a:ahLst/>
            <a:rect l="l" t="t" r="r" b="b"/>
            <a:pathLst>
              <a:path w="588" h="342">
                <a:moveTo>
                  <a:pt x="0" y="0"/>
                </a:moveTo>
                <a:lnTo>
                  <a:pt x="588" y="3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76560" y="343080"/>
            <a:ext cx="428400" cy="2562120"/>
          </a:xfrm>
          <a:custGeom>
            <a:avLst/>
            <a:gdLst/>
            <a:ahLst/>
            <a:rect l="l" t="t" r="r" b="b"/>
            <a:pathLst>
              <a:path w="270" h="1614">
                <a:moveTo>
                  <a:pt x="270" y="0"/>
                </a:moveTo>
                <a:lnTo>
                  <a:pt x="0" y="161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38400" y="371520"/>
            <a:ext cx="1361880" cy="1509840"/>
          </a:xfrm>
          <a:custGeom>
            <a:avLst/>
            <a:gdLst/>
            <a:ahLst/>
            <a:rect l="l" t="t" r="r" b="b"/>
            <a:pathLst>
              <a:path w="858" h="951">
                <a:moveTo>
                  <a:pt x="0" y="951"/>
                </a:moveTo>
                <a:lnTo>
                  <a:pt x="8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4280" y="1886040"/>
            <a:ext cx="1847880" cy="523800"/>
          </a:xfrm>
          <a:custGeom>
            <a:avLst/>
            <a:gdLst/>
            <a:ahLst/>
            <a:rect l="l" t="t" r="r" b="b"/>
            <a:pathLst>
              <a:path w="1164" h="330">
                <a:moveTo>
                  <a:pt x="1164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47760" y="1380960"/>
            <a:ext cx="924120" cy="514440"/>
          </a:xfrm>
          <a:custGeom>
            <a:avLst/>
            <a:gdLst/>
            <a:ahLst/>
            <a:rect l="l" t="t" r="r" b="b"/>
            <a:pathLst>
              <a:path w="582" h="324">
                <a:moveTo>
                  <a:pt x="582" y="0"/>
                </a:moveTo>
                <a:lnTo>
                  <a:pt x="0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4280" y="1352520"/>
            <a:ext cx="1866960" cy="542880"/>
          </a:xfrm>
          <a:custGeom>
            <a:avLst/>
            <a:gdLst/>
            <a:ahLst/>
            <a:rect l="l" t="t" r="r" b="b"/>
            <a:pathLst>
              <a:path w="1176" h="342">
                <a:moveTo>
                  <a:pt x="0" y="342"/>
                </a:moveTo>
                <a:lnTo>
                  <a:pt x="11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57880" y="1400040"/>
            <a:ext cx="457200" cy="1533600"/>
          </a:xfrm>
          <a:custGeom>
            <a:avLst/>
            <a:gdLst/>
            <a:ahLst/>
            <a:rect l="l" t="t" r="r" b="b"/>
            <a:pathLst>
              <a:path w="288" h="966">
                <a:moveTo>
                  <a:pt x="288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1600" y="1400040"/>
            <a:ext cx="466560" cy="524160"/>
          </a:xfrm>
          <a:custGeom>
            <a:avLst/>
            <a:gdLst/>
            <a:ahLst/>
            <a:rect l="l" t="t" r="r" b="b"/>
            <a:pathLst>
              <a:path w="294" h="330">
                <a:moveTo>
                  <a:pt x="294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90960" y="361800"/>
            <a:ext cx="936720" cy="1533600"/>
          </a:xfrm>
          <a:custGeom>
            <a:avLst/>
            <a:gdLst/>
            <a:ahLst/>
            <a:rect l="l" t="t" r="r" b="b"/>
            <a:pathLst>
              <a:path w="590" h="966">
                <a:moveTo>
                  <a:pt x="0" y="966"/>
                </a:moveTo>
                <a:lnTo>
                  <a:pt x="5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15080" y="1905120"/>
            <a:ext cx="438120" cy="1038240"/>
          </a:xfrm>
          <a:custGeom>
            <a:avLst/>
            <a:gdLst/>
            <a:ahLst/>
            <a:rect l="l" t="t" r="r" b="b"/>
            <a:pathLst>
              <a:path w="276" h="654">
                <a:moveTo>
                  <a:pt x="276" y="0"/>
                </a:moveTo>
                <a:lnTo>
                  <a:pt x="0" y="65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43480" y="2433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52840" y="1895400"/>
            <a:ext cx="1343160" cy="533520"/>
          </a:xfrm>
          <a:custGeom>
            <a:avLst/>
            <a:gdLst/>
            <a:ahLst/>
            <a:rect l="l" t="t" r="r" b="b"/>
            <a:pathLst>
              <a:path w="846" h="336">
                <a:moveTo>
                  <a:pt x="846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14680" y="885960"/>
            <a:ext cx="509760" cy="536400"/>
          </a:xfrm>
          <a:custGeom>
            <a:avLst/>
            <a:gdLst/>
            <a:ahLst/>
            <a:rect l="l" t="t" r="r" b="b"/>
            <a:pathLst>
              <a:path w="321" h="338">
                <a:moveTo>
                  <a:pt x="321" y="0"/>
                </a:moveTo>
                <a:lnTo>
                  <a:pt x="0" y="3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24400" y="876240"/>
            <a:ext cx="1409400" cy="514440"/>
          </a:xfrm>
          <a:custGeom>
            <a:avLst/>
            <a:gdLst/>
            <a:ahLst/>
            <a:rect l="l" t="t" r="r" b="b"/>
            <a:pathLst>
              <a:path w="888" h="324">
                <a:moveTo>
                  <a:pt x="0" y="324"/>
                </a:moveTo>
                <a:lnTo>
                  <a:pt x="8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56080" y="1382760"/>
            <a:ext cx="468360" cy="522360"/>
          </a:xfrm>
          <a:custGeom>
            <a:avLst/>
            <a:gdLst/>
            <a:ahLst/>
            <a:rect l="l" t="t" r="r" b="b"/>
            <a:pathLst>
              <a:path w="295" h="329">
                <a:moveTo>
                  <a:pt x="0" y="0"/>
                </a:moveTo>
                <a:lnTo>
                  <a:pt x="295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15080" y="371520"/>
            <a:ext cx="438120" cy="1533600"/>
          </a:xfrm>
          <a:custGeom>
            <a:avLst/>
            <a:gdLst/>
            <a:ahLst/>
            <a:rect l="l" t="t" r="r" b="b"/>
            <a:pathLst>
              <a:path w="276" h="966">
                <a:moveTo>
                  <a:pt x="0" y="0"/>
                </a:moveTo>
                <a:lnTo>
                  <a:pt x="276" y="96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24400" y="1390680"/>
            <a:ext cx="6120" cy="1028520"/>
          </a:xfrm>
          <a:custGeom>
            <a:avLst/>
            <a:gdLst/>
            <a:ahLst/>
            <a:rect l="l" t="t" r="r" b="b"/>
            <a:pathLst>
              <a:path w="4" h="648">
                <a:moveTo>
                  <a:pt x="0" y="648"/>
                </a:move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991120" y="91440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67360" y="914400"/>
            <a:ext cx="695520" cy="257040"/>
          </a:xfrm>
          <a:custGeom>
            <a:avLst/>
            <a:gdLst/>
            <a:ahLst/>
            <a:rect l="l" t="t" r="r" b="b"/>
            <a:pathLst>
              <a:path w="438" h="162">
                <a:moveTo>
                  <a:pt x="0" y="0"/>
                </a:moveTo>
                <a:lnTo>
                  <a:pt x="438" y="16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81960" y="1162080"/>
            <a:ext cx="247680" cy="771480"/>
          </a:xfrm>
          <a:custGeom>
            <a:avLst/>
            <a:gdLst/>
            <a:ahLst/>
            <a:rect l="l" t="t" r="r" b="b"/>
            <a:pathLst>
              <a:path w="156" h="486">
                <a:moveTo>
                  <a:pt x="0" y="0"/>
                </a:moveTo>
                <a:lnTo>
                  <a:pt x="156" y="48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82000" y="1895400"/>
            <a:ext cx="618840" cy="333360"/>
          </a:xfrm>
          <a:custGeom>
            <a:avLst/>
            <a:gdLst/>
            <a:ahLst/>
            <a:rect l="l" t="t" r="r" b="b"/>
            <a:pathLst>
              <a:path w="390" h="210">
                <a:moveTo>
                  <a:pt x="390" y="0"/>
                </a:moveTo>
                <a:lnTo>
                  <a:pt x="0" y="2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67360" y="2238480"/>
            <a:ext cx="304920" cy="723960"/>
          </a:xfrm>
          <a:custGeom>
            <a:avLst/>
            <a:gdLst/>
            <a:ahLst/>
            <a:rect l="l" t="t" r="r" b="b"/>
            <a:pathLst>
              <a:path w="192" h="456">
                <a:moveTo>
                  <a:pt x="192" y="0"/>
                </a:moveTo>
                <a:lnTo>
                  <a:pt x="0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91120" y="1943280"/>
            <a:ext cx="866880" cy="100008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56280" y="89856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932520" y="898560"/>
            <a:ext cx="230400" cy="701640"/>
          </a:xfrm>
          <a:custGeom>
            <a:avLst/>
            <a:gdLst/>
            <a:ahLst/>
            <a:rect l="l" t="t" r="r" b="b"/>
            <a:pathLst>
              <a:path w="145" h="442">
                <a:moveTo>
                  <a:pt x="0" y="0"/>
                </a:moveTo>
                <a:lnTo>
                  <a:pt x="145" y="4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82000" y="1628640"/>
            <a:ext cx="712800" cy="289080"/>
          </a:xfrm>
          <a:custGeom>
            <a:avLst/>
            <a:gdLst/>
            <a:ahLst/>
            <a:rect l="l" t="t" r="r" b="b"/>
            <a:pathLst>
              <a:path w="449" h="182">
                <a:moveTo>
                  <a:pt x="0" y="0"/>
                </a:moveTo>
                <a:lnTo>
                  <a:pt x="449" y="1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01040" y="1879560"/>
            <a:ext cx="264960" cy="816120"/>
          </a:xfrm>
          <a:custGeom>
            <a:avLst/>
            <a:gdLst/>
            <a:ahLst/>
            <a:rect l="l" t="t" r="r" b="b"/>
            <a:pathLst>
              <a:path w="167" h="514">
                <a:moveTo>
                  <a:pt x="167" y="0"/>
                </a:moveTo>
                <a:lnTo>
                  <a:pt x="0" y="5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932520" y="2685960"/>
            <a:ext cx="658800" cy="260280"/>
          </a:xfrm>
          <a:custGeom>
            <a:avLst/>
            <a:gdLst/>
            <a:ahLst/>
            <a:rect l="l" t="t" r="r" b="b"/>
            <a:pathLst>
              <a:path w="415" h="164">
                <a:moveTo>
                  <a:pt x="415" y="0"/>
                </a:moveTo>
                <a:lnTo>
                  <a:pt x="0" y="1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56280" y="1927080"/>
            <a:ext cx="866880" cy="100044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9112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68960" y="1766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2440" y="5143680"/>
            <a:ext cx="438120" cy="561960"/>
          </a:xfrm>
          <a:custGeom>
            <a:avLst/>
            <a:gdLst/>
            <a:ahLst/>
            <a:rect l="l" t="t" r="r" b="b"/>
            <a:pathLst>
              <a:path w="276" h="354">
                <a:moveTo>
                  <a:pt x="0" y="354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1800" y="5676840"/>
            <a:ext cx="866880" cy="504720"/>
          </a:xfrm>
          <a:custGeom>
            <a:avLst/>
            <a:gdLst/>
            <a:ahLst/>
            <a:rect l="l" t="t" r="r" b="b"/>
            <a:pathLst>
              <a:path w="546" h="318">
                <a:moveTo>
                  <a:pt x="546" y="31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57480" y="4657680"/>
            <a:ext cx="466560" cy="514440"/>
          </a:xfrm>
          <a:custGeom>
            <a:avLst/>
            <a:gdLst/>
            <a:ahLst/>
            <a:rect l="l" t="t" r="r" b="b"/>
            <a:pathLst>
              <a:path w="294" h="324">
                <a:moveTo>
                  <a:pt x="29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9640" y="4667400"/>
            <a:ext cx="438120" cy="495000"/>
          </a:xfrm>
          <a:custGeom>
            <a:avLst/>
            <a:gdLst/>
            <a:ahLst/>
            <a:rect l="l" t="t" r="r" b="b"/>
            <a:pathLst>
              <a:path w="276" h="312">
                <a:moveTo>
                  <a:pt x="276" y="0"/>
                </a:moveTo>
                <a:lnTo>
                  <a:pt x="0" y="31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440" y="4667400"/>
            <a:ext cx="447840" cy="485640"/>
          </a:xfrm>
          <a:custGeom>
            <a:avLst/>
            <a:gdLst/>
            <a:ahLst/>
            <a:rect l="l" t="t" r="r" b="b"/>
            <a:pathLst>
              <a:path w="282" h="306">
                <a:moveTo>
                  <a:pt x="282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1480" y="5168880"/>
            <a:ext cx="48600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38400" y="5162400"/>
            <a:ext cx="476280" cy="50508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43120" y="4657680"/>
            <a:ext cx="428760" cy="466920"/>
          </a:xfrm>
          <a:custGeom>
            <a:avLst/>
            <a:gdLst/>
            <a:ahLst/>
            <a:rect l="l" t="t" r="r" b="b"/>
            <a:pathLst>
              <a:path w="270" h="294">
                <a:moveTo>
                  <a:pt x="270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3360" y="4133880"/>
            <a:ext cx="905040" cy="523800"/>
          </a:xfrm>
          <a:custGeom>
            <a:avLst/>
            <a:gdLst/>
            <a:ahLst/>
            <a:rect l="l" t="t" r="r" b="b"/>
            <a:pathLst>
              <a:path w="570" h="330">
                <a:moveTo>
                  <a:pt x="0" y="330"/>
                </a:moveTo>
                <a:lnTo>
                  <a:pt x="57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81240" y="4667400"/>
            <a:ext cx="447840" cy="523800"/>
          </a:xfrm>
          <a:custGeom>
            <a:avLst/>
            <a:gdLst/>
            <a:ahLst/>
            <a:rect l="l" t="t" r="r" b="b"/>
            <a:pathLst>
              <a:path w="282" h="330">
                <a:moveTo>
                  <a:pt x="282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90600" y="4124160"/>
            <a:ext cx="438480" cy="1057320"/>
          </a:xfrm>
          <a:custGeom>
            <a:avLst/>
            <a:gdLst/>
            <a:ahLst/>
            <a:rect l="l" t="t" r="r" b="b"/>
            <a:pathLst>
              <a:path w="276" h="666">
                <a:moveTo>
                  <a:pt x="0" y="0"/>
                </a:moveTo>
                <a:lnTo>
                  <a:pt x="276" y="66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57480" y="4133880"/>
            <a:ext cx="933120" cy="9360"/>
          </a:xfrm>
          <a:custGeom>
            <a:avLst/>
            <a:gdLst/>
            <a:ahLst/>
            <a:rect l="l" t="t" r="r" b="b"/>
            <a:pathLst>
              <a:path w="588" h="6">
                <a:moveTo>
                  <a:pt x="0" y="6"/>
                </a:moveTo>
                <a:lnTo>
                  <a:pt x="5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05000" y="517860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38440" y="5184720"/>
            <a:ext cx="48564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81240" y="5248440"/>
            <a:ext cx="495360" cy="952200"/>
          </a:xfrm>
          <a:custGeom>
            <a:avLst/>
            <a:gdLst/>
            <a:ahLst/>
            <a:rect l="l" t="t" r="r" b="b"/>
            <a:pathLst>
              <a:path w="312" h="600">
                <a:moveTo>
                  <a:pt x="312" y="0"/>
                </a:moveTo>
                <a:lnTo>
                  <a:pt x="0" y="60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47760" y="6191280"/>
            <a:ext cx="952560" cy="1440"/>
          </a:xfrm>
          <a:custGeom>
            <a:avLst/>
            <a:gdLst/>
            <a:ahLst/>
            <a:rect l="l" t="t" r="r" b="b"/>
            <a:pathLst>
              <a:path w="600" h="1">
                <a:moveTo>
                  <a:pt x="6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6200" y="5808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3080" y="431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24400" y="417996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29080" y="4649760"/>
            <a:ext cx="93492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16240" y="565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067280" y="5445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57440" y="419112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24400" y="4076640"/>
            <a:ext cx="178092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4724280"/>
            <a:ext cx="40032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4164120"/>
            <a:ext cx="92736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27640" y="4421160"/>
            <a:ext cx="927000" cy="24624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68680" y="5191200"/>
            <a:ext cx="43668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438960" y="425304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43640" y="4722840"/>
            <a:ext cx="93528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572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981840" y="5518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372360" y="426420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38960" y="4149720"/>
            <a:ext cx="178128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867800" y="4797360"/>
            <a:ext cx="39996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07280" y="423720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42200" y="449424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83600" y="5264280"/>
            <a:ext cx="43632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07200" y="4103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217000" y="4627440"/>
            <a:ext cx="142920" cy="1429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3, keyhol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ali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8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6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7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5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4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792000" y="1619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8276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57280" y="15811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800" y="1890720"/>
            <a:ext cx="4680" cy="525600"/>
          </a:xfrm>
          <a:custGeom>
            <a:avLst/>
            <a:gdLst/>
            <a:ahLst/>
            <a:rect l="l" t="t" r="r" b="b"/>
            <a:pathLst>
              <a:path w="3" h="331">
                <a:moveTo>
                  <a:pt x="0" y="0"/>
                </a:moveTo>
                <a:lnTo>
                  <a:pt x="3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81000" y="215280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15908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81000" y="158112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7720" y="2394000"/>
            <a:ext cx="476280" cy="6480"/>
          </a:xfrm>
          <a:custGeom>
            <a:avLst/>
            <a:gdLst/>
            <a:ahLst/>
            <a:rect l="l" t="t" r="r" b="b"/>
            <a:pathLst>
              <a:path w="300" h="4">
                <a:moveTo>
                  <a:pt x="0" y="0"/>
                </a:moveTo>
                <a:lnTo>
                  <a:pt x="300" y="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24000" y="1733400"/>
            <a:ext cx="4680" cy="681120"/>
          </a:xfrm>
          <a:custGeom>
            <a:avLst/>
            <a:gdLst/>
            <a:ahLst/>
            <a:rect l="l" t="t" r="r" b="b"/>
            <a:pathLst>
              <a:path w="3" h="429">
                <a:moveTo>
                  <a:pt x="0" y="429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62120" y="1876320"/>
            <a:ext cx="809640" cy="14400"/>
          </a:xfrm>
          <a:custGeom>
            <a:avLst/>
            <a:gdLst/>
            <a:ahLst/>
            <a:rect l="l" t="t" r="r" b="b"/>
            <a:pathLst>
              <a:path w="510" h="9">
                <a:moveTo>
                  <a:pt x="510" y="0"/>
                </a:moveTo>
                <a:lnTo>
                  <a:pt x="0" y="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28680" y="1704960"/>
            <a:ext cx="490680" cy="19080"/>
          </a:xfrm>
          <a:custGeom>
            <a:avLst/>
            <a:gdLst/>
            <a:ahLst/>
            <a:rect l="l" t="t" r="r" b="b"/>
            <a:pathLst>
              <a:path w="309" h="12">
                <a:moveTo>
                  <a:pt x="0" y="12"/>
                </a:moveTo>
                <a:lnTo>
                  <a:pt x="30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90560" y="1709640"/>
            <a:ext cx="14400" cy="1190880"/>
          </a:xfrm>
          <a:custGeom>
            <a:avLst/>
            <a:gdLst/>
            <a:ahLst/>
            <a:rect l="l" t="t" r="r" b="b"/>
            <a:pathLst>
              <a:path w="9" h="750">
                <a:moveTo>
                  <a:pt x="9" y="0"/>
                </a:moveTo>
                <a:lnTo>
                  <a:pt x="0" y="7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29098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9600" y="136692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13622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76440" y="1352520"/>
            <a:ext cx="123840" cy="528840"/>
          </a:xfrm>
          <a:custGeom>
            <a:avLst/>
            <a:gdLst/>
            <a:ahLst/>
            <a:rect l="l" t="t" r="r" b="b"/>
            <a:pathLst>
              <a:path w="78" h="333">
                <a:moveTo>
                  <a:pt x="78" y="0"/>
                </a:moveTo>
                <a:lnTo>
                  <a:pt x="0" y="33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22640" y="2668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48000" y="2390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18828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19360" y="242568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29080" y="19065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88280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81240" y="215280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71880" y="1905120"/>
            <a:ext cx="1386000" cy="24264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43480" y="2414520"/>
            <a:ext cx="3240" cy="52560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60720" y="29494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65400" y="1406520"/>
            <a:ext cx="972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60720" y="14018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48160" y="1392120"/>
            <a:ext cx="7920" cy="51300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7840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24672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94360" y="19033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418440" y="2446200"/>
            <a:ext cx="475920" cy="180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27800" y="1927080"/>
            <a:ext cx="46656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18440" y="1903320"/>
            <a:ext cx="1872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79960" y="217332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970600" y="1925640"/>
            <a:ext cx="138600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42200" y="243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91280" y="2970360"/>
            <a:ext cx="114948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18280" y="1427040"/>
            <a:ext cx="936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19720" y="1422360"/>
            <a:ext cx="112104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346880" y="141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20840" y="5937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00000" y="56595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47640" y="51516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71720" y="5694480"/>
            <a:ext cx="47592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81080" y="51753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71720" y="5151600"/>
            <a:ext cx="1872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79440" y="542124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70080" y="517356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41680" y="568332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58920" y="62182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63600" y="4675320"/>
            <a:ext cx="972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58920" y="4670280"/>
            <a:ext cx="1380960" cy="1440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46360" y="466092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86160" y="592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78200" y="5651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25840" y="514368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49560" y="568656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59280" y="51674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49560" y="5143680"/>
            <a:ext cx="1908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87720" y="541332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78360" y="516564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49960" y="567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99040" y="6210360"/>
            <a:ext cx="114912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26040" y="466740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27480" y="4662360"/>
            <a:ext cx="112068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54640" y="465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5:23:29Z</dcterms:modified>
  <cp:revision>188</cp:revision>
  <dc:subject/>
  <dc:title>Slide 1</dc:title>
</cp:coreProperties>
</file>